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9F7-6373-4336-AF20-5E3AD603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597-B388-4929-80CB-9DA5EC16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AF2-1113-41F8-AD1B-830E1DCF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868-A8CE-4F14-B42E-81856266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D61-91CB-4CEE-B670-39A9B27B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04B-2496-4055-8D41-09B0864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4E3-14D3-41BD-A833-11EE48B0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1E7-BEB2-4BAC-8F88-0E4950E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0D6-2F11-4504-8137-F97D1C7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773-35F7-41F1-9E22-1DF5E43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FF9-E2EE-4952-9114-82FC684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9F0-A107-45C8-9C2E-9AE76B3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30C-4A34-47F6-86B8-5770728A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2 November 21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% of 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% of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3760" y="2482920"/>
            <a:ext cx="1608120" cy="2411280"/>
          </a:xfrm>
          <a:custGeom>
            <a:avLst/>
            <a:gdLst/>
            <a:ahLst/>
            <a:rect l="l" t="t" r="r" b="b"/>
            <a:pathLst>
              <a:path w="4466" h="6698">
                <a:moveTo>
                  <a:pt x="11038" y="6995"/>
                </a:moveTo>
                <a:cubicBezTo>
                  <a:pt x="11141" y="7078"/>
                  <a:pt x="11217" y="7177"/>
                  <a:pt x="11286" y="7293"/>
                </a:cubicBezTo>
              </a:path>
              <a:path w="4466" h="6698">
                <a:moveTo>
                  <a:pt x="11261" y="6896"/>
                </a:moveTo>
                <a:cubicBezTo>
                  <a:pt x="11225" y="7027"/>
                  <a:pt x="11112" y="7169"/>
                  <a:pt x="11112" y="7317"/>
                </a:cubicBezTo>
                <a:cubicBezTo>
                  <a:pt x="11120" y="7317"/>
                  <a:pt x="11129" y="7317"/>
                  <a:pt x="11137" y="7317"/>
                </a:cubicBezTo>
              </a:path>
              <a:path w="4466" h="6698">
                <a:moveTo>
                  <a:pt x="15032" y="9649"/>
                </a:moveTo>
                <a:cubicBezTo>
                  <a:pt x="14940" y="9798"/>
                  <a:pt x="14853" y="9937"/>
                  <a:pt x="14784" y="10096"/>
                </a:cubicBezTo>
              </a:path>
              <a:path w="4466" h="6698">
                <a:moveTo>
                  <a:pt x="10740" y="13072"/>
                </a:moveTo>
                <a:cubicBezTo>
                  <a:pt x="10674" y="13239"/>
                  <a:pt x="10648" y="13432"/>
                  <a:pt x="10567" y="13593"/>
                </a:cubicBezTo>
                <a:cubicBezTo>
                  <a:pt x="10567" y="13585"/>
                  <a:pt x="10567" y="13576"/>
                  <a:pt x="10567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83040" y="2062080"/>
            <a:ext cx="677880" cy="1260720"/>
          </a:xfrm>
          <a:custGeom>
            <a:avLst/>
            <a:gdLst/>
            <a:ahLst/>
            <a:rect l="l" t="t" r="r" b="b"/>
            <a:pathLst>
              <a:path w="1886" h="3498">
                <a:moveTo>
                  <a:pt x="11733" y="6449"/>
                </a:moveTo>
                <a:cubicBezTo>
                  <a:pt x="11745" y="6428"/>
                  <a:pt x="11949" y="6094"/>
                  <a:pt x="11956" y="6276"/>
                </a:cubicBezTo>
                <a:cubicBezTo>
                  <a:pt x="11928" y="6389"/>
                  <a:pt x="11912" y="6434"/>
                  <a:pt x="11857" y="6499"/>
                </a:cubicBezTo>
                <a:cubicBezTo>
                  <a:pt x="11849" y="6507"/>
                  <a:pt x="11840" y="6516"/>
                  <a:pt x="11832" y="6524"/>
                </a:cubicBezTo>
                <a:cubicBezTo>
                  <a:pt x="11880" y="6459"/>
                  <a:pt x="12062" y="6444"/>
                  <a:pt x="12030" y="6598"/>
                </a:cubicBezTo>
                <a:cubicBezTo>
                  <a:pt x="11998" y="6753"/>
                  <a:pt x="11796" y="6856"/>
                  <a:pt x="11658" y="6772"/>
                </a:cubicBezTo>
                <a:cubicBezTo>
                  <a:pt x="11658" y="6764"/>
                  <a:pt x="11658" y="6755"/>
                  <a:pt x="11658" y="6747"/>
                </a:cubicBezTo>
              </a:path>
              <a:path w="1886" h="3498">
                <a:moveTo>
                  <a:pt x="12502" y="6276"/>
                </a:moveTo>
                <a:cubicBezTo>
                  <a:pt x="12400" y="6134"/>
                  <a:pt x="12277" y="6229"/>
                  <a:pt x="12179" y="6350"/>
                </a:cubicBezTo>
                <a:cubicBezTo>
                  <a:pt x="12171" y="6375"/>
                  <a:pt x="12162" y="6399"/>
                  <a:pt x="12154" y="6424"/>
                </a:cubicBezTo>
                <a:cubicBezTo>
                  <a:pt x="12310" y="6469"/>
                  <a:pt x="12435" y="6413"/>
                  <a:pt x="12502" y="6226"/>
                </a:cubicBezTo>
                <a:cubicBezTo>
                  <a:pt x="12477" y="6226"/>
                  <a:pt x="12469" y="6226"/>
                  <a:pt x="12477" y="6251"/>
                </a:cubicBezTo>
                <a:cubicBezTo>
                  <a:pt x="12490" y="6408"/>
                  <a:pt x="12522" y="6586"/>
                  <a:pt x="12427" y="6697"/>
                </a:cubicBezTo>
              </a:path>
              <a:path w="1886" h="3498">
                <a:moveTo>
                  <a:pt x="11584" y="7367"/>
                </a:moveTo>
                <a:cubicBezTo>
                  <a:pt x="11563" y="7420"/>
                  <a:pt x="11583" y="7469"/>
                  <a:pt x="11609" y="7392"/>
                </a:cubicBezTo>
                <a:cubicBezTo>
                  <a:pt x="11609" y="7384"/>
                  <a:pt x="11609" y="7375"/>
                  <a:pt x="11609" y="7367"/>
                </a:cubicBezTo>
              </a:path>
              <a:path w="1886" h="3498">
                <a:moveTo>
                  <a:pt x="11857" y="7069"/>
                </a:moveTo>
                <a:cubicBezTo>
                  <a:pt x="11893" y="7051"/>
                  <a:pt x="11940" y="7003"/>
                  <a:pt x="11981" y="6970"/>
                </a:cubicBezTo>
                <a:cubicBezTo>
                  <a:pt x="12120" y="7079"/>
                  <a:pt x="12037" y="7216"/>
                  <a:pt x="11906" y="7342"/>
                </a:cubicBezTo>
                <a:cubicBezTo>
                  <a:pt x="11890" y="7350"/>
                  <a:pt x="11873" y="7359"/>
                  <a:pt x="11857" y="7367"/>
                </a:cubicBezTo>
                <a:cubicBezTo>
                  <a:pt x="11824" y="7308"/>
                  <a:pt x="11799" y="7169"/>
                  <a:pt x="11956" y="7218"/>
                </a:cubicBezTo>
                <a:cubicBezTo>
                  <a:pt x="11996" y="7230"/>
                  <a:pt x="12030" y="7310"/>
                  <a:pt x="12055" y="7342"/>
                </a:cubicBezTo>
              </a:path>
              <a:path w="1886" h="3498">
                <a:moveTo>
                  <a:pt x="12502" y="6970"/>
                </a:moveTo>
                <a:cubicBezTo>
                  <a:pt x="12384" y="6970"/>
                  <a:pt x="12345" y="6958"/>
                  <a:pt x="12303" y="7094"/>
                </a:cubicBezTo>
                <a:cubicBezTo>
                  <a:pt x="12303" y="7111"/>
                  <a:pt x="12303" y="7127"/>
                  <a:pt x="12303" y="7144"/>
                </a:cubicBezTo>
                <a:cubicBezTo>
                  <a:pt x="12403" y="7124"/>
                  <a:pt x="12448" y="7086"/>
                  <a:pt x="12551" y="7094"/>
                </a:cubicBezTo>
                <a:cubicBezTo>
                  <a:pt x="12596" y="7229"/>
                  <a:pt x="12544" y="7345"/>
                  <a:pt x="12378" y="7367"/>
                </a:cubicBezTo>
                <a:cubicBezTo>
                  <a:pt x="12300" y="7348"/>
                  <a:pt x="12283" y="7356"/>
                  <a:pt x="12254" y="7317"/>
                </a:cubicBezTo>
              </a:path>
              <a:path w="1886" h="3498">
                <a:moveTo>
                  <a:pt x="11237" y="7541"/>
                </a:moveTo>
                <a:cubicBezTo>
                  <a:pt x="11643" y="7477"/>
                  <a:pt x="12044" y="7455"/>
                  <a:pt x="12452" y="7417"/>
                </a:cubicBezTo>
                <a:cubicBezTo>
                  <a:pt x="12554" y="7407"/>
                  <a:pt x="12613" y="7392"/>
                  <a:pt x="12700" y="7392"/>
                </a:cubicBezTo>
              </a:path>
              <a:path w="1886" h="3498">
                <a:moveTo>
                  <a:pt x="12576" y="7541"/>
                </a:moveTo>
                <a:cubicBezTo>
                  <a:pt x="12529" y="7523"/>
                  <a:pt x="12465" y="7487"/>
                  <a:pt x="12427" y="7541"/>
                </a:cubicBezTo>
                <a:cubicBezTo>
                  <a:pt x="12402" y="7590"/>
                  <a:pt x="12394" y="7607"/>
                  <a:pt x="12378" y="7640"/>
                </a:cubicBezTo>
                <a:cubicBezTo>
                  <a:pt x="12455" y="7646"/>
                  <a:pt x="12625" y="7630"/>
                  <a:pt x="12576" y="7764"/>
                </a:cubicBezTo>
                <a:cubicBezTo>
                  <a:pt x="12486" y="8012"/>
                  <a:pt x="12301" y="7811"/>
                  <a:pt x="12204" y="7714"/>
                </a:cubicBezTo>
              </a:path>
              <a:path w="1886" h="3498">
                <a:moveTo>
                  <a:pt x="11658" y="5829"/>
                </a:moveTo>
                <a:cubicBezTo>
                  <a:pt x="11649" y="5866"/>
                  <a:pt x="11630" y="5891"/>
                  <a:pt x="11609" y="5928"/>
                </a:cubicBezTo>
                <a:cubicBezTo>
                  <a:pt x="11670" y="5947"/>
                  <a:pt x="11714" y="5953"/>
                  <a:pt x="11782" y="5953"/>
                </a:cubicBezTo>
              </a:path>
              <a:path w="1886" h="3498">
                <a:moveTo>
                  <a:pt x="11807" y="5779"/>
                </a:moveTo>
                <a:cubicBezTo>
                  <a:pt x="11768" y="5877"/>
                  <a:pt x="11747" y="5979"/>
                  <a:pt x="11708" y="6077"/>
                </a:cubicBezTo>
              </a:path>
              <a:path w="1886" h="3498">
                <a:moveTo>
                  <a:pt x="11509" y="7640"/>
                </a:moveTo>
                <a:cubicBezTo>
                  <a:pt x="11468" y="7739"/>
                  <a:pt x="11447" y="7854"/>
                  <a:pt x="11435" y="7962"/>
                </a:cubicBezTo>
                <a:cubicBezTo>
                  <a:pt x="11435" y="7987"/>
                  <a:pt x="11435" y="8012"/>
                  <a:pt x="11435" y="8037"/>
                </a:cubicBezTo>
              </a:path>
              <a:path w="1886" h="3498">
                <a:moveTo>
                  <a:pt x="11906" y="7714"/>
                </a:moveTo>
                <a:cubicBezTo>
                  <a:pt x="11868" y="7638"/>
                  <a:pt x="11825" y="7664"/>
                  <a:pt x="11757" y="7714"/>
                </a:cubicBezTo>
                <a:cubicBezTo>
                  <a:pt x="11749" y="7722"/>
                  <a:pt x="11741" y="7731"/>
                  <a:pt x="11733" y="7739"/>
                </a:cubicBezTo>
                <a:cubicBezTo>
                  <a:pt x="11759" y="7820"/>
                  <a:pt x="11857" y="7741"/>
                  <a:pt x="11906" y="7714"/>
                </a:cubicBezTo>
                <a:cubicBezTo>
                  <a:pt x="11923" y="7706"/>
                  <a:pt x="11939" y="7697"/>
                  <a:pt x="11956" y="7689"/>
                </a:cubicBezTo>
                <a:cubicBezTo>
                  <a:pt x="11956" y="7620"/>
                  <a:pt x="11926" y="7772"/>
                  <a:pt x="11906" y="7838"/>
                </a:cubicBezTo>
                <a:cubicBezTo>
                  <a:pt x="11887" y="7896"/>
                  <a:pt x="11878" y="7903"/>
                  <a:pt x="11881" y="7938"/>
                </a:cubicBezTo>
              </a:path>
              <a:path w="1886" h="3498">
                <a:moveTo>
                  <a:pt x="12526" y="8062"/>
                </a:moveTo>
                <a:cubicBezTo>
                  <a:pt x="12476" y="7985"/>
                  <a:pt x="12398" y="8091"/>
                  <a:pt x="12378" y="8161"/>
                </a:cubicBezTo>
                <a:cubicBezTo>
                  <a:pt x="12378" y="8186"/>
                  <a:pt x="12378" y="8210"/>
                  <a:pt x="12378" y="8235"/>
                </a:cubicBezTo>
                <a:cubicBezTo>
                  <a:pt x="12446" y="8226"/>
                  <a:pt x="12645" y="8206"/>
                  <a:pt x="12551" y="8086"/>
                </a:cubicBezTo>
                <a:cubicBezTo>
                  <a:pt x="12496" y="8059"/>
                  <a:pt x="12473" y="8051"/>
                  <a:pt x="12427" y="8062"/>
                </a:cubicBezTo>
              </a:path>
              <a:path w="1886" h="3498">
                <a:moveTo>
                  <a:pt x="11906" y="8086"/>
                </a:moveTo>
                <a:cubicBezTo>
                  <a:pt x="11845" y="8095"/>
                  <a:pt x="11850" y="8093"/>
                  <a:pt x="11807" y="8136"/>
                </a:cubicBezTo>
                <a:cubicBezTo>
                  <a:pt x="11913" y="8151"/>
                  <a:pt x="12031" y="8155"/>
                  <a:pt x="11981" y="8285"/>
                </a:cubicBezTo>
                <a:cubicBezTo>
                  <a:pt x="11937" y="8350"/>
                  <a:pt x="11931" y="8369"/>
                  <a:pt x="11881" y="8384"/>
                </a:cubicBezTo>
                <a:cubicBezTo>
                  <a:pt x="11869" y="8306"/>
                  <a:pt x="11945" y="8247"/>
                  <a:pt x="11981" y="8161"/>
                </a:cubicBezTo>
                <a:cubicBezTo>
                  <a:pt x="11981" y="8153"/>
                  <a:pt x="11981" y="8144"/>
                  <a:pt x="11981" y="8136"/>
                </a:cubicBezTo>
              </a:path>
              <a:path w="1886" h="3498">
                <a:moveTo>
                  <a:pt x="11733" y="5779"/>
                </a:moveTo>
                <a:cubicBezTo>
                  <a:pt x="11693" y="5727"/>
                  <a:pt x="11702" y="5721"/>
                  <a:pt x="11683" y="5829"/>
                </a:cubicBezTo>
                <a:cubicBezTo>
                  <a:pt x="11662" y="5974"/>
                  <a:pt x="11670" y="6008"/>
                  <a:pt x="11609" y="6077"/>
                </a:cubicBezTo>
                <a:cubicBezTo>
                  <a:pt x="11609" y="6161"/>
                  <a:pt x="11682" y="5807"/>
                  <a:pt x="11683" y="5804"/>
                </a:cubicBezTo>
                <a:cubicBezTo>
                  <a:pt x="11701" y="5746"/>
                  <a:pt x="11697" y="5820"/>
                  <a:pt x="11683" y="5879"/>
                </a:cubicBezTo>
              </a:path>
              <a:path w="1886" h="3498">
                <a:moveTo>
                  <a:pt x="11311" y="8161"/>
                </a:moveTo>
                <a:cubicBezTo>
                  <a:pt x="11331" y="8131"/>
                  <a:pt x="11451" y="8097"/>
                  <a:pt x="11509" y="8086"/>
                </a:cubicBezTo>
                <a:cubicBezTo>
                  <a:pt x="11526" y="8086"/>
                  <a:pt x="11542" y="8086"/>
                  <a:pt x="11559" y="8086"/>
                </a:cubicBezTo>
                <a:cubicBezTo>
                  <a:pt x="11542" y="8154"/>
                  <a:pt x="11488" y="8217"/>
                  <a:pt x="11460" y="8285"/>
                </a:cubicBezTo>
                <a:cubicBezTo>
                  <a:pt x="11460" y="8310"/>
                  <a:pt x="11460" y="8318"/>
                  <a:pt x="11460" y="8334"/>
                </a:cubicBezTo>
              </a:path>
              <a:path w="1886" h="3498">
                <a:moveTo>
                  <a:pt x="11063" y="8533"/>
                </a:moveTo>
                <a:cubicBezTo>
                  <a:pt x="11271" y="8507"/>
                  <a:pt x="11471" y="8508"/>
                  <a:pt x="11683" y="8508"/>
                </a:cubicBezTo>
                <a:cubicBezTo>
                  <a:pt x="11981" y="8508"/>
                  <a:pt x="12278" y="8508"/>
                  <a:pt x="12576" y="8508"/>
                </a:cubicBezTo>
              </a:path>
              <a:path w="1886" h="3498">
                <a:moveTo>
                  <a:pt x="12601" y="8632"/>
                </a:moveTo>
                <a:cubicBezTo>
                  <a:pt x="12543" y="8632"/>
                  <a:pt x="12440" y="8606"/>
                  <a:pt x="12402" y="8657"/>
                </a:cubicBezTo>
                <a:cubicBezTo>
                  <a:pt x="12386" y="8679"/>
                  <a:pt x="12360" y="8728"/>
                  <a:pt x="12353" y="8756"/>
                </a:cubicBezTo>
                <a:cubicBezTo>
                  <a:pt x="12443" y="8756"/>
                  <a:pt x="12518" y="8739"/>
                  <a:pt x="12601" y="8756"/>
                </a:cubicBezTo>
                <a:cubicBezTo>
                  <a:pt x="12586" y="8890"/>
                  <a:pt x="12541" y="8911"/>
                  <a:pt x="12402" y="8930"/>
                </a:cubicBezTo>
                <a:cubicBezTo>
                  <a:pt x="12334" y="8930"/>
                  <a:pt x="12315" y="8933"/>
                  <a:pt x="12278" y="8905"/>
                </a:cubicBezTo>
              </a:path>
              <a:path w="1886" h="3498">
                <a:moveTo>
                  <a:pt x="11832" y="8682"/>
                </a:moveTo>
                <a:cubicBezTo>
                  <a:pt x="11869" y="8645"/>
                  <a:pt x="11957" y="8657"/>
                  <a:pt x="12030" y="8657"/>
                </a:cubicBezTo>
                <a:cubicBezTo>
                  <a:pt x="12038" y="8657"/>
                  <a:pt x="12047" y="8657"/>
                  <a:pt x="12055" y="8657"/>
                </a:cubicBezTo>
                <a:cubicBezTo>
                  <a:pt x="12039" y="8767"/>
                  <a:pt x="11985" y="8849"/>
                  <a:pt x="11956" y="8954"/>
                </a:cubicBezTo>
                <a:cubicBezTo>
                  <a:pt x="11956" y="8962"/>
                  <a:pt x="11956" y="8971"/>
                  <a:pt x="11956" y="8979"/>
                </a:cubicBezTo>
              </a:path>
              <a:path w="1886" h="3498">
                <a:moveTo>
                  <a:pt x="11311" y="7367"/>
                </a:moveTo>
                <a:cubicBezTo>
                  <a:pt x="11236" y="7392"/>
                  <a:pt x="11277" y="7549"/>
                  <a:pt x="11261" y="7615"/>
                </a:cubicBezTo>
                <a:cubicBezTo>
                  <a:pt x="11239" y="7637"/>
                  <a:pt x="11228" y="7646"/>
                  <a:pt x="11261" y="7640"/>
                </a:cubicBezTo>
              </a:path>
              <a:path w="1886" h="3498">
                <a:moveTo>
                  <a:pt x="11485" y="8855"/>
                </a:moveTo>
                <a:cubicBezTo>
                  <a:pt x="11485" y="8806"/>
                  <a:pt x="11534" y="8743"/>
                  <a:pt x="11485" y="8706"/>
                </a:cubicBezTo>
                <a:cubicBezTo>
                  <a:pt x="11370" y="8619"/>
                  <a:pt x="11325" y="8755"/>
                  <a:pt x="11311" y="8830"/>
                </a:cubicBezTo>
                <a:cubicBezTo>
                  <a:pt x="11402" y="8815"/>
                  <a:pt x="11443" y="8799"/>
                  <a:pt x="11509" y="8731"/>
                </a:cubicBezTo>
                <a:cubicBezTo>
                  <a:pt x="11473" y="8843"/>
                  <a:pt x="11441" y="8965"/>
                  <a:pt x="11410" y="9079"/>
                </a:cubicBezTo>
                <a:cubicBezTo>
                  <a:pt x="11410" y="9087"/>
                  <a:pt x="11410" y="9095"/>
                  <a:pt x="11410" y="9103"/>
                </a:cubicBezTo>
              </a:path>
              <a:path w="1886" h="3498">
                <a:moveTo>
                  <a:pt x="11609" y="9079"/>
                </a:moveTo>
                <a:cubicBezTo>
                  <a:pt x="11648" y="9079"/>
                  <a:pt x="11582" y="9124"/>
                  <a:pt x="11633" y="9079"/>
                </a:cubicBezTo>
                <a:cubicBezTo>
                  <a:pt x="11656" y="9056"/>
                  <a:pt x="11667" y="9048"/>
                  <a:pt x="11633" y="9054"/>
                </a:cubicBezTo>
              </a:path>
              <a:path w="1886" h="3498">
                <a:moveTo>
                  <a:pt x="11137" y="9153"/>
                </a:moveTo>
                <a:cubicBezTo>
                  <a:pt x="11232" y="9188"/>
                  <a:pt x="11350" y="9220"/>
                  <a:pt x="11460" y="9227"/>
                </a:cubicBezTo>
                <a:cubicBezTo>
                  <a:pt x="11781" y="9247"/>
                  <a:pt x="12160" y="9263"/>
                  <a:pt x="12477" y="9203"/>
                </a:cubicBezTo>
                <a:cubicBezTo>
                  <a:pt x="12626" y="9175"/>
                  <a:pt x="12843" y="9118"/>
                  <a:pt x="12923" y="8979"/>
                </a:cubicBezTo>
                <a:cubicBezTo>
                  <a:pt x="12981" y="8879"/>
                  <a:pt x="12946" y="8815"/>
                  <a:pt x="12898" y="8731"/>
                </a:cubicBezTo>
                <a:cubicBezTo>
                  <a:pt x="12819" y="8592"/>
                  <a:pt x="12672" y="8544"/>
                  <a:pt x="12526" y="8508"/>
                </a:cubicBezTo>
                <a:cubicBezTo>
                  <a:pt x="12333" y="8461"/>
                  <a:pt x="12104" y="8468"/>
                  <a:pt x="11906" y="8458"/>
                </a:cubicBezTo>
                <a:cubicBezTo>
                  <a:pt x="11693" y="8447"/>
                  <a:pt x="11468" y="8451"/>
                  <a:pt x="11286" y="8582"/>
                </a:cubicBezTo>
                <a:cubicBezTo>
                  <a:pt x="11025" y="8770"/>
                  <a:pt x="11150" y="8939"/>
                  <a:pt x="11336" y="90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9240" y="3000240"/>
            <a:ext cx="876600" cy="1305000"/>
          </a:xfrm>
          <a:custGeom>
            <a:avLst/>
            <a:gdLst/>
            <a:ahLst/>
            <a:rect l="l" t="t" r="r" b="b"/>
            <a:pathLst>
              <a:path w="2432" h="3623">
                <a:moveTo>
                  <a:pt x="15577" y="9004"/>
                </a:moveTo>
                <a:cubicBezTo>
                  <a:pt x="15648" y="8945"/>
                  <a:pt x="15688" y="8934"/>
                  <a:pt x="15776" y="8905"/>
                </a:cubicBezTo>
                <a:cubicBezTo>
                  <a:pt x="15825" y="9092"/>
                  <a:pt x="15723" y="9353"/>
                  <a:pt x="15478" y="9401"/>
                </a:cubicBezTo>
                <a:cubicBezTo>
                  <a:pt x="15445" y="9384"/>
                  <a:pt x="15412" y="9368"/>
                  <a:pt x="15379" y="9351"/>
                </a:cubicBezTo>
                <a:cubicBezTo>
                  <a:pt x="15455" y="9200"/>
                  <a:pt x="15579" y="9136"/>
                  <a:pt x="15726" y="9302"/>
                </a:cubicBezTo>
                <a:cubicBezTo>
                  <a:pt x="15749" y="9328"/>
                  <a:pt x="15751" y="9501"/>
                  <a:pt x="15751" y="9376"/>
                </a:cubicBezTo>
              </a:path>
              <a:path w="2432" h="3623">
                <a:moveTo>
                  <a:pt x="16396" y="8880"/>
                </a:moveTo>
                <a:cubicBezTo>
                  <a:pt x="16318" y="8885"/>
                  <a:pt x="16195" y="8872"/>
                  <a:pt x="16148" y="8954"/>
                </a:cubicBezTo>
                <a:cubicBezTo>
                  <a:pt x="16129" y="9012"/>
                  <a:pt x="16138" y="9037"/>
                  <a:pt x="16098" y="9029"/>
                </a:cubicBezTo>
                <a:cubicBezTo>
                  <a:pt x="16165" y="9040"/>
                  <a:pt x="16346" y="9052"/>
                  <a:pt x="16346" y="9153"/>
                </a:cubicBezTo>
                <a:cubicBezTo>
                  <a:pt x="16346" y="9336"/>
                  <a:pt x="16011" y="9408"/>
                  <a:pt x="15925" y="9252"/>
                </a:cubicBezTo>
                <a:cubicBezTo>
                  <a:pt x="15933" y="9227"/>
                  <a:pt x="15941" y="9203"/>
                  <a:pt x="15949" y="9178"/>
                </a:cubicBezTo>
              </a:path>
              <a:path w="2432" h="3623">
                <a:moveTo>
                  <a:pt x="16694" y="8880"/>
                </a:moveTo>
                <a:cubicBezTo>
                  <a:pt x="16617" y="9000"/>
                  <a:pt x="16563" y="9083"/>
                  <a:pt x="16545" y="9227"/>
                </a:cubicBezTo>
                <a:cubicBezTo>
                  <a:pt x="16632" y="9201"/>
                  <a:pt x="17016" y="9046"/>
                  <a:pt x="16768" y="8905"/>
                </a:cubicBezTo>
                <a:cubicBezTo>
                  <a:pt x="16718" y="8897"/>
                  <a:pt x="16669" y="8888"/>
                  <a:pt x="16619" y="8880"/>
                </a:cubicBezTo>
              </a:path>
              <a:path w="2432" h="3623">
                <a:moveTo>
                  <a:pt x="14784" y="9674"/>
                </a:moveTo>
                <a:cubicBezTo>
                  <a:pt x="14853" y="9761"/>
                  <a:pt x="14923" y="9996"/>
                  <a:pt x="15007" y="10046"/>
                </a:cubicBezTo>
                <a:cubicBezTo>
                  <a:pt x="15007" y="10038"/>
                  <a:pt x="15007" y="10029"/>
                  <a:pt x="15007" y="10021"/>
                </a:cubicBezTo>
              </a:path>
              <a:path w="2432" h="3623">
                <a:moveTo>
                  <a:pt x="15553" y="9996"/>
                </a:moveTo>
                <a:cubicBezTo>
                  <a:pt x="15553" y="10045"/>
                  <a:pt x="15528" y="10106"/>
                  <a:pt x="15577" y="10021"/>
                </a:cubicBezTo>
              </a:path>
              <a:path w="2432" h="3623">
                <a:moveTo>
                  <a:pt x="16098" y="9723"/>
                </a:moveTo>
                <a:cubicBezTo>
                  <a:pt x="15972" y="9786"/>
                  <a:pt x="15900" y="9885"/>
                  <a:pt x="15900" y="10021"/>
                </a:cubicBezTo>
                <a:cubicBezTo>
                  <a:pt x="16010" y="9982"/>
                  <a:pt x="16252" y="9918"/>
                  <a:pt x="16148" y="9748"/>
                </a:cubicBezTo>
                <a:cubicBezTo>
                  <a:pt x="16131" y="9740"/>
                  <a:pt x="16115" y="9731"/>
                  <a:pt x="16098" y="9723"/>
                </a:cubicBezTo>
              </a:path>
              <a:path w="2432" h="3623">
                <a:moveTo>
                  <a:pt x="16520" y="9599"/>
                </a:moveTo>
                <a:cubicBezTo>
                  <a:pt x="16364" y="9691"/>
                  <a:pt x="16428" y="9688"/>
                  <a:pt x="16520" y="9823"/>
                </a:cubicBezTo>
                <a:cubicBezTo>
                  <a:pt x="16528" y="9839"/>
                  <a:pt x="16537" y="9856"/>
                  <a:pt x="16545" y="9872"/>
                </a:cubicBezTo>
                <a:cubicBezTo>
                  <a:pt x="16464" y="9913"/>
                  <a:pt x="16451" y="9930"/>
                  <a:pt x="16396" y="9922"/>
                </a:cubicBezTo>
                <a:cubicBezTo>
                  <a:pt x="16444" y="9833"/>
                  <a:pt x="16545" y="9669"/>
                  <a:pt x="16545" y="9624"/>
                </a:cubicBezTo>
              </a:path>
              <a:path w="2432" h="3623">
                <a:moveTo>
                  <a:pt x="15007" y="10319"/>
                </a:moveTo>
                <a:cubicBezTo>
                  <a:pt x="15386" y="10176"/>
                  <a:pt x="15797" y="10131"/>
                  <a:pt x="16197" y="10071"/>
                </a:cubicBezTo>
                <a:cubicBezTo>
                  <a:pt x="16384" y="10043"/>
                  <a:pt x="16579" y="10020"/>
                  <a:pt x="16768" y="9996"/>
                </a:cubicBezTo>
              </a:path>
              <a:path w="2432" h="3623">
                <a:moveTo>
                  <a:pt x="16570" y="10244"/>
                </a:moveTo>
                <a:cubicBezTo>
                  <a:pt x="16504" y="10224"/>
                  <a:pt x="16407" y="10359"/>
                  <a:pt x="16346" y="10443"/>
                </a:cubicBezTo>
                <a:cubicBezTo>
                  <a:pt x="16404" y="10431"/>
                  <a:pt x="16728" y="10335"/>
                  <a:pt x="16570" y="10244"/>
                </a:cubicBezTo>
                <a:cubicBezTo>
                  <a:pt x="16520" y="10228"/>
                  <a:pt x="16471" y="10211"/>
                  <a:pt x="16421" y="10195"/>
                </a:cubicBezTo>
              </a:path>
              <a:path w="2432" h="3623">
                <a:moveTo>
                  <a:pt x="16098" y="10368"/>
                </a:moveTo>
                <a:cubicBezTo>
                  <a:pt x="16036" y="10422"/>
                  <a:pt x="16002" y="10454"/>
                  <a:pt x="15974" y="10517"/>
                </a:cubicBezTo>
                <a:cubicBezTo>
                  <a:pt x="16072" y="10507"/>
                  <a:pt x="16246" y="10464"/>
                  <a:pt x="16222" y="10319"/>
                </a:cubicBezTo>
                <a:cubicBezTo>
                  <a:pt x="16166" y="10262"/>
                  <a:pt x="16140" y="10245"/>
                  <a:pt x="16073" y="10269"/>
                </a:cubicBezTo>
              </a:path>
              <a:path w="2432" h="3623">
                <a:moveTo>
                  <a:pt x="15553" y="8434"/>
                </a:moveTo>
                <a:cubicBezTo>
                  <a:pt x="15545" y="8463"/>
                  <a:pt x="15535" y="8479"/>
                  <a:pt x="15528" y="8508"/>
                </a:cubicBezTo>
                <a:cubicBezTo>
                  <a:pt x="15582" y="8549"/>
                  <a:pt x="15640" y="8524"/>
                  <a:pt x="15726" y="8508"/>
                </a:cubicBezTo>
              </a:path>
              <a:path w="2432" h="3623">
                <a:moveTo>
                  <a:pt x="15776" y="8334"/>
                </a:moveTo>
                <a:cubicBezTo>
                  <a:pt x="15728" y="8485"/>
                  <a:pt x="15630" y="8634"/>
                  <a:pt x="15602" y="8781"/>
                </a:cubicBezTo>
                <a:cubicBezTo>
                  <a:pt x="15602" y="8789"/>
                  <a:pt x="15602" y="8798"/>
                  <a:pt x="15602" y="8806"/>
                </a:cubicBezTo>
              </a:path>
              <a:path w="2432" h="3623">
                <a:moveTo>
                  <a:pt x="15156" y="10393"/>
                </a:moveTo>
                <a:cubicBezTo>
                  <a:pt x="15100" y="10365"/>
                  <a:pt x="15217" y="10359"/>
                  <a:pt x="15230" y="10368"/>
                </a:cubicBezTo>
                <a:cubicBezTo>
                  <a:pt x="15230" y="10538"/>
                  <a:pt x="15161" y="10572"/>
                  <a:pt x="14982" y="10616"/>
                </a:cubicBezTo>
                <a:cubicBezTo>
                  <a:pt x="15036" y="10509"/>
                  <a:pt x="15104" y="10487"/>
                  <a:pt x="15205" y="10567"/>
                </a:cubicBezTo>
                <a:cubicBezTo>
                  <a:pt x="15228" y="10590"/>
                  <a:pt x="15232" y="10598"/>
                  <a:pt x="15255" y="10592"/>
                </a:cubicBezTo>
              </a:path>
              <a:path w="2432" h="3623">
                <a:moveTo>
                  <a:pt x="15503" y="10368"/>
                </a:moveTo>
                <a:cubicBezTo>
                  <a:pt x="15402" y="10504"/>
                  <a:pt x="15404" y="10436"/>
                  <a:pt x="15404" y="10592"/>
                </a:cubicBezTo>
                <a:cubicBezTo>
                  <a:pt x="15516" y="10568"/>
                  <a:pt x="15798" y="10427"/>
                  <a:pt x="15528" y="10368"/>
                </a:cubicBezTo>
                <a:cubicBezTo>
                  <a:pt x="15495" y="10368"/>
                  <a:pt x="15462" y="10368"/>
                  <a:pt x="15429" y="10368"/>
                </a:cubicBezTo>
              </a:path>
              <a:path w="2432" h="3623">
                <a:moveTo>
                  <a:pt x="16545" y="10592"/>
                </a:moveTo>
                <a:cubicBezTo>
                  <a:pt x="16469" y="10688"/>
                  <a:pt x="16408" y="10760"/>
                  <a:pt x="16371" y="10864"/>
                </a:cubicBezTo>
                <a:cubicBezTo>
                  <a:pt x="16439" y="10852"/>
                  <a:pt x="16692" y="10795"/>
                  <a:pt x="16570" y="10666"/>
                </a:cubicBezTo>
                <a:cubicBezTo>
                  <a:pt x="16545" y="10658"/>
                  <a:pt x="16520" y="10649"/>
                  <a:pt x="16495" y="10641"/>
                </a:cubicBezTo>
              </a:path>
              <a:path w="2432" h="3623">
                <a:moveTo>
                  <a:pt x="16148" y="10716"/>
                </a:moveTo>
                <a:cubicBezTo>
                  <a:pt x="16069" y="10794"/>
                  <a:pt x="16041" y="10870"/>
                  <a:pt x="16024" y="10988"/>
                </a:cubicBezTo>
                <a:cubicBezTo>
                  <a:pt x="16106" y="10945"/>
                  <a:pt x="16429" y="10783"/>
                  <a:pt x="16173" y="10740"/>
                </a:cubicBezTo>
                <a:cubicBezTo>
                  <a:pt x="16132" y="10740"/>
                  <a:pt x="16090" y="10740"/>
                  <a:pt x="16049" y="10740"/>
                </a:cubicBezTo>
              </a:path>
              <a:path w="2432" h="3623">
                <a:moveTo>
                  <a:pt x="15627" y="10790"/>
                </a:moveTo>
                <a:cubicBezTo>
                  <a:pt x="15553" y="10889"/>
                  <a:pt x="15547" y="10927"/>
                  <a:pt x="15528" y="11038"/>
                </a:cubicBezTo>
                <a:cubicBezTo>
                  <a:pt x="15601" y="11027"/>
                  <a:pt x="15921" y="10936"/>
                  <a:pt x="15726" y="10815"/>
                </a:cubicBezTo>
                <a:cubicBezTo>
                  <a:pt x="15685" y="10807"/>
                  <a:pt x="15643" y="10798"/>
                  <a:pt x="15602" y="10790"/>
                </a:cubicBezTo>
              </a:path>
              <a:path w="2432" h="3623">
                <a:moveTo>
                  <a:pt x="15280" y="10840"/>
                </a:moveTo>
                <a:cubicBezTo>
                  <a:pt x="15128" y="10883"/>
                  <a:pt x="15120" y="10925"/>
                  <a:pt x="15131" y="11063"/>
                </a:cubicBezTo>
                <a:cubicBezTo>
                  <a:pt x="15190" y="11056"/>
                  <a:pt x="15558" y="10972"/>
                  <a:pt x="15354" y="10864"/>
                </a:cubicBezTo>
                <a:cubicBezTo>
                  <a:pt x="15278" y="10864"/>
                  <a:pt x="15253" y="10866"/>
                  <a:pt x="15255" y="10939"/>
                </a:cubicBezTo>
              </a:path>
              <a:path w="2432" h="3623">
                <a:moveTo>
                  <a:pt x="14734" y="11187"/>
                </a:moveTo>
                <a:cubicBezTo>
                  <a:pt x="15131" y="11158"/>
                  <a:pt x="15527" y="11095"/>
                  <a:pt x="15925" y="11063"/>
                </a:cubicBezTo>
                <a:cubicBezTo>
                  <a:pt x="16141" y="11046"/>
                  <a:pt x="16354" y="11032"/>
                  <a:pt x="16570" y="11013"/>
                </a:cubicBezTo>
              </a:path>
              <a:path w="2432" h="3623">
                <a:moveTo>
                  <a:pt x="16421" y="11237"/>
                </a:moveTo>
                <a:cubicBezTo>
                  <a:pt x="16368" y="11271"/>
                  <a:pt x="16358" y="11403"/>
                  <a:pt x="16346" y="11485"/>
                </a:cubicBezTo>
                <a:cubicBezTo>
                  <a:pt x="16409" y="11485"/>
                  <a:pt x="16821" y="11401"/>
                  <a:pt x="16594" y="11261"/>
                </a:cubicBezTo>
                <a:cubicBezTo>
                  <a:pt x="16553" y="11253"/>
                  <a:pt x="16511" y="11245"/>
                  <a:pt x="16470" y="11237"/>
                </a:cubicBezTo>
              </a:path>
              <a:path w="2432" h="3623">
                <a:moveTo>
                  <a:pt x="16173" y="11336"/>
                </a:moveTo>
                <a:cubicBezTo>
                  <a:pt x="16057" y="11428"/>
                  <a:pt x="16029" y="11456"/>
                  <a:pt x="15999" y="11609"/>
                </a:cubicBezTo>
                <a:cubicBezTo>
                  <a:pt x="16064" y="11600"/>
                  <a:pt x="16384" y="11505"/>
                  <a:pt x="16173" y="11385"/>
                </a:cubicBezTo>
                <a:cubicBezTo>
                  <a:pt x="16123" y="11377"/>
                  <a:pt x="16074" y="11369"/>
                  <a:pt x="16024" y="11361"/>
                </a:cubicBezTo>
              </a:path>
              <a:path w="2432" h="3623">
                <a:moveTo>
                  <a:pt x="15652" y="11410"/>
                </a:moveTo>
                <a:cubicBezTo>
                  <a:pt x="15578" y="11496"/>
                  <a:pt x="15540" y="11548"/>
                  <a:pt x="15528" y="11658"/>
                </a:cubicBezTo>
                <a:cubicBezTo>
                  <a:pt x="15704" y="11605"/>
                  <a:pt x="15722" y="11620"/>
                  <a:pt x="15776" y="11460"/>
                </a:cubicBezTo>
                <a:cubicBezTo>
                  <a:pt x="15647" y="11390"/>
                  <a:pt x="15626" y="11415"/>
                  <a:pt x="15478" y="11460"/>
                </a:cubicBezTo>
              </a:path>
              <a:path w="2432" h="3623">
                <a:moveTo>
                  <a:pt x="15131" y="11485"/>
                </a:moveTo>
                <a:cubicBezTo>
                  <a:pt x="15172" y="11444"/>
                  <a:pt x="15202" y="11430"/>
                  <a:pt x="15255" y="11435"/>
                </a:cubicBezTo>
                <a:cubicBezTo>
                  <a:pt x="15347" y="11607"/>
                  <a:pt x="15284" y="11738"/>
                  <a:pt x="15081" y="11807"/>
                </a:cubicBezTo>
                <a:cubicBezTo>
                  <a:pt x="15048" y="11807"/>
                  <a:pt x="15015" y="11807"/>
                  <a:pt x="14982" y="11807"/>
                </a:cubicBezTo>
                <a:cubicBezTo>
                  <a:pt x="14982" y="11661"/>
                  <a:pt x="15072" y="11576"/>
                  <a:pt x="15205" y="11708"/>
                </a:cubicBezTo>
                <a:cubicBezTo>
                  <a:pt x="15213" y="11724"/>
                  <a:pt x="15222" y="11741"/>
                  <a:pt x="15230" y="11757"/>
                </a:cubicBezTo>
              </a:path>
              <a:path w="2432" h="3623">
                <a:moveTo>
                  <a:pt x="15825" y="11609"/>
                </a:moveTo>
                <a:cubicBezTo>
                  <a:pt x="15830" y="11628"/>
                  <a:pt x="15867" y="11694"/>
                  <a:pt x="15900" y="11658"/>
                </a:cubicBezTo>
                <a:cubicBezTo>
                  <a:pt x="15960" y="11592"/>
                  <a:pt x="15850" y="11642"/>
                  <a:pt x="15974" y="11658"/>
                </a:cubicBezTo>
              </a:path>
              <a:path w="2432" h="3623">
                <a:moveTo>
                  <a:pt x="14932" y="11881"/>
                </a:moveTo>
                <a:cubicBezTo>
                  <a:pt x="15287" y="11938"/>
                  <a:pt x="15665" y="11962"/>
                  <a:pt x="16024" y="11956"/>
                </a:cubicBezTo>
                <a:cubicBezTo>
                  <a:pt x="16309" y="11951"/>
                  <a:pt x="16750" y="11903"/>
                  <a:pt x="16966" y="11683"/>
                </a:cubicBezTo>
                <a:cubicBezTo>
                  <a:pt x="16991" y="11633"/>
                  <a:pt x="17016" y="11584"/>
                  <a:pt x="17041" y="11534"/>
                </a:cubicBezTo>
                <a:cubicBezTo>
                  <a:pt x="16971" y="11299"/>
                  <a:pt x="16895" y="11242"/>
                  <a:pt x="16669" y="11137"/>
                </a:cubicBezTo>
                <a:cubicBezTo>
                  <a:pt x="16422" y="11023"/>
                  <a:pt x="16169" y="11024"/>
                  <a:pt x="15900" y="11038"/>
                </a:cubicBezTo>
                <a:cubicBezTo>
                  <a:pt x="15491" y="11060"/>
                  <a:pt x="14975" y="11082"/>
                  <a:pt x="14709" y="11435"/>
                </a:cubicBezTo>
                <a:cubicBezTo>
                  <a:pt x="14552" y="11643"/>
                  <a:pt x="14577" y="11846"/>
                  <a:pt x="14858" y="11906"/>
                </a:cubicBezTo>
                <a:cubicBezTo>
                  <a:pt x="15131" y="11929"/>
                  <a:pt x="15206" y="11940"/>
                  <a:pt x="15379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10000" y="4670280"/>
            <a:ext cx="795240" cy="1071720"/>
          </a:xfrm>
          <a:custGeom>
            <a:avLst/>
            <a:gdLst/>
            <a:ahLst/>
            <a:rect l="l" t="t" r="r" b="b"/>
            <a:pathLst>
              <a:path w="2209" h="2977">
                <a:moveTo>
                  <a:pt x="10269" y="13568"/>
                </a:moveTo>
                <a:cubicBezTo>
                  <a:pt x="10239" y="13638"/>
                  <a:pt x="10239" y="13676"/>
                  <a:pt x="10294" y="13593"/>
                </a:cubicBezTo>
                <a:cubicBezTo>
                  <a:pt x="10263" y="13656"/>
                  <a:pt x="10172" y="13652"/>
                  <a:pt x="10344" y="13618"/>
                </a:cubicBezTo>
              </a:path>
              <a:path w="2209" h="2977">
                <a:moveTo>
                  <a:pt x="11063" y="12973"/>
                </a:moveTo>
                <a:cubicBezTo>
                  <a:pt x="11079" y="13131"/>
                  <a:pt x="10987" y="13325"/>
                  <a:pt x="10939" y="13494"/>
                </a:cubicBezTo>
                <a:cubicBezTo>
                  <a:pt x="10939" y="13502"/>
                  <a:pt x="10939" y="13511"/>
                  <a:pt x="10939" y="13519"/>
                </a:cubicBezTo>
              </a:path>
              <a:path w="2209" h="2977">
                <a:moveTo>
                  <a:pt x="9798" y="14015"/>
                </a:moveTo>
                <a:cubicBezTo>
                  <a:pt x="9855" y="14144"/>
                  <a:pt x="9897" y="14287"/>
                  <a:pt x="9947" y="14412"/>
                </a:cubicBezTo>
                <a:cubicBezTo>
                  <a:pt x="9947" y="14404"/>
                  <a:pt x="9947" y="14395"/>
                  <a:pt x="9947" y="14387"/>
                </a:cubicBezTo>
              </a:path>
              <a:path w="2209" h="2977">
                <a:moveTo>
                  <a:pt x="9996" y="14089"/>
                </a:moveTo>
                <a:cubicBezTo>
                  <a:pt x="9938" y="14205"/>
                  <a:pt x="9880" y="14320"/>
                  <a:pt x="9823" y="14436"/>
                </a:cubicBezTo>
              </a:path>
              <a:path w="2209" h="2977">
                <a:moveTo>
                  <a:pt x="11013" y="14064"/>
                </a:moveTo>
                <a:cubicBezTo>
                  <a:pt x="11050" y="14052"/>
                  <a:pt x="11053" y="13962"/>
                  <a:pt x="11038" y="13915"/>
                </a:cubicBezTo>
                <a:cubicBezTo>
                  <a:pt x="11030" y="13907"/>
                  <a:pt x="11021" y="13899"/>
                  <a:pt x="11013" y="13891"/>
                </a:cubicBezTo>
                <a:cubicBezTo>
                  <a:pt x="10918" y="13938"/>
                  <a:pt x="10846" y="13991"/>
                  <a:pt x="10765" y="14064"/>
                </a:cubicBezTo>
                <a:cubicBezTo>
                  <a:pt x="10889" y="14064"/>
                  <a:pt x="10919" y="14055"/>
                  <a:pt x="11038" y="13990"/>
                </a:cubicBezTo>
                <a:cubicBezTo>
                  <a:pt x="11013" y="14100"/>
                  <a:pt x="10998" y="14288"/>
                  <a:pt x="10939" y="14387"/>
                </a:cubicBezTo>
                <a:cubicBezTo>
                  <a:pt x="10931" y="14387"/>
                  <a:pt x="10922" y="14387"/>
                  <a:pt x="10914" y="14387"/>
                </a:cubicBezTo>
              </a:path>
              <a:path w="2209" h="2977">
                <a:moveTo>
                  <a:pt x="9922" y="14684"/>
                </a:moveTo>
                <a:cubicBezTo>
                  <a:pt x="10398" y="14570"/>
                  <a:pt x="10876" y="14456"/>
                  <a:pt x="11361" y="14387"/>
                </a:cubicBezTo>
                <a:cubicBezTo>
                  <a:pt x="11386" y="14387"/>
                  <a:pt x="11410" y="14387"/>
                  <a:pt x="11435" y="14387"/>
                </a:cubicBezTo>
              </a:path>
              <a:path w="2209" h="2977">
                <a:moveTo>
                  <a:pt x="11137" y="14908"/>
                </a:moveTo>
                <a:cubicBezTo>
                  <a:pt x="11093" y="14809"/>
                  <a:pt x="11053" y="14698"/>
                  <a:pt x="10914" y="14833"/>
                </a:cubicBezTo>
                <a:cubicBezTo>
                  <a:pt x="10889" y="14874"/>
                  <a:pt x="10865" y="14916"/>
                  <a:pt x="10840" y="14957"/>
                </a:cubicBezTo>
                <a:cubicBezTo>
                  <a:pt x="11005" y="15033"/>
                  <a:pt x="11053" y="14950"/>
                  <a:pt x="11162" y="14808"/>
                </a:cubicBezTo>
                <a:cubicBezTo>
                  <a:pt x="11136" y="14961"/>
                  <a:pt x="11051" y="15113"/>
                  <a:pt x="10988" y="15255"/>
                </a:cubicBezTo>
                <a:cubicBezTo>
                  <a:pt x="10980" y="15271"/>
                  <a:pt x="10972" y="15288"/>
                  <a:pt x="10964" y="15304"/>
                </a:cubicBezTo>
              </a:path>
              <a:path w="2209" h="2977">
                <a:moveTo>
                  <a:pt x="10567" y="15081"/>
                </a:moveTo>
                <a:cubicBezTo>
                  <a:pt x="10589" y="15014"/>
                  <a:pt x="10660" y="14891"/>
                  <a:pt x="10592" y="14833"/>
                </a:cubicBezTo>
                <a:cubicBezTo>
                  <a:pt x="10575" y="14825"/>
                  <a:pt x="10559" y="14816"/>
                  <a:pt x="10542" y="14808"/>
                </a:cubicBezTo>
                <a:cubicBezTo>
                  <a:pt x="10500" y="14858"/>
                  <a:pt x="10247" y="15207"/>
                  <a:pt x="10492" y="15081"/>
                </a:cubicBezTo>
                <a:cubicBezTo>
                  <a:pt x="10632" y="15009"/>
                  <a:pt x="10605" y="14964"/>
                  <a:pt x="10666" y="14858"/>
                </a:cubicBezTo>
                <a:cubicBezTo>
                  <a:pt x="10581" y="15028"/>
                  <a:pt x="10521" y="15241"/>
                  <a:pt x="10468" y="15429"/>
                </a:cubicBezTo>
                <a:cubicBezTo>
                  <a:pt x="10468" y="15437"/>
                  <a:pt x="10468" y="15445"/>
                  <a:pt x="10468" y="15453"/>
                </a:cubicBezTo>
              </a:path>
              <a:path w="2209" h="2977">
                <a:moveTo>
                  <a:pt x="10071" y="15503"/>
                </a:moveTo>
                <a:cubicBezTo>
                  <a:pt x="10071" y="15578"/>
                  <a:pt x="10125" y="15563"/>
                  <a:pt x="10145" y="15503"/>
                </a:cubicBezTo>
                <a:cubicBezTo>
                  <a:pt x="10145" y="15495"/>
                  <a:pt x="10145" y="15486"/>
                  <a:pt x="10145" y="15478"/>
                </a:cubicBezTo>
                <a:cubicBezTo>
                  <a:pt x="10110" y="15478"/>
                  <a:pt x="10093" y="15483"/>
                  <a:pt x="10071" y="15503"/>
                </a:cubicBezTo>
                <a:cubicBezTo>
                  <a:pt x="10136" y="15529"/>
                  <a:pt x="10146" y="15500"/>
                  <a:pt x="10220" y="15453"/>
                </a:cubicBezTo>
              </a:path>
              <a:path w="2209" h="2977">
                <a:moveTo>
                  <a:pt x="9823" y="15726"/>
                </a:moveTo>
                <a:cubicBezTo>
                  <a:pt x="10263" y="15804"/>
                  <a:pt x="10777" y="15786"/>
                  <a:pt x="11212" y="15652"/>
                </a:cubicBezTo>
                <a:cubicBezTo>
                  <a:pt x="11638" y="15520"/>
                  <a:pt x="11772" y="15332"/>
                  <a:pt x="11956" y="14982"/>
                </a:cubicBezTo>
                <a:cubicBezTo>
                  <a:pt x="11565" y="14615"/>
                  <a:pt x="11043" y="14369"/>
                  <a:pt x="10468" y="14560"/>
                </a:cubicBezTo>
                <a:cubicBezTo>
                  <a:pt x="9725" y="14807"/>
                  <a:pt x="9611" y="15462"/>
                  <a:pt x="9996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we will need to divide decimals such as when we are spreading a payment out over multiple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Your refrigerator isn’t keeping the food cold so you buy a new one.  Lowe’s will allow you to pay the $1,214.86 over 3 months with no interest.  How much will each paymen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525780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214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42920" y="4670280"/>
            <a:ext cx="3768840" cy="2133720"/>
          </a:xfrm>
          <a:custGeom>
            <a:avLst/>
            <a:gdLst/>
            <a:ahLst/>
            <a:rect l="l" t="t" r="r" b="b"/>
            <a:pathLst>
              <a:path w="10468" h="5929">
                <a:moveTo>
                  <a:pt x="943" y="14660"/>
                </a:moveTo>
                <a:cubicBezTo>
                  <a:pt x="882" y="14584"/>
                  <a:pt x="835" y="14519"/>
                  <a:pt x="719" y="14585"/>
                </a:cubicBezTo>
                <a:cubicBezTo>
                  <a:pt x="553" y="14680"/>
                  <a:pt x="590" y="14847"/>
                  <a:pt x="645" y="14982"/>
                </a:cubicBezTo>
                <a:cubicBezTo>
                  <a:pt x="886" y="14982"/>
                  <a:pt x="908" y="14887"/>
                  <a:pt x="967" y="14660"/>
                </a:cubicBezTo>
              </a:path>
              <a:path w="10468" h="5929">
                <a:moveTo>
                  <a:pt x="719" y="14337"/>
                </a:moveTo>
                <a:cubicBezTo>
                  <a:pt x="820" y="14518"/>
                  <a:pt x="907" y="14708"/>
                  <a:pt x="1017" y="14883"/>
                </a:cubicBezTo>
                <a:cubicBezTo>
                  <a:pt x="1040" y="14906"/>
                  <a:pt x="1044" y="14914"/>
                  <a:pt x="1067" y="14908"/>
                </a:cubicBezTo>
              </a:path>
              <a:path w="10468" h="5929">
                <a:moveTo>
                  <a:pt x="1091" y="14560"/>
                </a:moveTo>
                <a:cubicBezTo>
                  <a:pt x="1099" y="14589"/>
                  <a:pt x="1134" y="14798"/>
                  <a:pt x="1166" y="14734"/>
                </a:cubicBezTo>
              </a:path>
              <a:path w="10468" h="5929">
                <a:moveTo>
                  <a:pt x="967" y="14560"/>
                </a:moveTo>
                <a:lnTo>
                  <a:pt x="967" y="14560"/>
                </a:lnTo>
                <a:lnTo>
                  <a:pt x="967" y="14560"/>
                </a:lnTo>
              </a:path>
              <a:path w="10468" h="5929">
                <a:moveTo>
                  <a:pt x="967" y="14560"/>
                </a:moveTo>
                <a:lnTo>
                  <a:pt x="967" y="14560"/>
                </a:lnTo>
              </a:path>
              <a:path w="10468" h="5929">
                <a:moveTo>
                  <a:pt x="1166" y="14511"/>
                </a:moveTo>
                <a:cubicBezTo>
                  <a:pt x="1257" y="14602"/>
                  <a:pt x="1281" y="14626"/>
                  <a:pt x="1339" y="14684"/>
                </a:cubicBezTo>
                <a:cubicBezTo>
                  <a:pt x="1305" y="14791"/>
                  <a:pt x="1267" y="14544"/>
                  <a:pt x="1240" y="14436"/>
                </a:cubicBezTo>
                <a:cubicBezTo>
                  <a:pt x="1213" y="14328"/>
                  <a:pt x="1225" y="14351"/>
                  <a:pt x="1315" y="14312"/>
                </a:cubicBezTo>
              </a:path>
              <a:path w="10468" h="5929">
                <a:moveTo>
                  <a:pt x="1414" y="14412"/>
                </a:moveTo>
                <a:cubicBezTo>
                  <a:pt x="1452" y="14489"/>
                  <a:pt x="1451" y="14504"/>
                  <a:pt x="1488" y="14536"/>
                </a:cubicBezTo>
              </a:path>
              <a:path w="10468" h="5929">
                <a:moveTo>
                  <a:pt x="1315" y="14238"/>
                </a:moveTo>
                <a:cubicBezTo>
                  <a:pt x="1331" y="14238"/>
                  <a:pt x="1348" y="14238"/>
                  <a:pt x="1364" y="14238"/>
                </a:cubicBezTo>
              </a:path>
              <a:path w="10468" h="5929">
                <a:moveTo>
                  <a:pt x="1364" y="14238"/>
                </a:moveTo>
                <a:lnTo>
                  <a:pt x="1364" y="14238"/>
                </a:lnTo>
              </a:path>
              <a:path w="10468" h="5929">
                <a:moveTo>
                  <a:pt x="1836" y="14238"/>
                </a:moveTo>
                <a:cubicBezTo>
                  <a:pt x="1814" y="14171"/>
                  <a:pt x="1761" y="14238"/>
                  <a:pt x="1736" y="14288"/>
                </a:cubicBezTo>
                <a:cubicBezTo>
                  <a:pt x="1688" y="14409"/>
                  <a:pt x="1672" y="14447"/>
                  <a:pt x="1687" y="14536"/>
                </a:cubicBezTo>
                <a:cubicBezTo>
                  <a:pt x="1922" y="14571"/>
                  <a:pt x="1912" y="14445"/>
                  <a:pt x="1960" y="14238"/>
                </a:cubicBezTo>
              </a:path>
              <a:path w="10468" h="5929">
                <a:moveTo>
                  <a:pt x="1662" y="13866"/>
                </a:moveTo>
                <a:cubicBezTo>
                  <a:pt x="1726" y="13999"/>
                  <a:pt x="1804" y="14359"/>
                  <a:pt x="1935" y="14436"/>
                </a:cubicBezTo>
                <a:cubicBezTo>
                  <a:pt x="1951" y="14428"/>
                  <a:pt x="1968" y="14420"/>
                  <a:pt x="1984" y="14412"/>
                </a:cubicBezTo>
              </a:path>
              <a:path w="10468" h="5929">
                <a:moveTo>
                  <a:pt x="2158" y="14163"/>
                </a:moveTo>
                <a:cubicBezTo>
                  <a:pt x="2203" y="14152"/>
                  <a:pt x="2282" y="14161"/>
                  <a:pt x="2282" y="14114"/>
                </a:cubicBezTo>
                <a:cubicBezTo>
                  <a:pt x="2258" y="14042"/>
                  <a:pt x="2252" y="14019"/>
                  <a:pt x="2208" y="13990"/>
                </a:cubicBezTo>
                <a:cubicBezTo>
                  <a:pt x="2074" y="14039"/>
                  <a:pt x="2036" y="14229"/>
                  <a:pt x="2133" y="14362"/>
                </a:cubicBezTo>
                <a:cubicBezTo>
                  <a:pt x="2240" y="14508"/>
                  <a:pt x="2389" y="14305"/>
                  <a:pt x="2456" y="14238"/>
                </a:cubicBezTo>
              </a:path>
              <a:path w="10468" h="5929">
                <a:moveTo>
                  <a:pt x="943" y="14312"/>
                </a:moveTo>
                <a:lnTo>
                  <a:pt x="943" y="14312"/>
                </a:lnTo>
                <a:lnTo>
                  <a:pt x="943" y="14312"/>
                </a:lnTo>
                <a:lnTo>
                  <a:pt x="943" y="14312"/>
                </a:lnTo>
                <a:lnTo>
                  <a:pt x="943" y="14312"/>
                </a:lnTo>
              </a:path>
              <a:path w="10468" h="5929">
                <a:moveTo>
                  <a:pt x="422" y="15453"/>
                </a:moveTo>
                <a:cubicBezTo>
                  <a:pt x="407" y="15567"/>
                  <a:pt x="483" y="15709"/>
                  <a:pt x="546" y="15825"/>
                </a:cubicBezTo>
                <a:cubicBezTo>
                  <a:pt x="527" y="15693"/>
                  <a:pt x="520" y="15661"/>
                  <a:pt x="595" y="15553"/>
                </a:cubicBezTo>
                <a:cubicBezTo>
                  <a:pt x="710" y="15604"/>
                  <a:pt x="778" y="15661"/>
                  <a:pt x="719" y="15801"/>
                </a:cubicBezTo>
                <a:cubicBezTo>
                  <a:pt x="674" y="15907"/>
                  <a:pt x="608" y="15913"/>
                  <a:pt x="521" y="15900"/>
                </a:cubicBezTo>
                <a:cubicBezTo>
                  <a:pt x="513" y="15900"/>
                  <a:pt x="504" y="15900"/>
                  <a:pt x="496" y="15900"/>
                </a:cubicBezTo>
              </a:path>
              <a:path w="10468" h="5929">
                <a:moveTo>
                  <a:pt x="769" y="15577"/>
                </a:moveTo>
                <a:cubicBezTo>
                  <a:pt x="821" y="15623"/>
                  <a:pt x="851" y="15667"/>
                  <a:pt x="893" y="15726"/>
                </a:cubicBezTo>
                <a:cubicBezTo>
                  <a:pt x="878" y="15625"/>
                  <a:pt x="849" y="15532"/>
                  <a:pt x="843" y="15429"/>
                </a:cubicBezTo>
                <a:cubicBezTo>
                  <a:pt x="840" y="15369"/>
                  <a:pt x="957" y="15364"/>
                  <a:pt x="992" y="15354"/>
                </a:cubicBezTo>
              </a:path>
              <a:path w="10468" h="5929">
                <a:moveTo>
                  <a:pt x="1091" y="15478"/>
                </a:moveTo>
                <a:cubicBezTo>
                  <a:pt x="1146" y="15539"/>
                  <a:pt x="1166" y="15588"/>
                  <a:pt x="1166" y="15553"/>
                </a:cubicBezTo>
              </a:path>
              <a:path w="10468" h="5929">
                <a:moveTo>
                  <a:pt x="992" y="15280"/>
                </a:moveTo>
                <a:lnTo>
                  <a:pt x="992" y="15280"/>
                </a:lnTo>
                <a:lnTo>
                  <a:pt x="992" y="15280"/>
                </a:lnTo>
              </a:path>
              <a:path w="10468" h="5929">
                <a:moveTo>
                  <a:pt x="992" y="15280"/>
                </a:moveTo>
                <a:lnTo>
                  <a:pt x="992" y="15280"/>
                </a:lnTo>
              </a:path>
              <a:path w="10468" h="5929">
                <a:moveTo>
                  <a:pt x="1265" y="15429"/>
                </a:moveTo>
                <a:cubicBezTo>
                  <a:pt x="1273" y="15437"/>
                  <a:pt x="1282" y="15445"/>
                  <a:pt x="1290" y="15453"/>
                </a:cubicBezTo>
                <a:cubicBezTo>
                  <a:pt x="1282" y="15421"/>
                  <a:pt x="1226" y="15298"/>
                  <a:pt x="1265" y="15280"/>
                </a:cubicBezTo>
                <a:cubicBezTo>
                  <a:pt x="1392" y="15221"/>
                  <a:pt x="1389" y="15321"/>
                  <a:pt x="1389" y="15404"/>
                </a:cubicBezTo>
              </a:path>
              <a:path w="10468" h="5929">
                <a:moveTo>
                  <a:pt x="1488" y="15106"/>
                </a:moveTo>
                <a:cubicBezTo>
                  <a:pt x="1413" y="15193"/>
                  <a:pt x="1373" y="15279"/>
                  <a:pt x="1488" y="15329"/>
                </a:cubicBezTo>
                <a:cubicBezTo>
                  <a:pt x="1533" y="15249"/>
                  <a:pt x="1538" y="15208"/>
                  <a:pt x="1538" y="15106"/>
                </a:cubicBezTo>
                <a:cubicBezTo>
                  <a:pt x="1583" y="15217"/>
                  <a:pt x="1720" y="15289"/>
                  <a:pt x="1736" y="15429"/>
                </a:cubicBezTo>
                <a:cubicBezTo>
                  <a:pt x="1744" y="15504"/>
                  <a:pt x="1528" y="15795"/>
                  <a:pt x="1488" y="15677"/>
                </a:cubicBezTo>
                <a:cubicBezTo>
                  <a:pt x="1488" y="15627"/>
                  <a:pt x="1488" y="15578"/>
                  <a:pt x="1488" y="15528"/>
                </a:cubicBezTo>
              </a:path>
              <a:path w="10468" h="5929">
                <a:moveTo>
                  <a:pt x="1811" y="14932"/>
                </a:moveTo>
                <a:cubicBezTo>
                  <a:pt x="1826" y="14993"/>
                  <a:pt x="1863" y="15132"/>
                  <a:pt x="1935" y="15156"/>
                </a:cubicBezTo>
                <a:cubicBezTo>
                  <a:pt x="1951" y="15148"/>
                  <a:pt x="1968" y="15139"/>
                  <a:pt x="1984" y="15131"/>
                </a:cubicBezTo>
                <a:cubicBezTo>
                  <a:pt x="2026" y="15031"/>
                  <a:pt x="2059" y="14981"/>
                  <a:pt x="2034" y="14883"/>
                </a:cubicBezTo>
                <a:cubicBezTo>
                  <a:pt x="2074" y="14916"/>
                  <a:pt x="2201" y="15030"/>
                  <a:pt x="2232" y="14908"/>
                </a:cubicBezTo>
                <a:cubicBezTo>
                  <a:pt x="2253" y="14828"/>
                  <a:pt x="2155" y="14619"/>
                  <a:pt x="2257" y="14784"/>
                </a:cubicBezTo>
                <a:cubicBezTo>
                  <a:pt x="2349" y="14945"/>
                  <a:pt x="2374" y="14993"/>
                  <a:pt x="2456" y="15081"/>
                </a:cubicBezTo>
                <a:cubicBezTo>
                  <a:pt x="2464" y="15089"/>
                  <a:pt x="2472" y="15098"/>
                  <a:pt x="2480" y="15106"/>
                </a:cubicBezTo>
                <a:cubicBezTo>
                  <a:pt x="2372" y="15078"/>
                  <a:pt x="2281" y="14944"/>
                  <a:pt x="2257" y="14833"/>
                </a:cubicBezTo>
                <a:cubicBezTo>
                  <a:pt x="2257" y="14699"/>
                  <a:pt x="2247" y="14659"/>
                  <a:pt x="2332" y="14610"/>
                </a:cubicBezTo>
                <a:cubicBezTo>
                  <a:pt x="2483" y="14686"/>
                  <a:pt x="2535" y="14770"/>
                  <a:pt x="2381" y="14908"/>
                </a:cubicBezTo>
                <a:cubicBezTo>
                  <a:pt x="2332" y="14932"/>
                  <a:pt x="2315" y="14940"/>
                  <a:pt x="2307" y="14883"/>
                </a:cubicBezTo>
              </a:path>
              <a:path w="10468" h="5929">
                <a:moveTo>
                  <a:pt x="2977" y="14387"/>
                </a:moveTo>
                <a:cubicBezTo>
                  <a:pt x="2898" y="14321"/>
                  <a:pt x="2877" y="14312"/>
                  <a:pt x="2778" y="14312"/>
                </a:cubicBezTo>
                <a:cubicBezTo>
                  <a:pt x="2718" y="14524"/>
                  <a:pt x="2685" y="14624"/>
                  <a:pt x="2877" y="14734"/>
                </a:cubicBezTo>
                <a:cubicBezTo>
                  <a:pt x="2985" y="14600"/>
                  <a:pt x="3020" y="14545"/>
                  <a:pt x="3001" y="14412"/>
                </a:cubicBezTo>
              </a:path>
              <a:path w="10468" h="5929">
                <a:moveTo>
                  <a:pt x="2828" y="14139"/>
                </a:moveTo>
                <a:cubicBezTo>
                  <a:pt x="2869" y="14262"/>
                  <a:pt x="2971" y="14404"/>
                  <a:pt x="3051" y="14511"/>
                </a:cubicBezTo>
                <a:cubicBezTo>
                  <a:pt x="3122" y="14606"/>
                  <a:pt x="3114" y="14509"/>
                  <a:pt x="3150" y="14412"/>
                </a:cubicBezTo>
              </a:path>
              <a:path w="10468" h="5929">
                <a:moveTo>
                  <a:pt x="3150" y="14337"/>
                </a:moveTo>
                <a:cubicBezTo>
                  <a:pt x="3189" y="14308"/>
                  <a:pt x="3232" y="14296"/>
                  <a:pt x="3274" y="14263"/>
                </a:cubicBezTo>
                <a:cubicBezTo>
                  <a:pt x="3201" y="14263"/>
                  <a:pt x="3136" y="14174"/>
                  <a:pt x="3076" y="14238"/>
                </a:cubicBezTo>
                <a:cubicBezTo>
                  <a:pt x="2977" y="14343"/>
                  <a:pt x="3143" y="14603"/>
                  <a:pt x="3274" y="14511"/>
                </a:cubicBezTo>
                <a:cubicBezTo>
                  <a:pt x="3355" y="14377"/>
                  <a:pt x="3383" y="14324"/>
                  <a:pt x="3398" y="14213"/>
                </a:cubicBezTo>
              </a:path>
              <a:path w="10468" h="5929">
                <a:moveTo>
                  <a:pt x="3398" y="14089"/>
                </a:moveTo>
                <a:cubicBezTo>
                  <a:pt x="3448" y="14173"/>
                  <a:pt x="3417" y="14086"/>
                  <a:pt x="3349" y="14114"/>
                </a:cubicBezTo>
                <a:cubicBezTo>
                  <a:pt x="3340" y="14206"/>
                  <a:pt x="3350" y="14582"/>
                  <a:pt x="3547" y="14362"/>
                </a:cubicBezTo>
                <a:cubicBezTo>
                  <a:pt x="3627" y="14273"/>
                  <a:pt x="3632" y="14100"/>
                  <a:pt x="3646" y="13990"/>
                </a:cubicBezTo>
                <a:cubicBezTo>
                  <a:pt x="3657" y="14098"/>
                  <a:pt x="3677" y="14275"/>
                  <a:pt x="3746" y="14139"/>
                </a:cubicBezTo>
              </a:path>
              <a:path w="10468" h="5929">
                <a:moveTo>
                  <a:pt x="3473" y="13891"/>
                </a:moveTo>
                <a:cubicBezTo>
                  <a:pt x="3481" y="13891"/>
                  <a:pt x="3489" y="13891"/>
                  <a:pt x="3497" y="13891"/>
                </a:cubicBezTo>
              </a:path>
              <a:path w="10468" h="5929">
                <a:moveTo>
                  <a:pt x="3497" y="13891"/>
                </a:moveTo>
                <a:lnTo>
                  <a:pt x="3497" y="13891"/>
                </a:lnTo>
              </a:path>
              <a:path w="10468" h="5929">
                <a:moveTo>
                  <a:pt x="3820" y="14064"/>
                </a:moveTo>
                <a:cubicBezTo>
                  <a:pt x="3837" y="14081"/>
                  <a:pt x="3853" y="14097"/>
                  <a:pt x="3870" y="14114"/>
                </a:cubicBezTo>
                <a:cubicBezTo>
                  <a:pt x="3841" y="14100"/>
                  <a:pt x="3747" y="13977"/>
                  <a:pt x="3795" y="13940"/>
                </a:cubicBezTo>
                <a:cubicBezTo>
                  <a:pt x="3850" y="13898"/>
                  <a:pt x="3979" y="13974"/>
                  <a:pt x="4018" y="13990"/>
                </a:cubicBezTo>
                <a:cubicBezTo>
                  <a:pt x="4018" y="14052"/>
                  <a:pt x="3966" y="13928"/>
                  <a:pt x="3969" y="13866"/>
                </a:cubicBezTo>
                <a:cubicBezTo>
                  <a:pt x="3977" y="13691"/>
                  <a:pt x="4150" y="13964"/>
                  <a:pt x="4167" y="13965"/>
                </a:cubicBezTo>
                <a:cubicBezTo>
                  <a:pt x="4184" y="13957"/>
                  <a:pt x="4200" y="13948"/>
                  <a:pt x="4217" y="13940"/>
                </a:cubicBezTo>
              </a:path>
              <a:path w="10468" h="5929">
                <a:moveTo>
                  <a:pt x="4217" y="13742"/>
                </a:moveTo>
                <a:cubicBezTo>
                  <a:pt x="4198" y="13776"/>
                  <a:pt x="4105" y="14047"/>
                  <a:pt x="4242" y="13990"/>
                </a:cubicBezTo>
                <a:cubicBezTo>
                  <a:pt x="4330" y="13953"/>
                  <a:pt x="4289" y="13870"/>
                  <a:pt x="4266" y="13816"/>
                </a:cubicBezTo>
                <a:cubicBezTo>
                  <a:pt x="4363" y="13872"/>
                  <a:pt x="4486" y="13906"/>
                  <a:pt x="4490" y="13742"/>
                </a:cubicBezTo>
                <a:cubicBezTo>
                  <a:pt x="4462" y="13602"/>
                  <a:pt x="4442" y="13549"/>
                  <a:pt x="4341" y="13494"/>
                </a:cubicBezTo>
                <a:cubicBezTo>
                  <a:pt x="4324" y="13486"/>
                  <a:pt x="4308" y="13477"/>
                  <a:pt x="4291" y="13469"/>
                </a:cubicBezTo>
                <a:cubicBezTo>
                  <a:pt x="4323" y="13565"/>
                  <a:pt x="4421" y="13803"/>
                  <a:pt x="4539" y="13841"/>
                </a:cubicBezTo>
                <a:cubicBezTo>
                  <a:pt x="4606" y="13819"/>
                  <a:pt x="4624" y="13814"/>
                  <a:pt x="4663" y="13791"/>
                </a:cubicBezTo>
              </a:path>
              <a:path w="10468" h="5929">
                <a:moveTo>
                  <a:pt x="10815" y="18678"/>
                </a:moveTo>
                <a:cubicBezTo>
                  <a:pt x="10831" y="18758"/>
                  <a:pt x="10850" y="18827"/>
                  <a:pt x="10864" y="18901"/>
                </a:cubicBezTo>
              </a:path>
              <a:path w="10468" h="5929">
                <a:moveTo>
                  <a:pt x="5184" y="12973"/>
                </a:moveTo>
                <a:lnTo>
                  <a:pt x="5184" y="12973"/>
                </a:ln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5027760"/>
            <a:ext cx="509760" cy="1795320"/>
          </a:xfrm>
          <a:custGeom>
            <a:avLst/>
            <a:gdLst/>
            <a:ahLst/>
            <a:rect l="l" t="t" r="r" b="b"/>
            <a:pathLst>
              <a:path w="1415" h="4987">
                <a:moveTo>
                  <a:pt x="9773" y="15032"/>
                </a:moveTo>
                <a:cubicBezTo>
                  <a:pt x="9768" y="15018"/>
                  <a:pt x="9725" y="14978"/>
                  <a:pt x="9699" y="15007"/>
                </a:cubicBezTo>
                <a:cubicBezTo>
                  <a:pt x="9655" y="15055"/>
                  <a:pt x="9627" y="15144"/>
                  <a:pt x="9624" y="15205"/>
                </a:cubicBezTo>
                <a:cubicBezTo>
                  <a:pt x="9620" y="15281"/>
                  <a:pt x="9649" y="15291"/>
                  <a:pt x="9674" y="15354"/>
                </a:cubicBezTo>
                <a:cubicBezTo>
                  <a:pt x="9685" y="15381"/>
                  <a:pt x="9706" y="15401"/>
                  <a:pt x="9748" y="15404"/>
                </a:cubicBezTo>
                <a:cubicBezTo>
                  <a:pt x="9843" y="15411"/>
                  <a:pt x="9843" y="15373"/>
                  <a:pt x="9897" y="15304"/>
                </a:cubicBezTo>
                <a:cubicBezTo>
                  <a:pt x="9931" y="15260"/>
                  <a:pt x="9967" y="15215"/>
                  <a:pt x="9971" y="15156"/>
                </a:cubicBezTo>
                <a:cubicBezTo>
                  <a:pt x="9974" y="15117"/>
                  <a:pt x="9956" y="15055"/>
                  <a:pt x="9922" y="15032"/>
                </a:cubicBezTo>
                <a:cubicBezTo>
                  <a:pt x="9883" y="15006"/>
                  <a:pt x="9868" y="14969"/>
                  <a:pt x="9823" y="14957"/>
                </a:cubicBezTo>
                <a:cubicBezTo>
                  <a:pt x="9781" y="14957"/>
                  <a:pt x="9773" y="14957"/>
                  <a:pt x="9748" y="14957"/>
                </a:cubicBezTo>
              </a:path>
              <a:path w="1415" h="4987">
                <a:moveTo>
                  <a:pt x="9773" y="15602"/>
                </a:moveTo>
                <a:cubicBezTo>
                  <a:pt x="9773" y="15635"/>
                  <a:pt x="9773" y="15619"/>
                  <a:pt x="9773" y="15652"/>
                </a:cubicBezTo>
                <a:cubicBezTo>
                  <a:pt x="9773" y="15719"/>
                  <a:pt x="9758" y="15764"/>
                  <a:pt x="9748" y="15825"/>
                </a:cubicBezTo>
                <a:cubicBezTo>
                  <a:pt x="9726" y="15955"/>
                  <a:pt x="9754" y="16108"/>
                  <a:pt x="9773" y="16222"/>
                </a:cubicBezTo>
                <a:cubicBezTo>
                  <a:pt x="9782" y="16274"/>
                  <a:pt x="9782" y="16346"/>
                  <a:pt x="9798" y="16396"/>
                </a:cubicBezTo>
                <a:cubicBezTo>
                  <a:pt x="9813" y="16443"/>
                  <a:pt x="9840" y="16504"/>
                  <a:pt x="9847" y="16545"/>
                </a:cubicBezTo>
                <a:cubicBezTo>
                  <a:pt x="9857" y="16602"/>
                  <a:pt x="9863" y="16664"/>
                  <a:pt x="9872" y="16718"/>
                </a:cubicBezTo>
                <a:cubicBezTo>
                  <a:pt x="9888" y="16812"/>
                  <a:pt x="9885" y="16921"/>
                  <a:pt x="9897" y="17016"/>
                </a:cubicBezTo>
                <a:cubicBezTo>
                  <a:pt x="9904" y="17071"/>
                  <a:pt x="9913" y="17113"/>
                  <a:pt x="9922" y="17165"/>
                </a:cubicBezTo>
                <a:cubicBezTo>
                  <a:pt x="9936" y="17245"/>
                  <a:pt x="9926" y="17334"/>
                  <a:pt x="9947" y="17413"/>
                </a:cubicBezTo>
                <a:cubicBezTo>
                  <a:pt x="9958" y="17455"/>
                  <a:pt x="9986" y="17470"/>
                  <a:pt x="9996" y="17512"/>
                </a:cubicBezTo>
                <a:cubicBezTo>
                  <a:pt x="10008" y="17560"/>
                  <a:pt x="9974" y="17588"/>
                  <a:pt x="9971" y="17636"/>
                </a:cubicBezTo>
                <a:cubicBezTo>
                  <a:pt x="9967" y="17713"/>
                  <a:pt x="9947" y="17780"/>
                  <a:pt x="9947" y="17859"/>
                </a:cubicBezTo>
                <a:cubicBezTo>
                  <a:pt x="9947" y="17975"/>
                  <a:pt x="9947" y="18091"/>
                  <a:pt x="9947" y="18207"/>
                </a:cubicBezTo>
              </a:path>
              <a:path w="1415" h="4987">
                <a:moveTo>
                  <a:pt x="10096" y="18628"/>
                </a:moveTo>
                <a:cubicBezTo>
                  <a:pt x="10083" y="18592"/>
                  <a:pt x="10065" y="18604"/>
                  <a:pt x="10021" y="18604"/>
                </a:cubicBezTo>
                <a:cubicBezTo>
                  <a:pt x="9968" y="18604"/>
                  <a:pt x="9911" y="18620"/>
                  <a:pt x="9897" y="18678"/>
                </a:cubicBezTo>
                <a:cubicBezTo>
                  <a:pt x="9887" y="18718"/>
                  <a:pt x="9899" y="18788"/>
                  <a:pt x="9947" y="18802"/>
                </a:cubicBezTo>
                <a:cubicBezTo>
                  <a:pt x="9967" y="18808"/>
                  <a:pt x="10084" y="18773"/>
                  <a:pt x="10096" y="18752"/>
                </a:cubicBezTo>
                <a:cubicBezTo>
                  <a:pt x="10100" y="18745"/>
                  <a:pt x="10135" y="18616"/>
                  <a:pt x="10120" y="18604"/>
                </a:cubicBezTo>
                <a:cubicBezTo>
                  <a:pt x="10089" y="18579"/>
                  <a:pt x="10036" y="18533"/>
                  <a:pt x="10021" y="18579"/>
                </a:cubicBezTo>
              </a:path>
              <a:path w="1415" h="4987">
                <a:moveTo>
                  <a:pt x="9773" y="14213"/>
                </a:moveTo>
                <a:cubicBezTo>
                  <a:pt x="9787" y="14146"/>
                  <a:pt x="9823" y="13970"/>
                  <a:pt x="9922" y="13965"/>
                </a:cubicBezTo>
                <a:cubicBezTo>
                  <a:pt x="10048" y="13958"/>
                  <a:pt x="10038" y="14114"/>
                  <a:pt x="9996" y="14188"/>
                </a:cubicBezTo>
                <a:cubicBezTo>
                  <a:pt x="9955" y="14230"/>
                  <a:pt x="9947" y="14238"/>
                  <a:pt x="9922" y="14263"/>
                </a:cubicBezTo>
                <a:cubicBezTo>
                  <a:pt x="10037" y="14194"/>
                  <a:pt x="10027" y="14315"/>
                  <a:pt x="9996" y="14412"/>
                </a:cubicBezTo>
                <a:cubicBezTo>
                  <a:pt x="9956" y="14535"/>
                  <a:pt x="9864" y="14566"/>
                  <a:pt x="9748" y="14585"/>
                </a:cubicBezTo>
              </a:path>
              <a:path w="1415" h="4987">
                <a:moveTo>
                  <a:pt x="9302" y="14784"/>
                </a:moveTo>
                <a:cubicBezTo>
                  <a:pt x="9318" y="14736"/>
                  <a:pt x="9350" y="14752"/>
                  <a:pt x="9401" y="14734"/>
                </a:cubicBezTo>
                <a:cubicBezTo>
                  <a:pt x="9491" y="14702"/>
                  <a:pt x="9577" y="14709"/>
                  <a:pt x="9674" y="14709"/>
                </a:cubicBezTo>
                <a:cubicBezTo>
                  <a:pt x="9791" y="14709"/>
                  <a:pt x="9907" y="14700"/>
                  <a:pt x="10021" y="14684"/>
                </a:cubicBezTo>
                <a:cubicBezTo>
                  <a:pt x="10165" y="14663"/>
                  <a:pt x="10297" y="14660"/>
                  <a:pt x="10443" y="14660"/>
                </a:cubicBezTo>
                <a:cubicBezTo>
                  <a:pt x="10509" y="14660"/>
                  <a:pt x="10575" y="14660"/>
                  <a:pt x="10641" y="14660"/>
                </a:cubicBezTo>
              </a:path>
              <a:path w="1415" h="4987">
                <a:moveTo>
                  <a:pt x="10393" y="18628"/>
                </a:moveTo>
                <a:cubicBezTo>
                  <a:pt x="10369" y="18653"/>
                  <a:pt x="10310" y="18592"/>
                  <a:pt x="10269" y="18653"/>
                </a:cubicBezTo>
                <a:cubicBezTo>
                  <a:pt x="10247" y="18687"/>
                  <a:pt x="10228" y="18761"/>
                  <a:pt x="10220" y="18802"/>
                </a:cubicBezTo>
                <a:cubicBezTo>
                  <a:pt x="10317" y="18782"/>
                  <a:pt x="10283" y="18733"/>
                  <a:pt x="10344" y="18678"/>
                </a:cubicBezTo>
                <a:cubicBezTo>
                  <a:pt x="10352" y="18678"/>
                  <a:pt x="10360" y="18678"/>
                  <a:pt x="10368" y="18678"/>
                </a:cubicBezTo>
                <a:cubicBezTo>
                  <a:pt x="10368" y="18769"/>
                  <a:pt x="10368" y="18860"/>
                  <a:pt x="10368" y="18951"/>
                </a:cubicBezTo>
              </a:path>
              <a:path w="1415" h="4987">
                <a:moveTo>
                  <a:pt x="10716" y="18455"/>
                </a:moveTo>
                <a:cubicBezTo>
                  <a:pt x="10688" y="18592"/>
                  <a:pt x="10631" y="18736"/>
                  <a:pt x="10592" y="18876"/>
                </a:cubicBezTo>
                <a:cubicBezTo>
                  <a:pt x="10584" y="18901"/>
                  <a:pt x="10575" y="18926"/>
                  <a:pt x="10567" y="18951"/>
                </a:cubicBezTo>
              </a:path>
              <a:path w="1415" h="4987">
                <a:moveTo>
                  <a:pt x="9872" y="18926"/>
                </a:moveTo>
                <a:cubicBezTo>
                  <a:pt x="9919" y="18926"/>
                  <a:pt x="9951" y="18906"/>
                  <a:pt x="9996" y="18901"/>
                </a:cubicBezTo>
                <a:cubicBezTo>
                  <a:pt x="10004" y="18901"/>
                  <a:pt x="10013" y="18901"/>
                  <a:pt x="10021" y="1890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4000" y="5653080"/>
            <a:ext cx="4428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6648" y="15726"/>
                </a:moveTo>
                <a:cubicBezTo>
                  <a:pt x="6689" y="15719"/>
                  <a:pt x="6731" y="15708"/>
                  <a:pt x="6772" y="1570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41720" y="4911840"/>
            <a:ext cx="1393560" cy="1839960"/>
          </a:xfrm>
          <a:custGeom>
            <a:avLst/>
            <a:gdLst/>
            <a:ahLst/>
            <a:rect l="l" t="t" r="r" b="b"/>
            <a:pathLst>
              <a:path w="3871" h="5110">
                <a:moveTo>
                  <a:pt x="8508" y="14585"/>
                </a:moveTo>
                <a:cubicBezTo>
                  <a:pt x="8426" y="14612"/>
                  <a:pt x="8544" y="14646"/>
                  <a:pt x="8483" y="14585"/>
                </a:cubicBezTo>
                <a:cubicBezTo>
                  <a:pt x="8459" y="14561"/>
                  <a:pt x="8458" y="14627"/>
                  <a:pt x="8458" y="14660"/>
                </a:cubicBezTo>
                <a:cubicBezTo>
                  <a:pt x="8470" y="14656"/>
                  <a:pt x="8513" y="14609"/>
                  <a:pt x="8483" y="14585"/>
                </a:cubicBezTo>
                <a:cubicBezTo>
                  <a:pt x="8422" y="14536"/>
                  <a:pt x="8451" y="14709"/>
                  <a:pt x="8458" y="14610"/>
                </a:cubicBezTo>
                <a:cubicBezTo>
                  <a:pt x="8458" y="14593"/>
                  <a:pt x="8458" y="14577"/>
                  <a:pt x="8458" y="14560"/>
                </a:cubicBezTo>
                <a:cubicBezTo>
                  <a:pt x="8412" y="14576"/>
                  <a:pt x="8452" y="14627"/>
                  <a:pt x="8458" y="14585"/>
                </a:cubicBezTo>
                <a:cubicBezTo>
                  <a:pt x="8458" y="14577"/>
                  <a:pt x="8458" y="14568"/>
                  <a:pt x="8458" y="14560"/>
                </a:cubicBezTo>
              </a:path>
              <a:path w="3871" h="5110">
                <a:moveTo>
                  <a:pt x="8458" y="15354"/>
                </a:moveTo>
                <a:cubicBezTo>
                  <a:pt x="8449" y="15315"/>
                  <a:pt x="8434" y="15299"/>
                  <a:pt x="8434" y="15255"/>
                </a:cubicBezTo>
                <a:cubicBezTo>
                  <a:pt x="8434" y="15148"/>
                  <a:pt x="8434" y="15057"/>
                  <a:pt x="8409" y="14957"/>
                </a:cubicBezTo>
                <a:cubicBezTo>
                  <a:pt x="8397" y="14911"/>
                  <a:pt x="8398" y="14874"/>
                  <a:pt x="8384" y="14833"/>
                </a:cubicBezTo>
                <a:cubicBezTo>
                  <a:pt x="8384" y="14808"/>
                  <a:pt x="8384" y="14800"/>
                  <a:pt x="8384" y="14784"/>
                </a:cubicBezTo>
                <a:cubicBezTo>
                  <a:pt x="8378" y="14830"/>
                  <a:pt x="8368" y="14864"/>
                  <a:pt x="8359" y="14908"/>
                </a:cubicBezTo>
                <a:cubicBezTo>
                  <a:pt x="8332" y="14854"/>
                  <a:pt x="8367" y="14853"/>
                  <a:pt x="8384" y="14784"/>
                </a:cubicBezTo>
                <a:cubicBezTo>
                  <a:pt x="8384" y="14776"/>
                  <a:pt x="8384" y="14767"/>
                  <a:pt x="8384" y="14759"/>
                </a:cubicBezTo>
                <a:cubicBezTo>
                  <a:pt x="8427" y="14770"/>
                  <a:pt x="8462" y="14821"/>
                  <a:pt x="8483" y="14833"/>
                </a:cubicBezTo>
                <a:cubicBezTo>
                  <a:pt x="8514" y="14851"/>
                  <a:pt x="8508" y="14835"/>
                  <a:pt x="8508" y="14883"/>
                </a:cubicBezTo>
              </a:path>
              <a:path w="3871" h="5110">
                <a:moveTo>
                  <a:pt x="6747" y="14436"/>
                </a:moveTo>
                <a:cubicBezTo>
                  <a:pt x="6706" y="14436"/>
                  <a:pt x="6667" y="14441"/>
                  <a:pt x="6648" y="14486"/>
                </a:cubicBezTo>
                <a:cubicBezTo>
                  <a:pt x="6633" y="14520"/>
                  <a:pt x="6623" y="14544"/>
                  <a:pt x="6623" y="14585"/>
                </a:cubicBezTo>
                <a:cubicBezTo>
                  <a:pt x="6623" y="14618"/>
                  <a:pt x="6623" y="14651"/>
                  <a:pt x="6623" y="14684"/>
                </a:cubicBezTo>
                <a:cubicBezTo>
                  <a:pt x="6679" y="14684"/>
                  <a:pt x="6656" y="14704"/>
                  <a:pt x="6697" y="14709"/>
                </a:cubicBezTo>
                <a:cubicBezTo>
                  <a:pt x="6710" y="14711"/>
                  <a:pt x="6782" y="14692"/>
                  <a:pt x="6796" y="14684"/>
                </a:cubicBezTo>
                <a:cubicBezTo>
                  <a:pt x="6826" y="14668"/>
                  <a:pt x="6843" y="14635"/>
                  <a:pt x="6871" y="14610"/>
                </a:cubicBezTo>
                <a:cubicBezTo>
                  <a:pt x="6901" y="14583"/>
                  <a:pt x="6878" y="14525"/>
                  <a:pt x="6896" y="14511"/>
                </a:cubicBezTo>
                <a:cubicBezTo>
                  <a:pt x="6904" y="14511"/>
                  <a:pt x="6913" y="14511"/>
                  <a:pt x="6921" y="14511"/>
                </a:cubicBezTo>
                <a:cubicBezTo>
                  <a:pt x="6908" y="14473"/>
                  <a:pt x="6899" y="14482"/>
                  <a:pt x="6871" y="14461"/>
                </a:cubicBezTo>
                <a:cubicBezTo>
                  <a:pt x="6833" y="14433"/>
                  <a:pt x="6820" y="14436"/>
                  <a:pt x="6772" y="14436"/>
                </a:cubicBezTo>
                <a:cubicBezTo>
                  <a:pt x="6764" y="14436"/>
                  <a:pt x="6755" y="14436"/>
                  <a:pt x="6747" y="14436"/>
                </a:cubicBezTo>
              </a:path>
              <a:path w="3871" h="5110">
                <a:moveTo>
                  <a:pt x="7193" y="14312"/>
                </a:moveTo>
                <a:cubicBezTo>
                  <a:pt x="7193" y="14386"/>
                  <a:pt x="7169" y="14467"/>
                  <a:pt x="7144" y="14536"/>
                </a:cubicBezTo>
                <a:cubicBezTo>
                  <a:pt x="7105" y="14643"/>
                  <a:pt x="7163" y="14601"/>
                  <a:pt x="7243" y="14585"/>
                </a:cubicBezTo>
                <a:cubicBezTo>
                  <a:pt x="7265" y="14581"/>
                  <a:pt x="7294" y="14585"/>
                  <a:pt x="7317" y="14585"/>
                </a:cubicBezTo>
              </a:path>
              <a:path w="3871" h="5110">
                <a:moveTo>
                  <a:pt x="7293" y="14238"/>
                </a:moveTo>
                <a:cubicBezTo>
                  <a:pt x="7307" y="14413"/>
                  <a:pt x="7305" y="14559"/>
                  <a:pt x="7293" y="14734"/>
                </a:cubicBezTo>
                <a:cubicBezTo>
                  <a:pt x="7290" y="14782"/>
                  <a:pt x="7293" y="14834"/>
                  <a:pt x="7293" y="14883"/>
                </a:cubicBezTo>
              </a:path>
              <a:path w="3871" h="5110">
                <a:moveTo>
                  <a:pt x="6970" y="15627"/>
                </a:moveTo>
                <a:cubicBezTo>
                  <a:pt x="6970" y="15559"/>
                  <a:pt x="6927" y="15802"/>
                  <a:pt x="6921" y="15825"/>
                </a:cubicBezTo>
                <a:cubicBezTo>
                  <a:pt x="6913" y="15850"/>
                  <a:pt x="6904" y="15875"/>
                  <a:pt x="6896" y="15900"/>
                </a:cubicBezTo>
              </a:path>
              <a:path w="3871" h="5110">
                <a:moveTo>
                  <a:pt x="7193" y="15677"/>
                </a:moveTo>
                <a:cubicBezTo>
                  <a:pt x="7232" y="15578"/>
                  <a:pt x="7277" y="15572"/>
                  <a:pt x="7342" y="15627"/>
                </a:cubicBezTo>
                <a:cubicBezTo>
                  <a:pt x="7313" y="15725"/>
                  <a:pt x="7266" y="15772"/>
                  <a:pt x="7193" y="15850"/>
                </a:cubicBezTo>
                <a:cubicBezTo>
                  <a:pt x="7271" y="15837"/>
                  <a:pt x="7349" y="15799"/>
                  <a:pt x="7417" y="15776"/>
                </a:cubicBezTo>
                <a:cubicBezTo>
                  <a:pt x="7425" y="15776"/>
                  <a:pt x="7433" y="15776"/>
                  <a:pt x="7441" y="15776"/>
                </a:cubicBezTo>
              </a:path>
              <a:path w="3871" h="5110">
                <a:moveTo>
                  <a:pt x="6524" y="16049"/>
                </a:moveTo>
                <a:cubicBezTo>
                  <a:pt x="6718" y="16074"/>
                  <a:pt x="6919" y="16034"/>
                  <a:pt x="7119" y="16024"/>
                </a:cubicBezTo>
                <a:cubicBezTo>
                  <a:pt x="7226" y="16019"/>
                  <a:pt x="7273" y="16015"/>
                  <a:pt x="7367" y="15999"/>
                </a:cubicBezTo>
              </a:path>
              <a:path w="3871" h="5110">
                <a:moveTo>
                  <a:pt x="7342" y="16049"/>
                </a:moveTo>
                <a:cubicBezTo>
                  <a:pt x="7267" y="16091"/>
                  <a:pt x="7219" y="16120"/>
                  <a:pt x="7193" y="16197"/>
                </a:cubicBezTo>
                <a:cubicBezTo>
                  <a:pt x="7176" y="16248"/>
                  <a:pt x="7129" y="16401"/>
                  <a:pt x="7243" y="16396"/>
                </a:cubicBezTo>
                <a:cubicBezTo>
                  <a:pt x="7331" y="16392"/>
                  <a:pt x="7403" y="16276"/>
                  <a:pt x="7392" y="16197"/>
                </a:cubicBezTo>
                <a:cubicBezTo>
                  <a:pt x="7383" y="16137"/>
                  <a:pt x="7339" y="16132"/>
                  <a:pt x="7293" y="16123"/>
                </a:cubicBezTo>
              </a:path>
              <a:path w="3871" h="5110">
                <a:moveTo>
                  <a:pt x="7689" y="15577"/>
                </a:moveTo>
                <a:cubicBezTo>
                  <a:pt x="7622" y="15646"/>
                  <a:pt x="7620" y="15789"/>
                  <a:pt x="7615" y="15900"/>
                </a:cubicBezTo>
                <a:cubicBezTo>
                  <a:pt x="7615" y="15907"/>
                  <a:pt x="7615" y="15990"/>
                  <a:pt x="7615" y="15925"/>
                </a:cubicBezTo>
              </a:path>
              <a:path w="3871" h="5110">
                <a:moveTo>
                  <a:pt x="7541" y="15825"/>
                </a:moveTo>
                <a:cubicBezTo>
                  <a:pt x="7541" y="15883"/>
                  <a:pt x="7551" y="15904"/>
                  <a:pt x="7565" y="15949"/>
                </a:cubicBezTo>
                <a:cubicBezTo>
                  <a:pt x="7565" y="15957"/>
                  <a:pt x="7565" y="15966"/>
                  <a:pt x="7565" y="15974"/>
                </a:cubicBezTo>
                <a:cubicBezTo>
                  <a:pt x="7601" y="15962"/>
                  <a:pt x="7619" y="15906"/>
                  <a:pt x="7665" y="15875"/>
                </a:cubicBezTo>
                <a:cubicBezTo>
                  <a:pt x="7681" y="15867"/>
                  <a:pt x="7698" y="15858"/>
                  <a:pt x="7714" y="15850"/>
                </a:cubicBezTo>
              </a:path>
              <a:path w="3871" h="5110">
                <a:moveTo>
                  <a:pt x="7640" y="16098"/>
                </a:moveTo>
                <a:cubicBezTo>
                  <a:pt x="7606" y="16166"/>
                  <a:pt x="7615" y="16237"/>
                  <a:pt x="7615" y="16321"/>
                </a:cubicBezTo>
                <a:cubicBezTo>
                  <a:pt x="7615" y="16363"/>
                  <a:pt x="7615" y="16438"/>
                  <a:pt x="7615" y="16396"/>
                </a:cubicBezTo>
              </a:path>
              <a:path w="3871" h="5110">
                <a:moveTo>
                  <a:pt x="7640" y="14312"/>
                </a:moveTo>
                <a:cubicBezTo>
                  <a:pt x="7666" y="14312"/>
                  <a:pt x="7642" y="14343"/>
                  <a:pt x="7615" y="14387"/>
                </a:cubicBezTo>
                <a:cubicBezTo>
                  <a:pt x="7579" y="14448"/>
                  <a:pt x="7565" y="14487"/>
                  <a:pt x="7565" y="14560"/>
                </a:cubicBezTo>
                <a:cubicBezTo>
                  <a:pt x="7565" y="14626"/>
                  <a:pt x="7573" y="14633"/>
                  <a:pt x="7590" y="14684"/>
                </a:cubicBezTo>
                <a:cubicBezTo>
                  <a:pt x="7596" y="14703"/>
                  <a:pt x="7628" y="14745"/>
                  <a:pt x="7665" y="14734"/>
                </a:cubicBezTo>
                <a:cubicBezTo>
                  <a:pt x="7719" y="14718"/>
                  <a:pt x="7750" y="14699"/>
                  <a:pt x="7789" y="14660"/>
                </a:cubicBezTo>
                <a:cubicBezTo>
                  <a:pt x="7822" y="14627"/>
                  <a:pt x="7834" y="14555"/>
                  <a:pt x="7838" y="14511"/>
                </a:cubicBezTo>
                <a:cubicBezTo>
                  <a:pt x="7842" y="14469"/>
                  <a:pt x="7800" y="14447"/>
                  <a:pt x="7789" y="14412"/>
                </a:cubicBezTo>
                <a:cubicBezTo>
                  <a:pt x="7775" y="14369"/>
                  <a:pt x="7724" y="14332"/>
                  <a:pt x="7714" y="14312"/>
                </a:cubicBezTo>
                <a:cubicBezTo>
                  <a:pt x="7709" y="14302"/>
                  <a:pt x="7638" y="14260"/>
                  <a:pt x="7615" y="14288"/>
                </a:cubicBezTo>
                <a:cubicBezTo>
                  <a:pt x="7615" y="14312"/>
                  <a:pt x="7615" y="14321"/>
                  <a:pt x="7615" y="14337"/>
                </a:cubicBezTo>
              </a:path>
              <a:path w="3871" h="5110">
                <a:moveTo>
                  <a:pt x="8086" y="15553"/>
                </a:moveTo>
                <a:cubicBezTo>
                  <a:pt x="8103" y="15694"/>
                  <a:pt x="8086" y="15828"/>
                  <a:pt x="8086" y="15974"/>
                </a:cubicBezTo>
                <a:cubicBezTo>
                  <a:pt x="8086" y="16032"/>
                  <a:pt x="8086" y="16090"/>
                  <a:pt x="8086" y="16148"/>
                </a:cubicBezTo>
              </a:path>
              <a:path w="3871" h="5110">
                <a:moveTo>
                  <a:pt x="7962" y="16098"/>
                </a:moveTo>
                <a:cubicBezTo>
                  <a:pt x="7967" y="16114"/>
                  <a:pt x="7985" y="16160"/>
                  <a:pt x="8012" y="16173"/>
                </a:cubicBezTo>
                <a:cubicBezTo>
                  <a:pt x="8075" y="16204"/>
                  <a:pt x="8119" y="16087"/>
                  <a:pt x="8161" y="16073"/>
                </a:cubicBezTo>
                <a:cubicBezTo>
                  <a:pt x="8205" y="16073"/>
                  <a:pt x="8219" y="16070"/>
                  <a:pt x="8235" y="16098"/>
                </a:cubicBezTo>
              </a:path>
              <a:path w="3871" h="5110">
                <a:moveTo>
                  <a:pt x="7938" y="16247"/>
                </a:moveTo>
                <a:cubicBezTo>
                  <a:pt x="7912" y="16282"/>
                  <a:pt x="7913" y="16278"/>
                  <a:pt x="7913" y="16321"/>
                </a:cubicBezTo>
                <a:cubicBezTo>
                  <a:pt x="7991" y="16321"/>
                  <a:pt x="8039" y="16292"/>
                  <a:pt x="8111" y="16272"/>
                </a:cubicBezTo>
                <a:cubicBezTo>
                  <a:pt x="8119" y="16272"/>
                  <a:pt x="8128" y="16272"/>
                  <a:pt x="8136" y="16272"/>
                </a:cubicBezTo>
              </a:path>
              <a:path w="3871" h="5110">
                <a:moveTo>
                  <a:pt x="8111" y="16123"/>
                </a:moveTo>
                <a:cubicBezTo>
                  <a:pt x="8111" y="16252"/>
                  <a:pt x="8111" y="16373"/>
                  <a:pt x="8136" y="16495"/>
                </a:cubicBezTo>
                <a:cubicBezTo>
                  <a:pt x="8136" y="16520"/>
                  <a:pt x="8136" y="16528"/>
                  <a:pt x="8136" y="16495"/>
                </a:cubicBezTo>
              </a:path>
              <a:path w="3871" h="5110">
                <a:moveTo>
                  <a:pt x="8012" y="14288"/>
                </a:moveTo>
                <a:cubicBezTo>
                  <a:pt x="8012" y="14263"/>
                  <a:pt x="8012" y="14255"/>
                  <a:pt x="8012" y="14238"/>
                </a:cubicBezTo>
                <a:cubicBezTo>
                  <a:pt x="8012" y="14320"/>
                  <a:pt x="8000" y="14383"/>
                  <a:pt x="7987" y="14461"/>
                </a:cubicBezTo>
                <a:cubicBezTo>
                  <a:pt x="8070" y="14461"/>
                  <a:pt x="8152" y="14461"/>
                  <a:pt x="8235" y="14461"/>
                </a:cubicBezTo>
              </a:path>
              <a:path w="3871" h="5110">
                <a:moveTo>
                  <a:pt x="8235" y="14114"/>
                </a:moveTo>
                <a:cubicBezTo>
                  <a:pt x="8218" y="14245"/>
                  <a:pt x="8190" y="14373"/>
                  <a:pt x="8186" y="14511"/>
                </a:cubicBezTo>
                <a:cubicBezTo>
                  <a:pt x="8185" y="14552"/>
                  <a:pt x="8186" y="14594"/>
                  <a:pt x="8186" y="14635"/>
                </a:cubicBezTo>
              </a:path>
              <a:path w="3871" h="5110">
                <a:moveTo>
                  <a:pt x="7615" y="16545"/>
                </a:moveTo>
                <a:cubicBezTo>
                  <a:pt x="7628" y="16637"/>
                  <a:pt x="7665" y="16725"/>
                  <a:pt x="7665" y="16818"/>
                </a:cubicBezTo>
              </a:path>
              <a:path w="3871" h="5110">
                <a:moveTo>
                  <a:pt x="7863" y="16570"/>
                </a:moveTo>
                <a:cubicBezTo>
                  <a:pt x="7920" y="16570"/>
                  <a:pt x="7990" y="16552"/>
                  <a:pt x="8037" y="16594"/>
                </a:cubicBezTo>
                <a:cubicBezTo>
                  <a:pt x="8107" y="16656"/>
                  <a:pt x="8014" y="16718"/>
                  <a:pt x="7962" y="16743"/>
                </a:cubicBezTo>
                <a:cubicBezTo>
                  <a:pt x="7899" y="16773"/>
                  <a:pt x="7878" y="16787"/>
                  <a:pt x="7863" y="16743"/>
                </a:cubicBezTo>
                <a:cubicBezTo>
                  <a:pt x="7863" y="16681"/>
                  <a:pt x="7885" y="16681"/>
                  <a:pt x="7962" y="16669"/>
                </a:cubicBezTo>
                <a:cubicBezTo>
                  <a:pt x="8028" y="16659"/>
                  <a:pt x="8077" y="16724"/>
                  <a:pt x="8136" y="16743"/>
                </a:cubicBezTo>
              </a:path>
              <a:path w="3871" h="5110">
                <a:moveTo>
                  <a:pt x="7466" y="16917"/>
                </a:moveTo>
                <a:cubicBezTo>
                  <a:pt x="7593" y="16862"/>
                  <a:pt x="7816" y="16852"/>
                  <a:pt x="7962" y="16842"/>
                </a:cubicBezTo>
                <a:cubicBezTo>
                  <a:pt x="8025" y="16838"/>
                  <a:pt x="8095" y="16842"/>
                  <a:pt x="8161" y="16842"/>
                </a:cubicBezTo>
              </a:path>
              <a:path w="3871" h="5110">
                <a:moveTo>
                  <a:pt x="8012" y="17041"/>
                </a:moveTo>
                <a:cubicBezTo>
                  <a:pt x="8048" y="17014"/>
                  <a:pt x="8065" y="16978"/>
                  <a:pt x="8111" y="16966"/>
                </a:cubicBezTo>
                <a:cubicBezTo>
                  <a:pt x="8203" y="16943"/>
                  <a:pt x="8271" y="17005"/>
                  <a:pt x="8285" y="17090"/>
                </a:cubicBezTo>
                <a:cubicBezTo>
                  <a:pt x="8306" y="17222"/>
                  <a:pt x="8244" y="17318"/>
                  <a:pt x="8111" y="17338"/>
                </a:cubicBezTo>
                <a:cubicBezTo>
                  <a:pt x="8033" y="17338"/>
                  <a:pt x="8016" y="17353"/>
                  <a:pt x="7987" y="17314"/>
                </a:cubicBezTo>
                <a:cubicBezTo>
                  <a:pt x="7987" y="17253"/>
                  <a:pt x="7992" y="17208"/>
                  <a:pt x="8062" y="17190"/>
                </a:cubicBezTo>
                <a:cubicBezTo>
                  <a:pt x="8119" y="17175"/>
                  <a:pt x="8190" y="17239"/>
                  <a:pt x="8235" y="17264"/>
                </a:cubicBezTo>
                <a:cubicBezTo>
                  <a:pt x="8293" y="17297"/>
                  <a:pt x="8344" y="17289"/>
                  <a:pt x="8409" y="17289"/>
                </a:cubicBezTo>
                <a:cubicBezTo>
                  <a:pt x="8417" y="17289"/>
                  <a:pt x="8426" y="17289"/>
                  <a:pt x="8434" y="17289"/>
                </a:cubicBezTo>
              </a:path>
              <a:path w="3871" h="5110">
                <a:moveTo>
                  <a:pt x="8830" y="15577"/>
                </a:moveTo>
                <a:cubicBezTo>
                  <a:pt x="8830" y="15518"/>
                  <a:pt x="8807" y="15622"/>
                  <a:pt x="8806" y="15627"/>
                </a:cubicBezTo>
                <a:cubicBezTo>
                  <a:pt x="8773" y="15843"/>
                  <a:pt x="8742" y="16412"/>
                  <a:pt x="8830" y="16594"/>
                </a:cubicBezTo>
                <a:cubicBezTo>
                  <a:pt x="8842" y="16618"/>
                  <a:pt x="8830" y="16666"/>
                  <a:pt x="8830" y="16694"/>
                </a:cubicBezTo>
              </a:path>
              <a:path w="3871" h="5110">
                <a:moveTo>
                  <a:pt x="8781" y="16594"/>
                </a:moveTo>
                <a:cubicBezTo>
                  <a:pt x="8781" y="16656"/>
                  <a:pt x="8772" y="16671"/>
                  <a:pt x="8806" y="16694"/>
                </a:cubicBezTo>
                <a:cubicBezTo>
                  <a:pt x="8831" y="16685"/>
                  <a:pt x="8886" y="16632"/>
                  <a:pt x="8905" y="16594"/>
                </a:cubicBezTo>
                <a:cubicBezTo>
                  <a:pt x="8905" y="16570"/>
                  <a:pt x="8905" y="16562"/>
                  <a:pt x="8930" y="16570"/>
                </a:cubicBezTo>
              </a:path>
              <a:path w="3871" h="5110">
                <a:moveTo>
                  <a:pt x="8880" y="16966"/>
                </a:moveTo>
                <a:cubicBezTo>
                  <a:pt x="8857" y="16933"/>
                  <a:pt x="8790" y="16926"/>
                  <a:pt x="8781" y="16991"/>
                </a:cubicBezTo>
                <a:cubicBezTo>
                  <a:pt x="8772" y="17057"/>
                  <a:pt x="8782" y="17063"/>
                  <a:pt x="8830" y="17090"/>
                </a:cubicBezTo>
                <a:cubicBezTo>
                  <a:pt x="8902" y="17131"/>
                  <a:pt x="8969" y="17130"/>
                  <a:pt x="8979" y="17214"/>
                </a:cubicBezTo>
                <a:cubicBezTo>
                  <a:pt x="8986" y="17278"/>
                  <a:pt x="8996" y="17341"/>
                  <a:pt x="8905" y="17338"/>
                </a:cubicBezTo>
                <a:cubicBezTo>
                  <a:pt x="8791" y="17334"/>
                  <a:pt x="8806" y="17331"/>
                  <a:pt x="8806" y="17264"/>
                </a:cubicBezTo>
                <a:cubicBezTo>
                  <a:pt x="8840" y="17208"/>
                  <a:pt x="8930" y="17148"/>
                  <a:pt x="8954" y="17090"/>
                </a:cubicBezTo>
                <a:cubicBezTo>
                  <a:pt x="8954" y="17049"/>
                  <a:pt x="8954" y="17041"/>
                  <a:pt x="8954" y="17016"/>
                </a:cubicBezTo>
              </a:path>
              <a:path w="3871" h="5110">
                <a:moveTo>
                  <a:pt x="8954" y="14337"/>
                </a:moveTo>
                <a:cubicBezTo>
                  <a:pt x="8941" y="14230"/>
                  <a:pt x="8925" y="14210"/>
                  <a:pt x="8830" y="14163"/>
                </a:cubicBezTo>
                <a:cubicBezTo>
                  <a:pt x="8759" y="14128"/>
                  <a:pt x="8737" y="14135"/>
                  <a:pt x="8706" y="14213"/>
                </a:cubicBezTo>
                <a:cubicBezTo>
                  <a:pt x="8661" y="14325"/>
                  <a:pt x="8682" y="14373"/>
                  <a:pt x="8756" y="14461"/>
                </a:cubicBezTo>
                <a:cubicBezTo>
                  <a:pt x="8832" y="14414"/>
                  <a:pt x="8876" y="14375"/>
                  <a:pt x="8905" y="14288"/>
                </a:cubicBezTo>
                <a:cubicBezTo>
                  <a:pt x="8924" y="14230"/>
                  <a:pt x="8933" y="14223"/>
                  <a:pt x="8930" y="14188"/>
                </a:cubicBezTo>
                <a:cubicBezTo>
                  <a:pt x="8937" y="14321"/>
                  <a:pt x="8954" y="14451"/>
                  <a:pt x="8954" y="14585"/>
                </a:cubicBezTo>
                <a:cubicBezTo>
                  <a:pt x="8954" y="14610"/>
                  <a:pt x="8954" y="14618"/>
                  <a:pt x="8954" y="14635"/>
                </a:cubicBezTo>
              </a:path>
              <a:path w="3871" h="5110">
                <a:moveTo>
                  <a:pt x="8210" y="17512"/>
                </a:moveTo>
                <a:cubicBezTo>
                  <a:pt x="8234" y="17441"/>
                  <a:pt x="8315" y="17502"/>
                  <a:pt x="8359" y="17537"/>
                </a:cubicBezTo>
                <a:cubicBezTo>
                  <a:pt x="8445" y="17605"/>
                  <a:pt x="8333" y="17716"/>
                  <a:pt x="8260" y="17735"/>
                </a:cubicBezTo>
                <a:cubicBezTo>
                  <a:pt x="8186" y="17735"/>
                  <a:pt x="8177" y="17735"/>
                  <a:pt x="8136" y="17735"/>
                </a:cubicBezTo>
                <a:cubicBezTo>
                  <a:pt x="8177" y="17621"/>
                  <a:pt x="8247" y="17571"/>
                  <a:pt x="8384" y="17636"/>
                </a:cubicBezTo>
                <a:cubicBezTo>
                  <a:pt x="8436" y="17660"/>
                  <a:pt x="8414" y="17661"/>
                  <a:pt x="8483" y="17661"/>
                </a:cubicBezTo>
              </a:path>
              <a:path w="3871" h="5110">
                <a:moveTo>
                  <a:pt x="8657" y="17462"/>
                </a:moveTo>
                <a:cubicBezTo>
                  <a:pt x="8710" y="17462"/>
                  <a:pt x="8826" y="17386"/>
                  <a:pt x="8855" y="17413"/>
                </a:cubicBezTo>
                <a:cubicBezTo>
                  <a:pt x="8918" y="17471"/>
                  <a:pt x="8867" y="17575"/>
                  <a:pt x="8855" y="17636"/>
                </a:cubicBezTo>
              </a:path>
              <a:path w="3871" h="5110">
                <a:moveTo>
                  <a:pt x="7615" y="17487"/>
                </a:moveTo>
                <a:cubicBezTo>
                  <a:pt x="7652" y="17487"/>
                  <a:pt x="7709" y="17497"/>
                  <a:pt x="7739" y="17512"/>
                </a:cubicBezTo>
                <a:cubicBezTo>
                  <a:pt x="7764" y="17529"/>
                  <a:pt x="7788" y="17545"/>
                  <a:pt x="7813" y="17562"/>
                </a:cubicBezTo>
              </a:path>
              <a:path w="3871" h="5110">
                <a:moveTo>
                  <a:pt x="7590" y="17934"/>
                </a:moveTo>
                <a:cubicBezTo>
                  <a:pt x="7763" y="17905"/>
                  <a:pt x="7936" y="17879"/>
                  <a:pt x="8111" y="17859"/>
                </a:cubicBezTo>
                <a:cubicBezTo>
                  <a:pt x="8373" y="17829"/>
                  <a:pt x="8648" y="17856"/>
                  <a:pt x="8905" y="17785"/>
                </a:cubicBezTo>
                <a:cubicBezTo>
                  <a:pt x="9001" y="17758"/>
                  <a:pt x="9080" y="17732"/>
                  <a:pt x="9178" y="17711"/>
                </a:cubicBezTo>
              </a:path>
              <a:path w="3871" h="5110">
                <a:moveTo>
                  <a:pt x="9079" y="17884"/>
                </a:moveTo>
                <a:cubicBezTo>
                  <a:pt x="9079" y="17992"/>
                  <a:pt x="9079" y="18099"/>
                  <a:pt x="9079" y="18207"/>
                </a:cubicBezTo>
              </a:path>
              <a:path w="3871" h="5110">
                <a:moveTo>
                  <a:pt x="9203" y="15751"/>
                </a:moveTo>
                <a:cubicBezTo>
                  <a:pt x="9203" y="16214"/>
                  <a:pt x="9190" y="16681"/>
                  <a:pt x="9227" y="17140"/>
                </a:cubicBezTo>
                <a:cubicBezTo>
                  <a:pt x="9234" y="17222"/>
                  <a:pt x="9248" y="17283"/>
                  <a:pt x="9252" y="17363"/>
                </a:cubicBezTo>
                <a:cubicBezTo>
                  <a:pt x="9259" y="17515"/>
                  <a:pt x="9254" y="17664"/>
                  <a:pt x="9277" y="17810"/>
                </a:cubicBezTo>
                <a:cubicBezTo>
                  <a:pt x="9277" y="17826"/>
                  <a:pt x="9277" y="17843"/>
                  <a:pt x="9277" y="17859"/>
                </a:cubicBezTo>
              </a:path>
              <a:path w="3871" h="5110">
                <a:moveTo>
                  <a:pt x="9376" y="17884"/>
                </a:moveTo>
                <a:cubicBezTo>
                  <a:pt x="9376" y="17945"/>
                  <a:pt x="9339" y="17976"/>
                  <a:pt x="9327" y="18033"/>
                </a:cubicBezTo>
                <a:cubicBezTo>
                  <a:pt x="9314" y="18092"/>
                  <a:pt x="9319" y="18183"/>
                  <a:pt x="9351" y="18207"/>
                </a:cubicBezTo>
                <a:cubicBezTo>
                  <a:pt x="9409" y="18250"/>
                  <a:pt x="9472" y="18222"/>
                  <a:pt x="9525" y="18182"/>
                </a:cubicBezTo>
                <a:cubicBezTo>
                  <a:pt x="9581" y="18140"/>
                  <a:pt x="9599" y="18098"/>
                  <a:pt x="9599" y="18033"/>
                </a:cubicBezTo>
                <a:cubicBezTo>
                  <a:pt x="9599" y="18008"/>
                  <a:pt x="9599" y="18000"/>
                  <a:pt x="9599" y="17983"/>
                </a:cubicBezTo>
                <a:cubicBezTo>
                  <a:pt x="9541" y="17993"/>
                  <a:pt x="9503" y="18034"/>
                  <a:pt x="9475" y="18107"/>
                </a:cubicBezTo>
                <a:cubicBezTo>
                  <a:pt x="9457" y="18152"/>
                  <a:pt x="9475" y="18199"/>
                  <a:pt x="9500" y="18231"/>
                </a:cubicBezTo>
              </a:path>
              <a:path w="3871" h="5110">
                <a:moveTo>
                  <a:pt x="9475" y="14139"/>
                </a:moveTo>
                <a:cubicBezTo>
                  <a:pt x="9397" y="14165"/>
                  <a:pt x="9315" y="14213"/>
                  <a:pt x="9252" y="14188"/>
                </a:cubicBezTo>
                <a:cubicBezTo>
                  <a:pt x="9252" y="14234"/>
                  <a:pt x="9228" y="14333"/>
                  <a:pt x="9277" y="14337"/>
                </a:cubicBezTo>
                <a:cubicBezTo>
                  <a:pt x="9363" y="14344"/>
                  <a:pt x="9487" y="14321"/>
                  <a:pt x="9451" y="14461"/>
                </a:cubicBezTo>
                <a:cubicBezTo>
                  <a:pt x="9421" y="14576"/>
                  <a:pt x="9302" y="14626"/>
                  <a:pt x="9203" y="14660"/>
                </a:cubicBezTo>
              </a:path>
              <a:path w="3871" h="5110">
                <a:moveTo>
                  <a:pt x="9128" y="18306"/>
                </a:moveTo>
                <a:cubicBezTo>
                  <a:pt x="9144" y="18380"/>
                  <a:pt x="9153" y="18431"/>
                  <a:pt x="9153" y="18504"/>
                </a:cubicBezTo>
              </a:path>
              <a:path w="3871" h="5110">
                <a:moveTo>
                  <a:pt x="9599" y="18207"/>
                </a:moveTo>
                <a:cubicBezTo>
                  <a:pt x="9562" y="18214"/>
                  <a:pt x="9498" y="18222"/>
                  <a:pt x="9475" y="18256"/>
                </a:cubicBezTo>
                <a:cubicBezTo>
                  <a:pt x="9448" y="18296"/>
                  <a:pt x="9451" y="18313"/>
                  <a:pt x="9451" y="18355"/>
                </a:cubicBezTo>
                <a:cubicBezTo>
                  <a:pt x="9479" y="18335"/>
                  <a:pt x="9553" y="18298"/>
                  <a:pt x="9575" y="18355"/>
                </a:cubicBezTo>
                <a:cubicBezTo>
                  <a:pt x="9604" y="18430"/>
                  <a:pt x="9499" y="18466"/>
                  <a:pt x="9451" y="18479"/>
                </a:cubicBezTo>
                <a:cubicBezTo>
                  <a:pt x="9443" y="18479"/>
                  <a:pt x="9434" y="18479"/>
                  <a:pt x="9426" y="18479"/>
                </a:cubicBezTo>
              </a:path>
              <a:path w="3871" h="5110">
                <a:moveTo>
                  <a:pt x="8706" y="18355"/>
                </a:moveTo>
                <a:cubicBezTo>
                  <a:pt x="8747" y="18355"/>
                  <a:pt x="8789" y="18355"/>
                  <a:pt x="8830" y="18355"/>
                </a:cubicBezTo>
              </a:path>
              <a:path w="3871" h="5110">
                <a:moveTo>
                  <a:pt x="8632" y="18628"/>
                </a:moveTo>
                <a:cubicBezTo>
                  <a:pt x="8828" y="18600"/>
                  <a:pt x="9009" y="18574"/>
                  <a:pt x="9203" y="18529"/>
                </a:cubicBezTo>
                <a:cubicBezTo>
                  <a:pt x="9322" y="18501"/>
                  <a:pt x="9474" y="18499"/>
                  <a:pt x="9575" y="18479"/>
                </a:cubicBezTo>
                <a:cubicBezTo>
                  <a:pt x="9583" y="18471"/>
                  <a:pt x="9591" y="18463"/>
                  <a:pt x="9599" y="18455"/>
                </a:cubicBezTo>
              </a:path>
              <a:path w="3871" h="5110">
                <a:moveTo>
                  <a:pt x="9575" y="18653"/>
                </a:moveTo>
                <a:cubicBezTo>
                  <a:pt x="9575" y="18645"/>
                  <a:pt x="9575" y="18636"/>
                  <a:pt x="9575" y="18628"/>
                </a:cubicBezTo>
                <a:cubicBezTo>
                  <a:pt x="9566" y="18672"/>
                  <a:pt x="9550" y="18705"/>
                  <a:pt x="9550" y="18752"/>
                </a:cubicBezTo>
              </a:path>
              <a:path w="3871" h="5110">
                <a:moveTo>
                  <a:pt x="9575" y="18579"/>
                </a:moveTo>
                <a:cubicBezTo>
                  <a:pt x="9563" y="18640"/>
                  <a:pt x="9550" y="18686"/>
                  <a:pt x="9550" y="18752"/>
                </a:cubicBezTo>
              </a:path>
              <a:path w="3871" h="5110">
                <a:moveTo>
                  <a:pt x="9723" y="13816"/>
                </a:moveTo>
                <a:cubicBezTo>
                  <a:pt x="9715" y="13816"/>
                  <a:pt x="9707" y="13816"/>
                  <a:pt x="9699" y="13816"/>
                </a:cubicBezTo>
                <a:cubicBezTo>
                  <a:pt x="9726" y="13837"/>
                  <a:pt x="9759" y="13855"/>
                  <a:pt x="9798" y="13841"/>
                </a:cubicBezTo>
                <a:cubicBezTo>
                  <a:pt x="9851" y="13822"/>
                  <a:pt x="9867" y="13816"/>
                  <a:pt x="9922" y="13816"/>
                </a:cubicBezTo>
                <a:cubicBezTo>
                  <a:pt x="9967" y="13816"/>
                  <a:pt x="9980" y="13796"/>
                  <a:pt x="10021" y="13791"/>
                </a:cubicBezTo>
                <a:cubicBezTo>
                  <a:pt x="10066" y="13786"/>
                  <a:pt x="10082" y="13807"/>
                  <a:pt x="10096" y="13767"/>
                </a:cubicBezTo>
              </a:path>
              <a:path w="3871" h="5110">
                <a:moveTo>
                  <a:pt x="6424" y="13791"/>
                </a:moveTo>
                <a:cubicBezTo>
                  <a:pt x="6416" y="13779"/>
                  <a:pt x="6339" y="13722"/>
                  <a:pt x="6300" y="13742"/>
                </a:cubicBezTo>
                <a:cubicBezTo>
                  <a:pt x="6241" y="13773"/>
                  <a:pt x="6226" y="13833"/>
                  <a:pt x="6226" y="13891"/>
                </a:cubicBezTo>
                <a:cubicBezTo>
                  <a:pt x="6295" y="13902"/>
                  <a:pt x="6352" y="13915"/>
                  <a:pt x="6424" y="13915"/>
                </a:cubicBezTo>
                <a:cubicBezTo>
                  <a:pt x="6468" y="14045"/>
                  <a:pt x="6443" y="14084"/>
                  <a:pt x="6300" y="14114"/>
                </a:cubicBezTo>
                <a:cubicBezTo>
                  <a:pt x="6181" y="14139"/>
                  <a:pt x="6234" y="14043"/>
                  <a:pt x="6251" y="13965"/>
                </a:cubicBezTo>
              </a:path>
              <a:path w="3871" h="5110">
                <a:moveTo>
                  <a:pt x="6276" y="13643"/>
                </a:moveTo>
                <a:cubicBezTo>
                  <a:pt x="6314" y="13816"/>
                  <a:pt x="6386" y="13989"/>
                  <a:pt x="6424" y="14163"/>
                </a:cubicBezTo>
                <a:cubicBezTo>
                  <a:pt x="6424" y="14205"/>
                  <a:pt x="6424" y="14213"/>
                  <a:pt x="6424" y="1423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125880"/>
            <a:ext cx="27000" cy="27000"/>
          </a:xfrm>
          <a:custGeom>
            <a:avLst/>
            <a:gdLst/>
            <a:ahLst/>
            <a:rect l="l" t="t" r="r" b="b"/>
            <a:pathLst>
              <a:path w="75" h="75">
                <a:moveTo>
                  <a:pt x="13122" y="8682"/>
                </a:moveTo>
                <a:cubicBezTo>
                  <a:pt x="13147" y="8707"/>
                  <a:pt x="13171" y="8731"/>
                  <a:pt x="13196" y="8756"/>
                </a:cubicBezTo>
              </a:path>
              <a:path w="75" h="75">
                <a:moveTo>
                  <a:pt x="13196" y="8756"/>
                </a:moveTo>
                <a:lnTo>
                  <a:pt x="13196" y="8756"/>
                </a:ln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4200" y="3071880"/>
            <a:ext cx="428760" cy="376200"/>
          </a:xfrm>
          <a:custGeom>
            <a:avLst/>
            <a:gdLst/>
            <a:ahLst/>
            <a:rect l="l" t="t" r="r" b="b"/>
            <a:pathLst>
              <a:path w="1192" h="1043">
                <a:moveTo>
                  <a:pt x="7144" y="8756"/>
                </a:moveTo>
                <a:cubicBezTo>
                  <a:pt x="7233" y="8979"/>
                  <a:pt x="7172" y="9218"/>
                  <a:pt x="7119" y="9451"/>
                </a:cubicBezTo>
                <a:cubicBezTo>
                  <a:pt x="7111" y="9476"/>
                  <a:pt x="7102" y="9500"/>
                  <a:pt x="7094" y="9525"/>
                </a:cubicBezTo>
                <a:cubicBezTo>
                  <a:pt x="7094" y="9275"/>
                  <a:pt x="7091" y="9022"/>
                  <a:pt x="7169" y="8781"/>
                </a:cubicBezTo>
                <a:cubicBezTo>
                  <a:pt x="7206" y="8724"/>
                  <a:pt x="7222" y="8721"/>
                  <a:pt x="7218" y="8682"/>
                </a:cubicBezTo>
                <a:cubicBezTo>
                  <a:pt x="7430" y="8929"/>
                  <a:pt x="7506" y="9149"/>
                  <a:pt x="7615" y="9451"/>
                </a:cubicBezTo>
                <a:cubicBezTo>
                  <a:pt x="7635" y="9491"/>
                  <a:pt x="7644" y="9517"/>
                  <a:pt x="7640" y="9475"/>
                </a:cubicBezTo>
                <a:cubicBezTo>
                  <a:pt x="7662" y="9160"/>
                  <a:pt x="7411" y="8384"/>
                  <a:pt x="7689" y="8533"/>
                </a:cubicBezTo>
                <a:cubicBezTo>
                  <a:pt x="7730" y="8591"/>
                  <a:pt x="7772" y="8648"/>
                  <a:pt x="7813" y="8706"/>
                </a:cubicBezTo>
              </a:path>
              <a:path w="1192" h="1043">
                <a:moveTo>
                  <a:pt x="8136" y="8781"/>
                </a:moveTo>
                <a:cubicBezTo>
                  <a:pt x="7891" y="8781"/>
                  <a:pt x="7868" y="9019"/>
                  <a:pt x="7838" y="9252"/>
                </a:cubicBezTo>
                <a:cubicBezTo>
                  <a:pt x="7838" y="9466"/>
                  <a:pt x="7809" y="9531"/>
                  <a:pt x="7962" y="9575"/>
                </a:cubicBezTo>
                <a:cubicBezTo>
                  <a:pt x="8147" y="9377"/>
                  <a:pt x="8529" y="9011"/>
                  <a:pt x="8111" y="8830"/>
                </a:cubicBezTo>
                <a:cubicBezTo>
                  <a:pt x="8070" y="8830"/>
                  <a:pt x="8028" y="8830"/>
                  <a:pt x="7987" y="8830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63920" y="3044880"/>
            <a:ext cx="2600280" cy="420480"/>
          </a:xfrm>
          <a:custGeom>
            <a:avLst/>
            <a:gdLst/>
            <a:ahLst/>
            <a:rect l="l" t="t" r="r" b="b"/>
            <a:pathLst>
              <a:path w="7219" h="1167">
                <a:moveTo>
                  <a:pt x="9624" y="8880"/>
                </a:moveTo>
                <a:cubicBezTo>
                  <a:pt x="9705" y="9122"/>
                  <a:pt x="9766" y="9368"/>
                  <a:pt x="9723" y="9624"/>
                </a:cubicBezTo>
                <a:cubicBezTo>
                  <a:pt x="9723" y="9608"/>
                  <a:pt x="9723" y="9591"/>
                  <a:pt x="9723" y="9575"/>
                </a:cubicBezTo>
                <a:cubicBezTo>
                  <a:pt x="9714" y="9074"/>
                  <a:pt x="9619" y="8711"/>
                  <a:pt x="10096" y="8682"/>
                </a:cubicBezTo>
                <a:cubicBezTo>
                  <a:pt x="10155" y="8996"/>
                  <a:pt x="10143" y="9202"/>
                  <a:pt x="9748" y="9153"/>
                </a:cubicBezTo>
                <a:cubicBezTo>
                  <a:pt x="9710" y="9115"/>
                  <a:pt x="9712" y="9122"/>
                  <a:pt x="9773" y="9203"/>
                </a:cubicBezTo>
                <a:cubicBezTo>
                  <a:pt x="10091" y="9498"/>
                  <a:pt x="10221" y="9625"/>
                  <a:pt x="10641" y="9401"/>
                </a:cubicBezTo>
                <a:cubicBezTo>
                  <a:pt x="10699" y="9360"/>
                  <a:pt x="10757" y="9318"/>
                  <a:pt x="10815" y="9277"/>
                </a:cubicBezTo>
              </a:path>
              <a:path w="7219" h="1167">
                <a:moveTo>
                  <a:pt x="10641" y="9128"/>
                </a:moveTo>
                <a:cubicBezTo>
                  <a:pt x="10871" y="9062"/>
                  <a:pt x="10980" y="9044"/>
                  <a:pt x="10939" y="8806"/>
                </a:cubicBezTo>
                <a:cubicBezTo>
                  <a:pt x="10715" y="8893"/>
                  <a:pt x="10468" y="9202"/>
                  <a:pt x="10691" y="9475"/>
                </a:cubicBezTo>
                <a:cubicBezTo>
                  <a:pt x="10920" y="9755"/>
                  <a:pt x="11255" y="9145"/>
                  <a:pt x="11311" y="9004"/>
                </a:cubicBezTo>
                <a:cubicBezTo>
                  <a:pt x="11311" y="8987"/>
                  <a:pt x="11311" y="8971"/>
                  <a:pt x="11311" y="8954"/>
                </a:cubicBezTo>
                <a:cubicBezTo>
                  <a:pt x="11295" y="9150"/>
                  <a:pt x="11314" y="9327"/>
                  <a:pt x="11336" y="9525"/>
                </a:cubicBezTo>
                <a:cubicBezTo>
                  <a:pt x="11325" y="9452"/>
                  <a:pt x="11246" y="8751"/>
                  <a:pt x="11485" y="9029"/>
                </a:cubicBezTo>
                <a:cubicBezTo>
                  <a:pt x="11595" y="9248"/>
                  <a:pt x="11627" y="9300"/>
                  <a:pt x="11658" y="9451"/>
                </a:cubicBezTo>
                <a:cubicBezTo>
                  <a:pt x="11544" y="9535"/>
                  <a:pt x="11541" y="9031"/>
                  <a:pt x="11633" y="8954"/>
                </a:cubicBezTo>
                <a:cubicBezTo>
                  <a:pt x="11771" y="8838"/>
                  <a:pt x="11936" y="9464"/>
                  <a:pt x="11956" y="9525"/>
                </a:cubicBezTo>
              </a:path>
              <a:path w="7219" h="1167">
                <a:moveTo>
                  <a:pt x="12700" y="9227"/>
                </a:moveTo>
                <a:cubicBezTo>
                  <a:pt x="12700" y="9012"/>
                  <a:pt x="12628" y="8941"/>
                  <a:pt x="12477" y="8806"/>
                </a:cubicBezTo>
                <a:cubicBezTo>
                  <a:pt x="12446" y="8875"/>
                  <a:pt x="12117" y="9666"/>
                  <a:pt x="12477" y="9525"/>
                </a:cubicBezTo>
                <a:cubicBezTo>
                  <a:pt x="12730" y="9426"/>
                  <a:pt x="12718" y="9155"/>
                  <a:pt x="12725" y="8954"/>
                </a:cubicBezTo>
                <a:cubicBezTo>
                  <a:pt x="12725" y="8946"/>
                  <a:pt x="12725" y="8938"/>
                  <a:pt x="12725" y="8930"/>
                </a:cubicBezTo>
                <a:cubicBezTo>
                  <a:pt x="12750" y="9035"/>
                  <a:pt x="12798" y="9542"/>
                  <a:pt x="12973" y="9525"/>
                </a:cubicBezTo>
                <a:cubicBezTo>
                  <a:pt x="13111" y="9511"/>
                  <a:pt x="13148" y="9127"/>
                  <a:pt x="13171" y="9029"/>
                </a:cubicBezTo>
                <a:cubicBezTo>
                  <a:pt x="13201" y="9224"/>
                  <a:pt x="13221" y="9363"/>
                  <a:pt x="13320" y="9525"/>
                </a:cubicBezTo>
              </a:path>
              <a:path w="7219" h="1167">
                <a:moveTo>
                  <a:pt x="13692" y="9327"/>
                </a:moveTo>
                <a:cubicBezTo>
                  <a:pt x="13711" y="9442"/>
                  <a:pt x="13720" y="9458"/>
                  <a:pt x="13717" y="9525"/>
                </a:cubicBezTo>
                <a:cubicBezTo>
                  <a:pt x="13633" y="9373"/>
                  <a:pt x="13584" y="9117"/>
                  <a:pt x="13692" y="8954"/>
                </a:cubicBezTo>
                <a:cubicBezTo>
                  <a:pt x="13733" y="8929"/>
                  <a:pt x="13775" y="8905"/>
                  <a:pt x="13816" y="8880"/>
                </a:cubicBezTo>
                <a:cubicBezTo>
                  <a:pt x="14037" y="9082"/>
                  <a:pt x="14115" y="9231"/>
                  <a:pt x="14188" y="9525"/>
                </a:cubicBezTo>
              </a:path>
              <a:path w="7219" h="1167">
                <a:moveTo>
                  <a:pt x="14982" y="9128"/>
                </a:moveTo>
                <a:cubicBezTo>
                  <a:pt x="15008" y="9026"/>
                  <a:pt x="14885" y="8795"/>
                  <a:pt x="14734" y="8880"/>
                </a:cubicBezTo>
                <a:cubicBezTo>
                  <a:pt x="14446" y="9042"/>
                  <a:pt x="14497" y="9323"/>
                  <a:pt x="14511" y="9575"/>
                </a:cubicBezTo>
                <a:cubicBezTo>
                  <a:pt x="14932" y="9400"/>
                  <a:pt x="14982" y="9146"/>
                  <a:pt x="14932" y="8682"/>
                </a:cubicBezTo>
                <a:cubicBezTo>
                  <a:pt x="14897" y="8541"/>
                  <a:pt x="14881" y="8535"/>
                  <a:pt x="14883" y="8458"/>
                </a:cubicBezTo>
                <a:cubicBezTo>
                  <a:pt x="14911" y="8808"/>
                  <a:pt x="14979" y="9152"/>
                  <a:pt x="15032" y="9500"/>
                </a:cubicBezTo>
              </a:path>
              <a:path w="7219" h="1167">
                <a:moveTo>
                  <a:pt x="15280" y="9128"/>
                </a:moveTo>
                <a:cubicBezTo>
                  <a:pt x="15430" y="9137"/>
                  <a:pt x="15656" y="9205"/>
                  <a:pt x="15801" y="9153"/>
                </a:cubicBezTo>
                <a:cubicBezTo>
                  <a:pt x="15793" y="9145"/>
                  <a:pt x="15784" y="9136"/>
                  <a:pt x="15776" y="9128"/>
                </a:cubicBezTo>
                <a:cubicBezTo>
                  <a:pt x="15649" y="9014"/>
                  <a:pt x="15435" y="8777"/>
                  <a:pt x="15255" y="8979"/>
                </a:cubicBezTo>
                <a:cubicBezTo>
                  <a:pt x="15161" y="9214"/>
                  <a:pt x="15127" y="9283"/>
                  <a:pt x="15180" y="9451"/>
                </a:cubicBezTo>
                <a:cubicBezTo>
                  <a:pt x="15545" y="9572"/>
                  <a:pt x="15637" y="9341"/>
                  <a:pt x="15850" y="9029"/>
                </a:cubicBezTo>
                <a:cubicBezTo>
                  <a:pt x="15883" y="8981"/>
                  <a:pt x="15873" y="9315"/>
                  <a:pt x="15875" y="9351"/>
                </a:cubicBezTo>
                <a:cubicBezTo>
                  <a:pt x="15875" y="9675"/>
                  <a:pt x="15875" y="9005"/>
                  <a:pt x="15875" y="9004"/>
                </a:cubicBezTo>
                <a:cubicBezTo>
                  <a:pt x="15925" y="8655"/>
                  <a:pt x="16166" y="8778"/>
                  <a:pt x="16421" y="8830"/>
                </a:cubicBezTo>
              </a:path>
              <a:path w="7219" h="1167">
                <a:moveTo>
                  <a:pt x="16768" y="8880"/>
                </a:moveTo>
                <a:cubicBezTo>
                  <a:pt x="16614" y="8923"/>
                  <a:pt x="16509" y="8968"/>
                  <a:pt x="16371" y="9054"/>
                </a:cubicBezTo>
                <a:cubicBezTo>
                  <a:pt x="16608" y="9145"/>
                  <a:pt x="16695" y="9174"/>
                  <a:pt x="16842" y="9376"/>
                </a:cubicBezTo>
                <a:cubicBezTo>
                  <a:pt x="16678" y="9576"/>
                  <a:pt x="16558" y="9589"/>
                  <a:pt x="16321" y="945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7960" y="2955960"/>
            <a:ext cx="44280" cy="517320"/>
          </a:xfrm>
          <a:custGeom>
            <a:avLst/>
            <a:gdLst/>
            <a:ahLst/>
            <a:rect l="l" t="t" r="r" b="b"/>
            <a:pathLst>
              <a:path w="125" h="1440">
                <a:moveTo>
                  <a:pt x="17711" y="8210"/>
                </a:moveTo>
                <a:cubicBezTo>
                  <a:pt x="17728" y="8562"/>
                  <a:pt x="17733" y="8900"/>
                  <a:pt x="17711" y="9252"/>
                </a:cubicBezTo>
              </a:path>
              <a:path w="125" h="1440">
                <a:moveTo>
                  <a:pt x="17686" y="9550"/>
                </a:moveTo>
                <a:cubicBezTo>
                  <a:pt x="17673" y="9624"/>
                  <a:pt x="17763" y="9633"/>
                  <a:pt x="17785" y="9575"/>
                </a:cubicBezTo>
                <a:cubicBezTo>
                  <a:pt x="17785" y="9567"/>
                  <a:pt x="17785" y="9558"/>
                  <a:pt x="17785" y="9550"/>
                </a:cubicBezTo>
                <a:cubicBezTo>
                  <a:pt x="17760" y="9612"/>
                  <a:pt x="17680" y="9659"/>
                  <a:pt x="17785" y="962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9160" y="4732200"/>
            <a:ext cx="152640" cy="268560"/>
          </a:xfrm>
          <a:custGeom>
            <a:avLst/>
            <a:gdLst/>
            <a:ahLst/>
            <a:rect l="l" t="t" r="r" b="b"/>
            <a:pathLst>
              <a:path w="423" h="746">
                <a:moveTo>
                  <a:pt x="15503" y="13295"/>
                </a:moveTo>
                <a:cubicBezTo>
                  <a:pt x="15418" y="13212"/>
                  <a:pt x="15281" y="13234"/>
                  <a:pt x="15180" y="13320"/>
                </a:cubicBezTo>
                <a:cubicBezTo>
                  <a:pt x="15120" y="13401"/>
                  <a:pt x="15105" y="13414"/>
                  <a:pt x="15081" y="13469"/>
                </a:cubicBezTo>
                <a:cubicBezTo>
                  <a:pt x="15177" y="13495"/>
                  <a:pt x="15387" y="13483"/>
                  <a:pt x="15429" y="13618"/>
                </a:cubicBezTo>
                <a:cubicBezTo>
                  <a:pt x="15476" y="13770"/>
                  <a:pt x="15216" y="13735"/>
                  <a:pt x="15156" y="13717"/>
                </a:cubicBezTo>
                <a:cubicBezTo>
                  <a:pt x="15128" y="13634"/>
                  <a:pt x="15126" y="13603"/>
                  <a:pt x="15205" y="13568"/>
                </a:cubicBezTo>
              </a:path>
              <a:path w="423" h="746">
                <a:moveTo>
                  <a:pt x="15354" y="13146"/>
                </a:moveTo>
                <a:cubicBezTo>
                  <a:pt x="15378" y="13335"/>
                  <a:pt x="15417" y="13526"/>
                  <a:pt x="15429" y="13717"/>
                </a:cubicBezTo>
                <a:cubicBezTo>
                  <a:pt x="15429" y="13825"/>
                  <a:pt x="15429" y="13833"/>
                  <a:pt x="15429" y="1389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4830840"/>
            <a:ext cx="581040" cy="339480"/>
          </a:xfrm>
          <a:custGeom>
            <a:avLst/>
            <a:gdLst/>
            <a:ahLst/>
            <a:rect l="l" t="t" r="r" b="b"/>
            <a:pathLst>
              <a:path w="1613" h="944">
                <a:moveTo>
                  <a:pt x="15999" y="13618"/>
                </a:moveTo>
                <a:cubicBezTo>
                  <a:pt x="16058" y="13702"/>
                  <a:pt x="16133" y="13833"/>
                  <a:pt x="15999" y="13915"/>
                </a:cubicBezTo>
                <a:cubicBezTo>
                  <a:pt x="15999" y="13907"/>
                  <a:pt x="15999" y="13899"/>
                  <a:pt x="15999" y="13891"/>
                </a:cubicBezTo>
                <a:cubicBezTo>
                  <a:pt x="16131" y="13891"/>
                  <a:pt x="16264" y="13891"/>
                  <a:pt x="16396" y="13891"/>
                </a:cubicBezTo>
              </a:path>
              <a:path w="1613" h="944">
                <a:moveTo>
                  <a:pt x="16321" y="13444"/>
                </a:moveTo>
                <a:cubicBezTo>
                  <a:pt x="16344" y="13687"/>
                  <a:pt x="16375" y="13946"/>
                  <a:pt x="16421" y="14188"/>
                </a:cubicBezTo>
                <a:cubicBezTo>
                  <a:pt x="16440" y="14246"/>
                  <a:pt x="16449" y="14289"/>
                  <a:pt x="16446" y="14238"/>
                </a:cubicBezTo>
              </a:path>
              <a:path w="1613" h="944">
                <a:moveTo>
                  <a:pt x="16669" y="13767"/>
                </a:moveTo>
                <a:cubicBezTo>
                  <a:pt x="16625" y="13931"/>
                  <a:pt x="16554" y="14159"/>
                  <a:pt x="16669" y="14312"/>
                </a:cubicBezTo>
                <a:cubicBezTo>
                  <a:pt x="16694" y="14320"/>
                  <a:pt x="16718" y="14329"/>
                  <a:pt x="16743" y="14337"/>
                </a:cubicBezTo>
                <a:cubicBezTo>
                  <a:pt x="16937" y="14213"/>
                  <a:pt x="16930" y="14067"/>
                  <a:pt x="16842" y="13841"/>
                </a:cubicBezTo>
                <a:cubicBezTo>
                  <a:pt x="16813" y="13767"/>
                  <a:pt x="16719" y="13780"/>
                  <a:pt x="16694" y="13742"/>
                </a:cubicBezTo>
              </a:path>
              <a:path w="1613" h="944">
                <a:moveTo>
                  <a:pt x="17165" y="13791"/>
                </a:moveTo>
                <a:cubicBezTo>
                  <a:pt x="17165" y="13869"/>
                  <a:pt x="17181" y="13887"/>
                  <a:pt x="17140" y="13915"/>
                </a:cubicBezTo>
                <a:cubicBezTo>
                  <a:pt x="17249" y="13915"/>
                  <a:pt x="17338" y="13984"/>
                  <a:pt x="17438" y="13990"/>
                </a:cubicBezTo>
                <a:cubicBezTo>
                  <a:pt x="17540" y="13996"/>
                  <a:pt x="17530" y="13957"/>
                  <a:pt x="17537" y="13891"/>
                </a:cubicBezTo>
              </a:path>
              <a:path w="1613" h="944">
                <a:moveTo>
                  <a:pt x="17388" y="13419"/>
                </a:moveTo>
                <a:cubicBezTo>
                  <a:pt x="17479" y="13709"/>
                  <a:pt x="17578" y="13984"/>
                  <a:pt x="17611" y="14288"/>
                </a:cubicBezTo>
                <a:cubicBezTo>
                  <a:pt x="17611" y="14354"/>
                  <a:pt x="17611" y="14387"/>
                  <a:pt x="17611" y="1431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5960" y="4867200"/>
            <a:ext cx="507960" cy="285840"/>
          </a:xfrm>
          <a:custGeom>
            <a:avLst/>
            <a:gdLst/>
            <a:ahLst/>
            <a:rect l="l" t="t" r="r" b="b"/>
            <a:pathLst>
              <a:path w="1414" h="794">
                <a:moveTo>
                  <a:pt x="17959" y="14213"/>
                </a:moveTo>
                <a:cubicBezTo>
                  <a:pt x="17998" y="14199"/>
                  <a:pt x="17983" y="14179"/>
                  <a:pt x="17983" y="14238"/>
                </a:cubicBezTo>
              </a:path>
              <a:path w="1414" h="794">
                <a:moveTo>
                  <a:pt x="18653" y="13965"/>
                </a:moveTo>
                <a:cubicBezTo>
                  <a:pt x="18653" y="13799"/>
                  <a:pt x="18621" y="13693"/>
                  <a:pt x="18504" y="13568"/>
                </a:cubicBezTo>
                <a:cubicBezTo>
                  <a:pt x="18479" y="13552"/>
                  <a:pt x="18455" y="13535"/>
                  <a:pt x="18430" y="13519"/>
                </a:cubicBezTo>
                <a:cubicBezTo>
                  <a:pt x="18332" y="13625"/>
                  <a:pt x="18201" y="13901"/>
                  <a:pt x="18430" y="13990"/>
                </a:cubicBezTo>
                <a:cubicBezTo>
                  <a:pt x="18611" y="14060"/>
                  <a:pt x="18623" y="13727"/>
                  <a:pt x="18628" y="13643"/>
                </a:cubicBezTo>
                <a:cubicBezTo>
                  <a:pt x="18699" y="13758"/>
                  <a:pt x="18694" y="13998"/>
                  <a:pt x="18703" y="14139"/>
                </a:cubicBezTo>
                <a:cubicBezTo>
                  <a:pt x="18703" y="14246"/>
                  <a:pt x="18703" y="14254"/>
                  <a:pt x="18703" y="14312"/>
                </a:cubicBezTo>
              </a:path>
              <a:path w="1414" h="794">
                <a:moveTo>
                  <a:pt x="19075" y="13568"/>
                </a:moveTo>
                <a:cubicBezTo>
                  <a:pt x="19075" y="13506"/>
                  <a:pt x="19033" y="13674"/>
                  <a:pt x="19025" y="13692"/>
                </a:cubicBezTo>
                <a:cubicBezTo>
                  <a:pt x="18990" y="13772"/>
                  <a:pt x="18976" y="13828"/>
                  <a:pt x="18976" y="13915"/>
                </a:cubicBezTo>
                <a:cubicBezTo>
                  <a:pt x="18976" y="13969"/>
                  <a:pt x="18928" y="14034"/>
                  <a:pt x="18951" y="14089"/>
                </a:cubicBezTo>
                <a:cubicBezTo>
                  <a:pt x="18968" y="14131"/>
                  <a:pt x="18995" y="14161"/>
                  <a:pt x="19000" y="14213"/>
                </a:cubicBezTo>
                <a:cubicBezTo>
                  <a:pt x="19004" y="14258"/>
                  <a:pt x="19078" y="14259"/>
                  <a:pt x="19124" y="14263"/>
                </a:cubicBezTo>
                <a:cubicBezTo>
                  <a:pt x="19194" y="14268"/>
                  <a:pt x="19241" y="14255"/>
                  <a:pt x="19298" y="14238"/>
                </a:cubicBezTo>
                <a:cubicBezTo>
                  <a:pt x="19338" y="14226"/>
                  <a:pt x="19325" y="14198"/>
                  <a:pt x="19348" y="14163"/>
                </a:cubicBezTo>
                <a:cubicBezTo>
                  <a:pt x="19366" y="14136"/>
                  <a:pt x="19383" y="14087"/>
                  <a:pt x="19348" y="14064"/>
                </a:cubicBezTo>
                <a:cubicBezTo>
                  <a:pt x="19329" y="14051"/>
                  <a:pt x="19307" y="14026"/>
                  <a:pt x="19273" y="14015"/>
                </a:cubicBezTo>
                <a:cubicBezTo>
                  <a:pt x="19237" y="14003"/>
                  <a:pt x="19205" y="14046"/>
                  <a:pt x="19199" y="14064"/>
                </a:cubicBezTo>
                <a:cubicBezTo>
                  <a:pt x="19192" y="14085"/>
                  <a:pt x="19133" y="14288"/>
                  <a:pt x="19199" y="14288"/>
                </a:cubicBezTo>
                <a:cubicBezTo>
                  <a:pt x="19199" y="14280"/>
                  <a:pt x="19199" y="14271"/>
                  <a:pt x="19199" y="14263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imes you may need to divide decimals by decima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can’t divide by a decimal, so you have to turn the divisor into a whole number.  Remember any change you make to the divisor, you must also make to the dividen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Weis has canned corn on sale for $1.67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14.5 ounce can.  To see if that is a better d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the can $1.70 for 15 ounce, you will n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to find the cost of each ou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43000" y="5105520"/>
                <a:ext cx="1195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02452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181480" y="5181480"/>
                <a:ext cx="1476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5200" y="3313080"/>
            <a:ext cx="1500120" cy="714240"/>
          </a:xfrm>
          <a:custGeom>
            <a:avLst/>
            <a:gdLst/>
            <a:ahLst/>
            <a:rect l="l" t="t" r="r" b="b"/>
            <a:pathLst>
              <a:path w="4168" h="1985">
                <a:moveTo>
                  <a:pt x="4986" y="10344"/>
                </a:moveTo>
                <a:cubicBezTo>
                  <a:pt x="4986" y="10352"/>
                  <a:pt x="4986" y="10360"/>
                  <a:pt x="4986" y="10368"/>
                </a:cubicBezTo>
              </a:path>
              <a:path w="4168" h="1985">
                <a:moveTo>
                  <a:pt x="3919" y="9748"/>
                </a:moveTo>
                <a:lnTo>
                  <a:pt x="3919" y="9748"/>
                </a:lnTo>
              </a:path>
              <a:path w="4168" h="1985">
                <a:moveTo>
                  <a:pt x="819" y="10393"/>
                </a:moveTo>
                <a:cubicBezTo>
                  <a:pt x="819" y="10269"/>
                  <a:pt x="825" y="10543"/>
                  <a:pt x="843" y="10666"/>
                </a:cubicBezTo>
                <a:cubicBezTo>
                  <a:pt x="855" y="10746"/>
                  <a:pt x="906" y="11162"/>
                  <a:pt x="943" y="11162"/>
                </a:cubicBezTo>
              </a:path>
              <a:path w="4168" h="1985">
                <a:moveTo>
                  <a:pt x="1141" y="10790"/>
                </a:moveTo>
                <a:cubicBezTo>
                  <a:pt x="1149" y="10807"/>
                  <a:pt x="1158" y="10823"/>
                  <a:pt x="1166" y="10840"/>
                </a:cubicBezTo>
              </a:path>
              <a:path w="4168" h="1985">
                <a:moveTo>
                  <a:pt x="1240" y="10220"/>
                </a:moveTo>
                <a:cubicBezTo>
                  <a:pt x="1240" y="10374"/>
                  <a:pt x="1294" y="10520"/>
                  <a:pt x="1339" y="10666"/>
                </a:cubicBezTo>
                <a:cubicBezTo>
                  <a:pt x="1385" y="10815"/>
                  <a:pt x="1517" y="11018"/>
                  <a:pt x="1637" y="10790"/>
                </a:cubicBezTo>
                <a:cubicBezTo>
                  <a:pt x="1699" y="10671"/>
                  <a:pt x="1696" y="10605"/>
                  <a:pt x="1662" y="10492"/>
                </a:cubicBezTo>
                <a:cubicBezTo>
                  <a:pt x="1509" y="10576"/>
                  <a:pt x="1509" y="10690"/>
                  <a:pt x="1563" y="10864"/>
                </a:cubicBezTo>
                <a:cubicBezTo>
                  <a:pt x="1571" y="10872"/>
                  <a:pt x="1580" y="10881"/>
                  <a:pt x="1588" y="10889"/>
                </a:cubicBezTo>
              </a:path>
              <a:path w="4168" h="1985">
                <a:moveTo>
                  <a:pt x="2108" y="10790"/>
                </a:moveTo>
                <a:cubicBezTo>
                  <a:pt x="2088" y="10630"/>
                  <a:pt x="2051" y="10469"/>
                  <a:pt x="1984" y="10319"/>
                </a:cubicBezTo>
                <a:cubicBezTo>
                  <a:pt x="1951" y="10246"/>
                  <a:pt x="1854" y="10088"/>
                  <a:pt x="1786" y="10046"/>
                </a:cubicBezTo>
                <a:cubicBezTo>
                  <a:pt x="1778" y="10046"/>
                  <a:pt x="1769" y="10046"/>
                  <a:pt x="1761" y="10046"/>
                </a:cubicBezTo>
                <a:cubicBezTo>
                  <a:pt x="2174" y="9887"/>
                  <a:pt x="2568" y="9692"/>
                  <a:pt x="2977" y="9525"/>
                </a:cubicBezTo>
                <a:cubicBezTo>
                  <a:pt x="3177" y="9443"/>
                  <a:pt x="3328" y="9371"/>
                  <a:pt x="3473" y="9426"/>
                </a:cubicBezTo>
              </a:path>
              <a:path w="4168" h="1985">
                <a:moveTo>
                  <a:pt x="2232" y="10220"/>
                </a:moveTo>
                <a:cubicBezTo>
                  <a:pt x="2232" y="10165"/>
                  <a:pt x="2220" y="10107"/>
                  <a:pt x="2282" y="10071"/>
                </a:cubicBezTo>
                <a:cubicBezTo>
                  <a:pt x="2440" y="9980"/>
                  <a:pt x="2449" y="10169"/>
                  <a:pt x="2406" y="10269"/>
                </a:cubicBezTo>
                <a:cubicBezTo>
                  <a:pt x="2367" y="10308"/>
                  <a:pt x="2350" y="10340"/>
                  <a:pt x="2356" y="10294"/>
                </a:cubicBezTo>
                <a:cubicBezTo>
                  <a:pt x="2468" y="10247"/>
                  <a:pt x="2751" y="10191"/>
                  <a:pt x="2629" y="10443"/>
                </a:cubicBezTo>
                <a:cubicBezTo>
                  <a:pt x="2587" y="10530"/>
                  <a:pt x="2511" y="10531"/>
                  <a:pt x="2431" y="10542"/>
                </a:cubicBezTo>
              </a:path>
              <a:path w="4168" h="1985">
                <a:moveTo>
                  <a:pt x="1116" y="10889"/>
                </a:moveTo>
                <a:cubicBezTo>
                  <a:pt x="1116" y="10939"/>
                  <a:pt x="1106" y="10976"/>
                  <a:pt x="1141" y="11013"/>
                </a:cubicBezTo>
                <a:cubicBezTo>
                  <a:pt x="1194" y="11070"/>
                  <a:pt x="1208" y="11112"/>
                  <a:pt x="1290" y="11137"/>
                </a:cubicBezTo>
                <a:cubicBezTo>
                  <a:pt x="1344" y="11154"/>
                  <a:pt x="1429" y="11180"/>
                  <a:pt x="1488" y="11162"/>
                </a:cubicBezTo>
                <a:cubicBezTo>
                  <a:pt x="1557" y="11140"/>
                  <a:pt x="1598" y="11121"/>
                  <a:pt x="1662" y="11088"/>
                </a:cubicBezTo>
                <a:cubicBezTo>
                  <a:pt x="1707" y="11064"/>
                  <a:pt x="1751" y="11044"/>
                  <a:pt x="1786" y="11013"/>
                </a:cubicBezTo>
                <a:cubicBezTo>
                  <a:pt x="1819" y="10983"/>
                  <a:pt x="1856" y="10930"/>
                  <a:pt x="1860" y="10889"/>
                </a:cubicBezTo>
                <a:cubicBezTo>
                  <a:pt x="1864" y="10849"/>
                  <a:pt x="1900" y="10808"/>
                  <a:pt x="1885" y="10765"/>
                </a:cubicBezTo>
                <a:cubicBezTo>
                  <a:pt x="1867" y="10714"/>
                  <a:pt x="1860" y="10715"/>
                  <a:pt x="1860" y="10666"/>
                </a:cubicBezTo>
              </a:path>
              <a:path w="4168" h="1985">
                <a:moveTo>
                  <a:pt x="1885" y="10666"/>
                </a:moveTo>
                <a:lnTo>
                  <a:pt x="1885" y="10666"/>
                </a:lnTo>
              </a:path>
              <a:path w="4168" h="1985">
                <a:moveTo>
                  <a:pt x="2853" y="10368"/>
                </a:moveTo>
                <a:cubicBezTo>
                  <a:pt x="2817" y="10342"/>
                  <a:pt x="2793" y="10325"/>
                  <a:pt x="2778" y="10368"/>
                </a:cubicBezTo>
                <a:cubicBezTo>
                  <a:pt x="2809" y="10358"/>
                  <a:pt x="2835" y="10288"/>
                  <a:pt x="2803" y="10294"/>
                </a:cubicBezTo>
                <a:cubicBezTo>
                  <a:pt x="2767" y="10301"/>
                  <a:pt x="2778" y="10345"/>
                  <a:pt x="2778" y="10368"/>
                </a:cubicBezTo>
                <a:cubicBezTo>
                  <a:pt x="2778" y="10314"/>
                  <a:pt x="2778" y="10314"/>
                  <a:pt x="2778" y="10368"/>
                </a:cubicBezTo>
              </a:path>
              <a:path w="4168" h="1985">
                <a:moveTo>
                  <a:pt x="2828" y="10344"/>
                </a:moveTo>
                <a:cubicBezTo>
                  <a:pt x="2860" y="10408"/>
                  <a:pt x="2884" y="10461"/>
                  <a:pt x="2952" y="10492"/>
                </a:cubicBezTo>
                <a:cubicBezTo>
                  <a:pt x="2986" y="10507"/>
                  <a:pt x="3113" y="10549"/>
                  <a:pt x="3150" y="10542"/>
                </a:cubicBezTo>
                <a:cubicBezTo>
                  <a:pt x="3202" y="10532"/>
                  <a:pt x="3303" y="10499"/>
                  <a:pt x="3349" y="10468"/>
                </a:cubicBezTo>
                <a:cubicBezTo>
                  <a:pt x="3378" y="10448"/>
                  <a:pt x="3420" y="10416"/>
                  <a:pt x="3423" y="10393"/>
                </a:cubicBezTo>
                <a:cubicBezTo>
                  <a:pt x="3429" y="10348"/>
                  <a:pt x="3448" y="10323"/>
                  <a:pt x="3448" y="10269"/>
                </a:cubicBezTo>
                <a:cubicBezTo>
                  <a:pt x="3448" y="10222"/>
                  <a:pt x="3411" y="10213"/>
                  <a:pt x="3398" y="10195"/>
                </a:cubicBezTo>
                <a:cubicBezTo>
                  <a:pt x="3366" y="10151"/>
                  <a:pt x="3360" y="10154"/>
                  <a:pt x="3349" y="10120"/>
                </a:cubicBezTo>
              </a:path>
              <a:path w="4168" h="1985">
                <a:moveTo>
                  <a:pt x="2977" y="9277"/>
                </a:moveTo>
                <a:cubicBezTo>
                  <a:pt x="2977" y="9225"/>
                  <a:pt x="2975" y="9208"/>
                  <a:pt x="2927" y="9203"/>
                </a:cubicBezTo>
                <a:cubicBezTo>
                  <a:pt x="2890" y="9215"/>
                  <a:pt x="2904" y="9295"/>
                  <a:pt x="2927" y="9302"/>
                </a:cubicBezTo>
                <a:cubicBezTo>
                  <a:pt x="3056" y="9343"/>
                  <a:pt x="3009" y="9184"/>
                  <a:pt x="2927" y="9203"/>
                </a:cubicBezTo>
                <a:cubicBezTo>
                  <a:pt x="2919" y="9211"/>
                  <a:pt x="2910" y="9219"/>
                  <a:pt x="2902" y="9227"/>
                </a:cubicBezTo>
              </a:path>
              <a:path w="4168" h="1985">
                <a:moveTo>
                  <a:pt x="2977" y="9823"/>
                </a:moveTo>
                <a:cubicBezTo>
                  <a:pt x="2883" y="9823"/>
                  <a:pt x="2889" y="9810"/>
                  <a:pt x="2853" y="9872"/>
                </a:cubicBezTo>
                <a:cubicBezTo>
                  <a:pt x="2775" y="10009"/>
                  <a:pt x="2798" y="10005"/>
                  <a:pt x="2828" y="10145"/>
                </a:cubicBezTo>
                <a:cubicBezTo>
                  <a:pt x="2848" y="10238"/>
                  <a:pt x="2892" y="10247"/>
                  <a:pt x="2977" y="10294"/>
                </a:cubicBezTo>
                <a:cubicBezTo>
                  <a:pt x="3090" y="10357"/>
                  <a:pt x="3104" y="10289"/>
                  <a:pt x="3200" y="10244"/>
                </a:cubicBezTo>
                <a:cubicBezTo>
                  <a:pt x="3254" y="10219"/>
                  <a:pt x="3270" y="10161"/>
                  <a:pt x="3274" y="10096"/>
                </a:cubicBezTo>
                <a:cubicBezTo>
                  <a:pt x="3277" y="10048"/>
                  <a:pt x="3272" y="9986"/>
                  <a:pt x="3249" y="9947"/>
                </a:cubicBezTo>
                <a:cubicBezTo>
                  <a:pt x="3219" y="9895"/>
                  <a:pt x="3103" y="9860"/>
                  <a:pt x="3051" y="9847"/>
                </a:cubicBezTo>
                <a:cubicBezTo>
                  <a:pt x="3005" y="9836"/>
                  <a:pt x="2994" y="9847"/>
                  <a:pt x="2977" y="987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4000" y="3036960"/>
            <a:ext cx="677880" cy="17280"/>
          </a:xfrm>
          <a:custGeom>
            <a:avLst/>
            <a:gdLst/>
            <a:ahLst/>
            <a:rect l="l" t="t" r="r" b="b"/>
            <a:pathLst>
              <a:path w="1886" h="50">
                <a:moveTo>
                  <a:pt x="6648" y="8434"/>
                </a:moveTo>
                <a:cubicBezTo>
                  <a:pt x="6741" y="8455"/>
                  <a:pt x="6847" y="8477"/>
                  <a:pt x="6945" y="8483"/>
                </a:cubicBezTo>
                <a:cubicBezTo>
                  <a:pt x="7154" y="8496"/>
                  <a:pt x="7358" y="8470"/>
                  <a:pt x="7565" y="8458"/>
                </a:cubicBezTo>
                <a:cubicBezTo>
                  <a:pt x="7706" y="8450"/>
                  <a:pt x="7847" y="8439"/>
                  <a:pt x="7987" y="8434"/>
                </a:cubicBezTo>
                <a:cubicBezTo>
                  <a:pt x="8155" y="8428"/>
                  <a:pt x="8323" y="8434"/>
                  <a:pt x="8483" y="8458"/>
                </a:cubicBezTo>
                <a:cubicBezTo>
                  <a:pt x="8527" y="8465"/>
                  <a:pt x="8522" y="8438"/>
                  <a:pt x="8533" y="843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81320" y="3036960"/>
            <a:ext cx="4054680" cy="1650960"/>
          </a:xfrm>
          <a:custGeom>
            <a:avLst/>
            <a:gdLst/>
            <a:ahLst/>
            <a:rect l="l" t="t" r="r" b="b"/>
            <a:pathLst>
              <a:path w="11262" h="4589">
                <a:moveTo>
                  <a:pt x="19298" y="8582"/>
                </a:moveTo>
                <a:cubicBezTo>
                  <a:pt x="19352" y="8567"/>
                  <a:pt x="19386" y="8572"/>
                  <a:pt x="19447" y="8558"/>
                </a:cubicBezTo>
                <a:cubicBezTo>
                  <a:pt x="19579" y="8527"/>
                  <a:pt x="19706" y="8533"/>
                  <a:pt x="19844" y="8533"/>
                </a:cubicBezTo>
                <a:cubicBezTo>
                  <a:pt x="20013" y="8533"/>
                  <a:pt x="20179" y="8538"/>
                  <a:pt x="20340" y="8558"/>
                </a:cubicBezTo>
                <a:cubicBezTo>
                  <a:pt x="20635" y="8595"/>
                  <a:pt x="20969" y="8560"/>
                  <a:pt x="21258" y="8533"/>
                </a:cubicBezTo>
                <a:cubicBezTo>
                  <a:pt x="21365" y="8523"/>
                  <a:pt x="21476" y="8518"/>
                  <a:pt x="21580" y="8508"/>
                </a:cubicBezTo>
                <a:cubicBezTo>
                  <a:pt x="21690" y="8498"/>
                  <a:pt x="21791" y="8483"/>
                  <a:pt x="21903" y="8483"/>
                </a:cubicBezTo>
                <a:cubicBezTo>
                  <a:pt x="22012" y="8483"/>
                  <a:pt x="22141" y="8473"/>
                  <a:pt x="22250" y="8458"/>
                </a:cubicBezTo>
                <a:cubicBezTo>
                  <a:pt x="22360" y="8443"/>
                  <a:pt x="22460" y="8434"/>
                  <a:pt x="22572" y="8434"/>
                </a:cubicBezTo>
                <a:cubicBezTo>
                  <a:pt x="22580" y="8434"/>
                  <a:pt x="22589" y="8434"/>
                  <a:pt x="22597" y="8434"/>
                </a:cubicBezTo>
              </a:path>
              <a:path w="11262" h="4589">
                <a:moveTo>
                  <a:pt x="11336" y="12998"/>
                </a:moveTo>
                <a:cubicBezTo>
                  <a:pt x="11420" y="12985"/>
                  <a:pt x="11499" y="12982"/>
                  <a:pt x="11584" y="12973"/>
                </a:cubicBezTo>
                <a:cubicBezTo>
                  <a:pt x="11709" y="12960"/>
                  <a:pt x="11829" y="12950"/>
                  <a:pt x="11956" y="12948"/>
                </a:cubicBezTo>
                <a:cubicBezTo>
                  <a:pt x="12220" y="12943"/>
                  <a:pt x="12492" y="12936"/>
                  <a:pt x="12750" y="12973"/>
                </a:cubicBezTo>
                <a:cubicBezTo>
                  <a:pt x="12874" y="12991"/>
                  <a:pt x="12995" y="12988"/>
                  <a:pt x="13122" y="12998"/>
                </a:cubicBezTo>
                <a:cubicBezTo>
                  <a:pt x="13264" y="13009"/>
                  <a:pt x="13400" y="13020"/>
                  <a:pt x="13543" y="13022"/>
                </a:cubicBezTo>
                <a:cubicBezTo>
                  <a:pt x="13801" y="13026"/>
                  <a:pt x="14056" y="13013"/>
                  <a:pt x="14312" y="12998"/>
                </a:cubicBezTo>
                <a:cubicBezTo>
                  <a:pt x="14552" y="12984"/>
                  <a:pt x="14794" y="12987"/>
                  <a:pt x="15032" y="12973"/>
                </a:cubicBezTo>
                <a:cubicBezTo>
                  <a:pt x="15239" y="12960"/>
                  <a:pt x="15446" y="12935"/>
                  <a:pt x="15652" y="12923"/>
                </a:cubicBezTo>
                <a:cubicBezTo>
                  <a:pt x="15832" y="12913"/>
                  <a:pt x="16018" y="12917"/>
                  <a:pt x="16197" y="12898"/>
                </a:cubicBezTo>
                <a:cubicBezTo>
                  <a:pt x="16379" y="12878"/>
                  <a:pt x="16561" y="12859"/>
                  <a:pt x="16743" y="12849"/>
                </a:cubicBezTo>
                <a:cubicBezTo>
                  <a:pt x="17377" y="12813"/>
                  <a:pt x="18023" y="12859"/>
                  <a:pt x="18653" y="12824"/>
                </a:cubicBezTo>
                <a:cubicBezTo>
                  <a:pt x="18727" y="12820"/>
                  <a:pt x="18802" y="12827"/>
                  <a:pt x="18876" y="1282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81760" y="4170240"/>
            <a:ext cx="26640" cy="17640"/>
          </a:xfrm>
          <a:custGeom>
            <a:avLst/>
            <a:gdLst/>
            <a:ahLst/>
            <a:rect l="l" t="t" r="r" b="b"/>
            <a:pathLst>
              <a:path w="75" h="50">
                <a:moveTo>
                  <a:pt x="14114" y="11584"/>
                </a:moveTo>
                <a:cubicBezTo>
                  <a:pt x="14127" y="11623"/>
                  <a:pt x="14126" y="11594"/>
                  <a:pt x="14139" y="11633"/>
                </a:cubicBezTo>
                <a:cubicBezTo>
                  <a:pt x="14164" y="11614"/>
                  <a:pt x="14208" y="11609"/>
                  <a:pt x="14163" y="1160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89680" y="3911760"/>
            <a:ext cx="188640" cy="125280"/>
          </a:xfrm>
          <a:custGeom>
            <a:avLst/>
            <a:gdLst/>
            <a:ahLst/>
            <a:rect l="l" t="t" r="r" b="b"/>
            <a:pathLst>
              <a:path w="522" h="349">
                <a:moveTo>
                  <a:pt x="14312" y="11088"/>
                </a:moveTo>
                <a:cubicBezTo>
                  <a:pt x="14301" y="11054"/>
                  <a:pt x="14211" y="11059"/>
                  <a:pt x="14288" y="10988"/>
                </a:cubicBezTo>
                <a:cubicBezTo>
                  <a:pt x="14304" y="10980"/>
                  <a:pt x="14321" y="10972"/>
                  <a:pt x="14337" y="10964"/>
                </a:cubicBezTo>
                <a:cubicBezTo>
                  <a:pt x="14364" y="11082"/>
                  <a:pt x="14320" y="11121"/>
                  <a:pt x="14213" y="11187"/>
                </a:cubicBezTo>
                <a:cubicBezTo>
                  <a:pt x="14169" y="11209"/>
                  <a:pt x="14158" y="11222"/>
                  <a:pt x="14139" y="11187"/>
                </a:cubicBezTo>
                <a:cubicBezTo>
                  <a:pt x="14158" y="11109"/>
                  <a:pt x="14241" y="11095"/>
                  <a:pt x="14312" y="11137"/>
                </a:cubicBezTo>
                <a:cubicBezTo>
                  <a:pt x="14312" y="11165"/>
                  <a:pt x="14314" y="11176"/>
                  <a:pt x="14337" y="11187"/>
                </a:cubicBezTo>
              </a:path>
              <a:path w="522" h="349">
                <a:moveTo>
                  <a:pt x="14585" y="10864"/>
                </a:moveTo>
                <a:cubicBezTo>
                  <a:pt x="14545" y="10864"/>
                  <a:pt x="14459" y="10866"/>
                  <a:pt x="14436" y="10889"/>
                </a:cubicBezTo>
                <a:cubicBezTo>
                  <a:pt x="14423" y="10902"/>
                  <a:pt x="14436" y="10967"/>
                  <a:pt x="14436" y="10988"/>
                </a:cubicBezTo>
                <a:cubicBezTo>
                  <a:pt x="14493" y="10983"/>
                  <a:pt x="14619" y="10942"/>
                  <a:pt x="14660" y="11013"/>
                </a:cubicBezTo>
                <a:cubicBezTo>
                  <a:pt x="14709" y="11099"/>
                  <a:pt x="14553" y="11121"/>
                  <a:pt x="14511" y="11137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4160" y="4768920"/>
            <a:ext cx="2187720" cy="1919160"/>
          </a:xfrm>
          <a:custGeom>
            <a:avLst/>
            <a:gdLst/>
            <a:ahLst/>
            <a:rect l="l" t="t" r="r" b="b"/>
            <a:pathLst>
              <a:path w="6078" h="5334">
                <a:moveTo>
                  <a:pt x="4192" y="15056"/>
                </a:moveTo>
                <a:cubicBezTo>
                  <a:pt x="4168" y="15128"/>
                  <a:pt x="4167" y="15022"/>
                  <a:pt x="4167" y="15081"/>
                </a:cubicBezTo>
                <a:cubicBezTo>
                  <a:pt x="4167" y="15127"/>
                  <a:pt x="4209" y="15140"/>
                  <a:pt x="4217" y="15156"/>
                </a:cubicBezTo>
                <a:cubicBezTo>
                  <a:pt x="4233" y="15186"/>
                  <a:pt x="4279" y="15180"/>
                  <a:pt x="4291" y="15205"/>
                </a:cubicBezTo>
                <a:cubicBezTo>
                  <a:pt x="4308" y="15240"/>
                  <a:pt x="4317" y="15230"/>
                  <a:pt x="4366" y="15230"/>
                </a:cubicBezTo>
                <a:cubicBezTo>
                  <a:pt x="4404" y="15230"/>
                  <a:pt x="4386" y="15255"/>
                  <a:pt x="4440" y="15255"/>
                </a:cubicBezTo>
                <a:cubicBezTo>
                  <a:pt x="4497" y="15255"/>
                  <a:pt x="4518" y="15245"/>
                  <a:pt x="4564" y="15230"/>
                </a:cubicBezTo>
                <a:cubicBezTo>
                  <a:pt x="4607" y="15216"/>
                  <a:pt x="4609" y="15227"/>
                  <a:pt x="4638" y="15205"/>
                </a:cubicBezTo>
                <a:cubicBezTo>
                  <a:pt x="4663" y="15186"/>
                  <a:pt x="4686" y="15151"/>
                  <a:pt x="4688" y="15131"/>
                </a:cubicBezTo>
                <a:cubicBezTo>
                  <a:pt x="4695" y="15078"/>
                  <a:pt x="4709" y="15063"/>
                  <a:pt x="4713" y="15032"/>
                </a:cubicBezTo>
                <a:cubicBezTo>
                  <a:pt x="4717" y="14999"/>
                  <a:pt x="4755" y="14957"/>
                  <a:pt x="4738" y="14932"/>
                </a:cubicBezTo>
                <a:cubicBezTo>
                  <a:pt x="4725" y="14912"/>
                  <a:pt x="4679" y="14917"/>
                  <a:pt x="4688" y="14957"/>
                </a:cubicBezTo>
                <a:cubicBezTo>
                  <a:pt x="4696" y="14965"/>
                  <a:pt x="4705" y="14974"/>
                  <a:pt x="4713" y="14982"/>
                </a:cubicBezTo>
                <a:cubicBezTo>
                  <a:pt x="4715" y="14968"/>
                  <a:pt x="4742" y="14819"/>
                  <a:pt x="4713" y="14858"/>
                </a:cubicBezTo>
                <a:cubicBezTo>
                  <a:pt x="4699" y="14877"/>
                  <a:pt x="4693" y="14930"/>
                  <a:pt x="4688" y="14957"/>
                </a:cubicBezTo>
                <a:cubicBezTo>
                  <a:pt x="4735" y="14934"/>
                  <a:pt x="4765" y="14886"/>
                  <a:pt x="4738" y="14858"/>
                </a:cubicBezTo>
                <a:cubicBezTo>
                  <a:pt x="4707" y="14879"/>
                  <a:pt x="4702" y="14933"/>
                  <a:pt x="4738" y="14883"/>
                </a:cubicBezTo>
                <a:cubicBezTo>
                  <a:pt x="4746" y="14875"/>
                  <a:pt x="4754" y="14866"/>
                  <a:pt x="4762" y="14858"/>
                </a:cubicBezTo>
                <a:cubicBezTo>
                  <a:pt x="4703" y="14899"/>
                  <a:pt x="4759" y="14885"/>
                  <a:pt x="4762" y="14908"/>
                </a:cubicBezTo>
                <a:cubicBezTo>
                  <a:pt x="4762" y="14916"/>
                  <a:pt x="4762" y="14924"/>
                  <a:pt x="4762" y="14932"/>
                </a:cubicBezTo>
              </a:path>
              <a:path w="6078" h="5334">
                <a:moveTo>
                  <a:pt x="5457" y="15081"/>
                </a:moveTo>
                <a:cubicBezTo>
                  <a:pt x="5457" y="15137"/>
                  <a:pt x="5477" y="15115"/>
                  <a:pt x="5482" y="15156"/>
                </a:cubicBezTo>
                <a:cubicBezTo>
                  <a:pt x="5488" y="15201"/>
                  <a:pt x="5509" y="15213"/>
                  <a:pt x="5531" y="15230"/>
                </a:cubicBezTo>
                <a:cubicBezTo>
                  <a:pt x="5562" y="15254"/>
                  <a:pt x="5592" y="15276"/>
                  <a:pt x="5631" y="15280"/>
                </a:cubicBezTo>
                <a:cubicBezTo>
                  <a:pt x="5692" y="15287"/>
                  <a:pt x="5728" y="15269"/>
                  <a:pt x="5755" y="15255"/>
                </a:cubicBezTo>
                <a:cubicBezTo>
                  <a:pt x="5780" y="15242"/>
                  <a:pt x="5853" y="15239"/>
                  <a:pt x="5879" y="15230"/>
                </a:cubicBezTo>
                <a:cubicBezTo>
                  <a:pt x="5913" y="15219"/>
                  <a:pt x="5909" y="15195"/>
                  <a:pt x="5953" y="15180"/>
                </a:cubicBezTo>
                <a:cubicBezTo>
                  <a:pt x="5991" y="15167"/>
                  <a:pt x="5982" y="15159"/>
                  <a:pt x="6003" y="15131"/>
                </a:cubicBezTo>
                <a:cubicBezTo>
                  <a:pt x="6031" y="15093"/>
                  <a:pt x="6028" y="15080"/>
                  <a:pt x="6028" y="15032"/>
                </a:cubicBezTo>
                <a:cubicBezTo>
                  <a:pt x="6028" y="14999"/>
                  <a:pt x="6052" y="15040"/>
                  <a:pt x="6052" y="15007"/>
                </a:cubicBezTo>
                <a:cubicBezTo>
                  <a:pt x="6052" y="14979"/>
                  <a:pt x="6054" y="14968"/>
                  <a:pt x="6077" y="14957"/>
                </a:cubicBezTo>
                <a:cubicBezTo>
                  <a:pt x="6038" y="14977"/>
                  <a:pt x="6029" y="14947"/>
                  <a:pt x="6003" y="14982"/>
                </a:cubicBezTo>
                <a:cubicBezTo>
                  <a:pt x="5992" y="14997"/>
                  <a:pt x="5983" y="15036"/>
                  <a:pt x="5978" y="15056"/>
                </a:cubicBezTo>
                <a:cubicBezTo>
                  <a:pt x="6002" y="15008"/>
                  <a:pt x="6011" y="14994"/>
                  <a:pt x="6003" y="14957"/>
                </a:cubicBezTo>
                <a:cubicBezTo>
                  <a:pt x="5954" y="14981"/>
                  <a:pt x="5926" y="15109"/>
                  <a:pt x="6003" y="15032"/>
                </a:cubicBezTo>
                <a:cubicBezTo>
                  <a:pt x="6023" y="14991"/>
                  <a:pt x="6032" y="14985"/>
                  <a:pt x="6028" y="14957"/>
                </a:cubicBezTo>
                <a:cubicBezTo>
                  <a:pt x="5991" y="14969"/>
                  <a:pt x="6003" y="15052"/>
                  <a:pt x="6003" y="15007"/>
                </a:cubicBezTo>
              </a:path>
              <a:path w="6078" h="5334">
                <a:moveTo>
                  <a:pt x="6052" y="14288"/>
                </a:moveTo>
                <a:cubicBezTo>
                  <a:pt x="6071" y="14282"/>
                  <a:pt x="6108" y="14204"/>
                  <a:pt x="6077" y="14188"/>
                </a:cubicBezTo>
                <a:cubicBezTo>
                  <a:pt x="6029" y="14164"/>
                  <a:pt x="6020" y="14161"/>
                  <a:pt x="6003" y="14188"/>
                </a:cubicBezTo>
                <a:cubicBezTo>
                  <a:pt x="5953" y="14270"/>
                  <a:pt x="5933" y="14254"/>
                  <a:pt x="5978" y="14312"/>
                </a:cubicBezTo>
                <a:cubicBezTo>
                  <a:pt x="6061" y="14263"/>
                  <a:pt x="6061" y="14236"/>
                  <a:pt x="6003" y="14163"/>
                </a:cubicBezTo>
                <a:cubicBezTo>
                  <a:pt x="5973" y="14173"/>
                  <a:pt x="5940" y="14279"/>
                  <a:pt x="6003" y="14263"/>
                </a:cubicBezTo>
                <a:cubicBezTo>
                  <a:pt x="6064" y="14248"/>
                  <a:pt x="5992" y="14135"/>
                  <a:pt x="5953" y="14213"/>
                </a:cubicBezTo>
                <a:cubicBezTo>
                  <a:pt x="5925" y="14269"/>
                  <a:pt x="6019" y="14209"/>
                  <a:pt x="6028" y="14188"/>
                </a:cubicBezTo>
                <a:cubicBezTo>
                  <a:pt x="6028" y="14180"/>
                  <a:pt x="6028" y="14171"/>
                  <a:pt x="6028" y="14163"/>
                </a:cubicBezTo>
                <a:cubicBezTo>
                  <a:pt x="5957" y="14175"/>
                  <a:pt x="5968" y="14223"/>
                  <a:pt x="5978" y="14188"/>
                </a:cubicBezTo>
                <a:cubicBezTo>
                  <a:pt x="5996" y="14123"/>
                  <a:pt x="5919" y="14186"/>
                  <a:pt x="5953" y="14213"/>
                </a:cubicBezTo>
                <a:cubicBezTo>
                  <a:pt x="5961" y="14213"/>
                  <a:pt x="5970" y="14213"/>
                  <a:pt x="5978" y="14213"/>
                </a:cubicBezTo>
              </a:path>
              <a:path w="6078" h="5334">
                <a:moveTo>
                  <a:pt x="6276" y="13915"/>
                </a:moveTo>
                <a:cubicBezTo>
                  <a:pt x="6276" y="13787"/>
                  <a:pt x="6274" y="14006"/>
                  <a:pt x="6276" y="14015"/>
                </a:cubicBezTo>
                <a:cubicBezTo>
                  <a:pt x="6299" y="14110"/>
                  <a:pt x="6281" y="14357"/>
                  <a:pt x="6350" y="14288"/>
                </a:cubicBezTo>
                <a:cubicBezTo>
                  <a:pt x="6366" y="14272"/>
                  <a:pt x="6302" y="14090"/>
                  <a:pt x="6300" y="14064"/>
                </a:cubicBezTo>
                <a:cubicBezTo>
                  <a:pt x="6293" y="13992"/>
                  <a:pt x="6287" y="13936"/>
                  <a:pt x="6276" y="13866"/>
                </a:cubicBezTo>
                <a:cubicBezTo>
                  <a:pt x="6276" y="13809"/>
                  <a:pt x="6325" y="14109"/>
                  <a:pt x="6325" y="14114"/>
                </a:cubicBezTo>
                <a:cubicBezTo>
                  <a:pt x="6325" y="14205"/>
                  <a:pt x="6325" y="14213"/>
                  <a:pt x="6325" y="14263"/>
                </a:cubicBezTo>
                <a:cubicBezTo>
                  <a:pt x="6307" y="14140"/>
                  <a:pt x="6287" y="14015"/>
                  <a:pt x="6276" y="13891"/>
                </a:cubicBezTo>
                <a:cubicBezTo>
                  <a:pt x="6257" y="13676"/>
                  <a:pt x="6346" y="14055"/>
                  <a:pt x="6350" y="14089"/>
                </a:cubicBezTo>
                <a:cubicBezTo>
                  <a:pt x="6350" y="14114"/>
                  <a:pt x="6350" y="14138"/>
                  <a:pt x="6350" y="14163"/>
                </a:cubicBezTo>
              </a:path>
              <a:path w="6078" h="5334">
                <a:moveTo>
                  <a:pt x="5184" y="15230"/>
                </a:moveTo>
                <a:cubicBezTo>
                  <a:pt x="5184" y="15375"/>
                  <a:pt x="5180" y="15512"/>
                  <a:pt x="5159" y="15652"/>
                </a:cubicBezTo>
                <a:cubicBezTo>
                  <a:pt x="5150" y="15713"/>
                  <a:pt x="5234" y="15615"/>
                  <a:pt x="5283" y="15577"/>
                </a:cubicBezTo>
              </a:path>
              <a:path w="6078" h="5334">
                <a:moveTo>
                  <a:pt x="5606" y="15304"/>
                </a:moveTo>
                <a:cubicBezTo>
                  <a:pt x="5625" y="15351"/>
                  <a:pt x="5606" y="15389"/>
                  <a:pt x="5606" y="15453"/>
                </a:cubicBezTo>
                <a:cubicBezTo>
                  <a:pt x="5665" y="15442"/>
                  <a:pt x="5717" y="15410"/>
                  <a:pt x="5779" y="15404"/>
                </a:cubicBezTo>
                <a:cubicBezTo>
                  <a:pt x="5787" y="15404"/>
                  <a:pt x="5796" y="15404"/>
                  <a:pt x="5804" y="15404"/>
                </a:cubicBezTo>
              </a:path>
              <a:path w="6078" h="5334">
                <a:moveTo>
                  <a:pt x="5779" y="15255"/>
                </a:moveTo>
                <a:cubicBezTo>
                  <a:pt x="5763" y="15354"/>
                  <a:pt x="5759" y="15451"/>
                  <a:pt x="5779" y="15553"/>
                </a:cubicBezTo>
                <a:cubicBezTo>
                  <a:pt x="5791" y="15614"/>
                  <a:pt x="5804" y="15624"/>
                  <a:pt x="5804" y="15677"/>
                </a:cubicBezTo>
              </a:path>
              <a:path w="6078" h="5334">
                <a:moveTo>
                  <a:pt x="6325" y="15156"/>
                </a:moveTo>
                <a:cubicBezTo>
                  <a:pt x="6355" y="15156"/>
                  <a:pt x="6177" y="15235"/>
                  <a:pt x="6127" y="15255"/>
                </a:cubicBezTo>
                <a:cubicBezTo>
                  <a:pt x="6076" y="15275"/>
                  <a:pt x="6117" y="15320"/>
                  <a:pt x="6127" y="15379"/>
                </a:cubicBezTo>
                <a:cubicBezTo>
                  <a:pt x="6202" y="15379"/>
                  <a:pt x="6250" y="15335"/>
                  <a:pt x="6325" y="15379"/>
                </a:cubicBezTo>
                <a:cubicBezTo>
                  <a:pt x="6431" y="15441"/>
                  <a:pt x="6350" y="15501"/>
                  <a:pt x="6300" y="15528"/>
                </a:cubicBezTo>
                <a:cubicBezTo>
                  <a:pt x="6241" y="15560"/>
                  <a:pt x="6214" y="15589"/>
                  <a:pt x="6152" y="15602"/>
                </a:cubicBezTo>
              </a:path>
              <a:path w="6078" h="5334">
                <a:moveTo>
                  <a:pt x="4887" y="15850"/>
                </a:moveTo>
                <a:cubicBezTo>
                  <a:pt x="4983" y="15785"/>
                  <a:pt x="5067" y="15779"/>
                  <a:pt x="5184" y="15776"/>
                </a:cubicBezTo>
                <a:cubicBezTo>
                  <a:pt x="5336" y="15772"/>
                  <a:pt x="5505" y="15771"/>
                  <a:pt x="5655" y="15751"/>
                </a:cubicBezTo>
                <a:cubicBezTo>
                  <a:pt x="5845" y="15725"/>
                  <a:pt x="6036" y="15681"/>
                  <a:pt x="6226" y="15652"/>
                </a:cubicBezTo>
                <a:cubicBezTo>
                  <a:pt x="6354" y="15632"/>
                  <a:pt x="6507" y="15599"/>
                  <a:pt x="6623" y="15577"/>
                </a:cubicBezTo>
                <a:cubicBezTo>
                  <a:pt x="6664" y="15569"/>
                  <a:pt x="6665" y="15583"/>
                  <a:pt x="6697" y="15602"/>
                </a:cubicBezTo>
              </a:path>
              <a:path w="6078" h="5334">
                <a:moveTo>
                  <a:pt x="4589" y="15503"/>
                </a:moveTo>
                <a:cubicBezTo>
                  <a:pt x="4626" y="15503"/>
                  <a:pt x="4767" y="15465"/>
                  <a:pt x="4787" y="15478"/>
                </a:cubicBezTo>
                <a:cubicBezTo>
                  <a:pt x="4787" y="15486"/>
                  <a:pt x="4787" y="15495"/>
                  <a:pt x="4787" y="15503"/>
                </a:cubicBezTo>
              </a:path>
              <a:path w="6078" h="5334">
                <a:moveTo>
                  <a:pt x="6276" y="15850"/>
                </a:moveTo>
                <a:cubicBezTo>
                  <a:pt x="6302" y="15785"/>
                  <a:pt x="6312" y="15791"/>
                  <a:pt x="6375" y="15776"/>
                </a:cubicBezTo>
                <a:cubicBezTo>
                  <a:pt x="6396" y="15904"/>
                  <a:pt x="6367" y="15911"/>
                  <a:pt x="6300" y="16024"/>
                </a:cubicBezTo>
                <a:cubicBezTo>
                  <a:pt x="6279" y="16067"/>
                  <a:pt x="6275" y="16079"/>
                  <a:pt x="6251" y="16098"/>
                </a:cubicBezTo>
                <a:cubicBezTo>
                  <a:pt x="6340" y="16059"/>
                  <a:pt x="6430" y="16018"/>
                  <a:pt x="6524" y="15999"/>
                </a:cubicBezTo>
              </a:path>
              <a:path w="6078" h="5334">
                <a:moveTo>
                  <a:pt x="5779" y="16024"/>
                </a:moveTo>
                <a:cubicBezTo>
                  <a:pt x="5779" y="15985"/>
                  <a:pt x="5785" y="15958"/>
                  <a:pt x="5829" y="15949"/>
                </a:cubicBezTo>
                <a:cubicBezTo>
                  <a:pt x="5887" y="15937"/>
                  <a:pt x="5922" y="16015"/>
                  <a:pt x="5904" y="16073"/>
                </a:cubicBezTo>
                <a:cubicBezTo>
                  <a:pt x="5893" y="16109"/>
                  <a:pt x="5786" y="16166"/>
                  <a:pt x="5755" y="16197"/>
                </a:cubicBezTo>
                <a:cubicBezTo>
                  <a:pt x="5747" y="16205"/>
                  <a:pt x="5738" y="16214"/>
                  <a:pt x="5730" y="16222"/>
                </a:cubicBezTo>
                <a:cubicBezTo>
                  <a:pt x="5821" y="16222"/>
                  <a:pt x="5814" y="16129"/>
                  <a:pt x="5904" y="16098"/>
                </a:cubicBezTo>
                <a:cubicBezTo>
                  <a:pt x="5976" y="16073"/>
                  <a:pt x="6012" y="16112"/>
                  <a:pt x="6077" y="16073"/>
                </a:cubicBezTo>
              </a:path>
              <a:path w="6078" h="5334">
                <a:moveTo>
                  <a:pt x="6648" y="14560"/>
                </a:moveTo>
                <a:cubicBezTo>
                  <a:pt x="6618" y="14568"/>
                  <a:pt x="6568" y="14581"/>
                  <a:pt x="6548" y="14610"/>
                </a:cubicBezTo>
                <a:cubicBezTo>
                  <a:pt x="6509" y="14667"/>
                  <a:pt x="6499" y="14717"/>
                  <a:pt x="6499" y="14784"/>
                </a:cubicBezTo>
                <a:cubicBezTo>
                  <a:pt x="6499" y="14812"/>
                  <a:pt x="6512" y="14907"/>
                  <a:pt x="6524" y="14932"/>
                </a:cubicBezTo>
                <a:cubicBezTo>
                  <a:pt x="6539" y="14963"/>
                  <a:pt x="6642" y="14997"/>
                  <a:pt x="6672" y="14982"/>
                </a:cubicBezTo>
                <a:cubicBezTo>
                  <a:pt x="6690" y="14973"/>
                  <a:pt x="6750" y="14927"/>
                  <a:pt x="6772" y="14883"/>
                </a:cubicBezTo>
                <a:cubicBezTo>
                  <a:pt x="6789" y="14849"/>
                  <a:pt x="6796" y="14800"/>
                  <a:pt x="6796" y="14759"/>
                </a:cubicBezTo>
                <a:cubicBezTo>
                  <a:pt x="6796" y="14724"/>
                  <a:pt x="6770" y="14685"/>
                  <a:pt x="6747" y="14660"/>
                </a:cubicBezTo>
                <a:cubicBezTo>
                  <a:pt x="6709" y="14620"/>
                  <a:pt x="6673" y="14573"/>
                  <a:pt x="6623" y="14560"/>
                </a:cubicBezTo>
              </a:path>
              <a:path w="6078" h="5334">
                <a:moveTo>
                  <a:pt x="6697" y="15106"/>
                </a:moveTo>
                <a:cubicBezTo>
                  <a:pt x="6697" y="15033"/>
                  <a:pt x="6670" y="15330"/>
                  <a:pt x="6672" y="15354"/>
                </a:cubicBezTo>
                <a:cubicBezTo>
                  <a:pt x="6690" y="15445"/>
                  <a:pt x="6699" y="15452"/>
                  <a:pt x="6697" y="15503"/>
                </a:cubicBezTo>
              </a:path>
              <a:path w="6078" h="5334">
                <a:moveTo>
                  <a:pt x="6573" y="15404"/>
                </a:moveTo>
                <a:cubicBezTo>
                  <a:pt x="6581" y="15425"/>
                  <a:pt x="6631" y="15516"/>
                  <a:pt x="6648" y="15528"/>
                </a:cubicBezTo>
                <a:cubicBezTo>
                  <a:pt x="6656" y="15528"/>
                  <a:pt x="6664" y="15528"/>
                  <a:pt x="6672" y="15528"/>
                </a:cubicBezTo>
                <a:cubicBezTo>
                  <a:pt x="6727" y="15501"/>
                  <a:pt x="6752" y="15426"/>
                  <a:pt x="6796" y="15404"/>
                </a:cubicBezTo>
                <a:cubicBezTo>
                  <a:pt x="6804" y="15404"/>
                  <a:pt x="6813" y="15404"/>
                  <a:pt x="6821" y="15404"/>
                </a:cubicBezTo>
              </a:path>
              <a:path w="6078" h="5334">
                <a:moveTo>
                  <a:pt x="6821" y="15776"/>
                </a:moveTo>
                <a:cubicBezTo>
                  <a:pt x="6724" y="15776"/>
                  <a:pt x="6704" y="15788"/>
                  <a:pt x="6648" y="15875"/>
                </a:cubicBezTo>
                <a:cubicBezTo>
                  <a:pt x="6603" y="15945"/>
                  <a:pt x="6629" y="15987"/>
                  <a:pt x="6648" y="16049"/>
                </a:cubicBezTo>
                <a:cubicBezTo>
                  <a:pt x="6648" y="16057"/>
                  <a:pt x="6648" y="16065"/>
                  <a:pt x="6648" y="16073"/>
                </a:cubicBezTo>
                <a:cubicBezTo>
                  <a:pt x="6700" y="16073"/>
                  <a:pt x="6719" y="16053"/>
                  <a:pt x="6772" y="16049"/>
                </a:cubicBezTo>
                <a:cubicBezTo>
                  <a:pt x="6824" y="16045"/>
                  <a:pt x="6864" y="16048"/>
                  <a:pt x="6896" y="15999"/>
                </a:cubicBezTo>
                <a:cubicBezTo>
                  <a:pt x="6920" y="15963"/>
                  <a:pt x="6894" y="15876"/>
                  <a:pt x="6871" y="15850"/>
                </a:cubicBezTo>
                <a:cubicBezTo>
                  <a:pt x="6848" y="15824"/>
                  <a:pt x="6821" y="15801"/>
                  <a:pt x="6796" y="15776"/>
                </a:cubicBezTo>
              </a:path>
              <a:path w="6078" h="5334">
                <a:moveTo>
                  <a:pt x="6052" y="14412"/>
                </a:moveTo>
                <a:cubicBezTo>
                  <a:pt x="6096" y="14400"/>
                  <a:pt x="6151" y="14399"/>
                  <a:pt x="6201" y="14387"/>
                </a:cubicBezTo>
                <a:cubicBezTo>
                  <a:pt x="6247" y="14376"/>
                  <a:pt x="6305" y="14374"/>
                  <a:pt x="6350" y="14362"/>
                </a:cubicBezTo>
                <a:cubicBezTo>
                  <a:pt x="6422" y="14342"/>
                  <a:pt x="6439" y="14315"/>
                  <a:pt x="6499" y="14312"/>
                </a:cubicBezTo>
                <a:cubicBezTo>
                  <a:pt x="6611" y="14306"/>
                  <a:pt x="6713" y="14300"/>
                  <a:pt x="6821" y="14288"/>
                </a:cubicBezTo>
                <a:cubicBezTo>
                  <a:pt x="6953" y="14273"/>
                  <a:pt x="7089" y="14277"/>
                  <a:pt x="7218" y="14263"/>
                </a:cubicBezTo>
                <a:cubicBezTo>
                  <a:pt x="7294" y="14254"/>
                  <a:pt x="7364" y="14242"/>
                  <a:pt x="7441" y="14238"/>
                </a:cubicBezTo>
                <a:cubicBezTo>
                  <a:pt x="7506" y="14235"/>
                  <a:pt x="7529" y="14216"/>
                  <a:pt x="7590" y="14213"/>
                </a:cubicBezTo>
                <a:cubicBezTo>
                  <a:pt x="7662" y="14209"/>
                  <a:pt x="7740" y="14168"/>
                  <a:pt x="7813" y="14188"/>
                </a:cubicBezTo>
                <a:cubicBezTo>
                  <a:pt x="7852" y="14199"/>
                  <a:pt x="7869" y="14211"/>
                  <a:pt x="7913" y="14213"/>
                </a:cubicBezTo>
                <a:cubicBezTo>
                  <a:pt x="7986" y="14216"/>
                  <a:pt x="8053" y="14196"/>
                  <a:pt x="8111" y="14188"/>
                </a:cubicBezTo>
                <a:cubicBezTo>
                  <a:pt x="8199" y="14175"/>
                  <a:pt x="8297" y="14173"/>
                  <a:pt x="8384" y="14163"/>
                </a:cubicBezTo>
                <a:cubicBezTo>
                  <a:pt x="8431" y="14158"/>
                  <a:pt x="8485" y="14163"/>
                  <a:pt x="8533" y="14163"/>
                </a:cubicBezTo>
              </a:path>
              <a:path w="6078" h="5334">
                <a:moveTo>
                  <a:pt x="4812" y="14312"/>
                </a:moveTo>
                <a:cubicBezTo>
                  <a:pt x="4801" y="14312"/>
                  <a:pt x="4698" y="14312"/>
                  <a:pt x="4762" y="14312"/>
                </a:cubicBezTo>
                <a:cubicBezTo>
                  <a:pt x="4845" y="14312"/>
                  <a:pt x="4905" y="14334"/>
                  <a:pt x="4986" y="14337"/>
                </a:cubicBezTo>
                <a:cubicBezTo>
                  <a:pt x="5093" y="14341"/>
                  <a:pt x="5186" y="14321"/>
                  <a:pt x="5283" y="14312"/>
                </a:cubicBezTo>
                <a:cubicBezTo>
                  <a:pt x="5341" y="14307"/>
                  <a:pt x="5403" y="14293"/>
                  <a:pt x="5457" y="14288"/>
                </a:cubicBezTo>
                <a:cubicBezTo>
                  <a:pt x="5549" y="14279"/>
                  <a:pt x="5644" y="14273"/>
                  <a:pt x="5730" y="14263"/>
                </a:cubicBezTo>
                <a:cubicBezTo>
                  <a:pt x="5851" y="14249"/>
                  <a:pt x="6047" y="14255"/>
                  <a:pt x="6127" y="14288"/>
                </a:cubicBezTo>
                <a:cubicBezTo>
                  <a:pt x="6178" y="14309"/>
                  <a:pt x="6211" y="14318"/>
                  <a:pt x="6276" y="14312"/>
                </a:cubicBezTo>
                <a:cubicBezTo>
                  <a:pt x="6344" y="14305"/>
                  <a:pt x="6405" y="14290"/>
                  <a:pt x="6474" y="14288"/>
                </a:cubicBezTo>
                <a:cubicBezTo>
                  <a:pt x="6579" y="14284"/>
                  <a:pt x="6675" y="14283"/>
                  <a:pt x="6772" y="14312"/>
                </a:cubicBezTo>
                <a:cubicBezTo>
                  <a:pt x="6846" y="14334"/>
                  <a:pt x="6895" y="14335"/>
                  <a:pt x="6970" y="14337"/>
                </a:cubicBezTo>
                <a:cubicBezTo>
                  <a:pt x="7056" y="14340"/>
                  <a:pt x="7147" y="14318"/>
                  <a:pt x="7218" y="14312"/>
                </a:cubicBezTo>
                <a:cubicBezTo>
                  <a:pt x="7433" y="14294"/>
                  <a:pt x="7657" y="14323"/>
                  <a:pt x="7863" y="14337"/>
                </a:cubicBezTo>
                <a:cubicBezTo>
                  <a:pt x="7958" y="14344"/>
                  <a:pt x="8023" y="14321"/>
                  <a:pt x="8111" y="14312"/>
                </a:cubicBezTo>
                <a:cubicBezTo>
                  <a:pt x="8234" y="14300"/>
                  <a:pt x="8360" y="14294"/>
                  <a:pt x="8483" y="14288"/>
                </a:cubicBezTo>
                <a:cubicBezTo>
                  <a:pt x="8491" y="14288"/>
                  <a:pt x="8500" y="14288"/>
                  <a:pt x="8508" y="14288"/>
                </a:cubicBezTo>
              </a:path>
              <a:path w="6078" h="5334">
                <a:moveTo>
                  <a:pt x="6003" y="14213"/>
                </a:moveTo>
                <a:cubicBezTo>
                  <a:pt x="5945" y="14257"/>
                  <a:pt x="5947" y="14249"/>
                  <a:pt x="5879" y="14238"/>
                </a:cubicBezTo>
                <a:cubicBezTo>
                  <a:pt x="5871" y="14238"/>
                  <a:pt x="5862" y="14238"/>
                  <a:pt x="5854" y="14238"/>
                </a:cubicBezTo>
                <a:cubicBezTo>
                  <a:pt x="5857" y="14276"/>
                  <a:pt x="5971" y="14469"/>
                  <a:pt x="5978" y="14337"/>
                </a:cubicBezTo>
                <a:cubicBezTo>
                  <a:pt x="5983" y="14251"/>
                  <a:pt x="5808" y="14122"/>
                  <a:pt x="5829" y="14288"/>
                </a:cubicBezTo>
                <a:cubicBezTo>
                  <a:pt x="5847" y="14427"/>
                  <a:pt x="5953" y="14395"/>
                  <a:pt x="5953" y="14263"/>
                </a:cubicBezTo>
                <a:cubicBezTo>
                  <a:pt x="5953" y="14041"/>
                  <a:pt x="5813" y="14189"/>
                  <a:pt x="5829" y="14337"/>
                </a:cubicBezTo>
                <a:cubicBezTo>
                  <a:pt x="5837" y="14354"/>
                  <a:pt x="5846" y="14370"/>
                  <a:pt x="5854" y="14387"/>
                </a:cubicBezTo>
                <a:cubicBezTo>
                  <a:pt x="5938" y="14359"/>
                  <a:pt x="5968" y="14340"/>
                  <a:pt x="5978" y="14263"/>
                </a:cubicBezTo>
                <a:cubicBezTo>
                  <a:pt x="5946" y="14073"/>
                  <a:pt x="5867" y="14193"/>
                  <a:pt x="5904" y="14312"/>
                </a:cubicBezTo>
                <a:cubicBezTo>
                  <a:pt x="5943" y="14437"/>
                  <a:pt x="6117" y="14237"/>
                  <a:pt x="6003" y="14163"/>
                </a:cubicBezTo>
                <a:cubicBezTo>
                  <a:pt x="5869" y="14077"/>
                  <a:pt x="5880" y="14322"/>
                  <a:pt x="5928" y="14362"/>
                </a:cubicBezTo>
              </a:path>
              <a:path w="6078" h="5334">
                <a:moveTo>
                  <a:pt x="6821" y="13816"/>
                </a:moveTo>
                <a:cubicBezTo>
                  <a:pt x="6821" y="13941"/>
                  <a:pt x="6804" y="14069"/>
                  <a:pt x="6846" y="14188"/>
                </a:cubicBezTo>
                <a:cubicBezTo>
                  <a:pt x="6866" y="14229"/>
                  <a:pt x="6885" y="14245"/>
                  <a:pt x="6846" y="14238"/>
                </a:cubicBezTo>
              </a:path>
              <a:path w="6078" h="5334">
                <a:moveTo>
                  <a:pt x="5978" y="16346"/>
                </a:moveTo>
                <a:cubicBezTo>
                  <a:pt x="5970" y="16338"/>
                  <a:pt x="5961" y="16329"/>
                  <a:pt x="5953" y="16321"/>
                </a:cubicBezTo>
                <a:cubicBezTo>
                  <a:pt x="5953" y="16418"/>
                  <a:pt x="5955" y="16512"/>
                  <a:pt x="5978" y="16594"/>
                </a:cubicBezTo>
                <a:cubicBezTo>
                  <a:pt x="5978" y="16619"/>
                  <a:pt x="5978" y="16627"/>
                  <a:pt x="5978" y="16594"/>
                </a:cubicBezTo>
              </a:path>
              <a:path w="6078" h="5334">
                <a:moveTo>
                  <a:pt x="6300" y="16297"/>
                </a:moveTo>
                <a:cubicBezTo>
                  <a:pt x="6300" y="16338"/>
                  <a:pt x="6300" y="16346"/>
                  <a:pt x="6300" y="16371"/>
                </a:cubicBezTo>
                <a:cubicBezTo>
                  <a:pt x="6351" y="16363"/>
                  <a:pt x="6396" y="16346"/>
                  <a:pt x="6449" y="16346"/>
                </a:cubicBezTo>
              </a:path>
              <a:path w="6078" h="5334">
                <a:moveTo>
                  <a:pt x="6400" y="16173"/>
                </a:moveTo>
                <a:cubicBezTo>
                  <a:pt x="6400" y="16281"/>
                  <a:pt x="6440" y="16346"/>
                  <a:pt x="6474" y="16446"/>
                </a:cubicBezTo>
                <a:cubicBezTo>
                  <a:pt x="6474" y="16470"/>
                  <a:pt x="6474" y="16479"/>
                  <a:pt x="6474" y="16495"/>
                </a:cubicBezTo>
              </a:path>
              <a:path w="6078" h="5334">
                <a:moveTo>
                  <a:pt x="6747" y="16173"/>
                </a:moveTo>
                <a:cubicBezTo>
                  <a:pt x="6791" y="16280"/>
                  <a:pt x="6714" y="16205"/>
                  <a:pt x="6672" y="16247"/>
                </a:cubicBezTo>
                <a:cubicBezTo>
                  <a:pt x="6659" y="16260"/>
                  <a:pt x="6625" y="16324"/>
                  <a:pt x="6623" y="16346"/>
                </a:cubicBezTo>
                <a:cubicBezTo>
                  <a:pt x="6614" y="16429"/>
                  <a:pt x="6729" y="16386"/>
                  <a:pt x="6772" y="16396"/>
                </a:cubicBezTo>
                <a:cubicBezTo>
                  <a:pt x="6832" y="16410"/>
                  <a:pt x="6854" y="16534"/>
                  <a:pt x="6796" y="16570"/>
                </a:cubicBezTo>
                <a:cubicBezTo>
                  <a:pt x="6755" y="16570"/>
                  <a:pt x="6739" y="16562"/>
                  <a:pt x="6747" y="16594"/>
                </a:cubicBezTo>
              </a:path>
              <a:path w="6078" h="5334">
                <a:moveTo>
                  <a:pt x="5631" y="16892"/>
                </a:moveTo>
                <a:cubicBezTo>
                  <a:pt x="5846" y="16819"/>
                  <a:pt x="6072" y="16790"/>
                  <a:pt x="6300" y="16768"/>
                </a:cubicBezTo>
                <a:cubicBezTo>
                  <a:pt x="6605" y="16739"/>
                  <a:pt x="6913" y="16710"/>
                  <a:pt x="7218" y="16694"/>
                </a:cubicBezTo>
              </a:path>
              <a:path w="6078" h="5334">
                <a:moveTo>
                  <a:pt x="5432" y="16421"/>
                </a:moveTo>
                <a:cubicBezTo>
                  <a:pt x="5509" y="16432"/>
                  <a:pt x="5576" y="16446"/>
                  <a:pt x="5655" y="16446"/>
                </a:cubicBezTo>
                <a:cubicBezTo>
                  <a:pt x="5663" y="16446"/>
                  <a:pt x="5672" y="16446"/>
                  <a:pt x="5680" y="16446"/>
                </a:cubicBezTo>
              </a:path>
              <a:path w="6078" h="5334">
                <a:moveTo>
                  <a:pt x="6226" y="15850"/>
                </a:moveTo>
                <a:cubicBezTo>
                  <a:pt x="6267" y="15932"/>
                  <a:pt x="6338" y="16091"/>
                  <a:pt x="6424" y="16148"/>
                </a:cubicBezTo>
                <a:cubicBezTo>
                  <a:pt x="6466" y="16148"/>
                  <a:pt x="6474" y="16148"/>
                  <a:pt x="6499" y="16148"/>
                </a:cubicBezTo>
              </a:path>
              <a:path w="6078" h="5334">
                <a:moveTo>
                  <a:pt x="6127" y="15801"/>
                </a:moveTo>
                <a:cubicBezTo>
                  <a:pt x="6119" y="15793"/>
                  <a:pt x="6110" y="15784"/>
                  <a:pt x="6102" y="15776"/>
                </a:cubicBezTo>
                <a:cubicBezTo>
                  <a:pt x="6112" y="15838"/>
                  <a:pt x="6122" y="15900"/>
                  <a:pt x="6152" y="15949"/>
                </a:cubicBezTo>
              </a:path>
              <a:path w="6078" h="5334">
                <a:moveTo>
                  <a:pt x="6672" y="15776"/>
                </a:moveTo>
                <a:cubicBezTo>
                  <a:pt x="6626" y="15739"/>
                  <a:pt x="6606" y="15719"/>
                  <a:pt x="6573" y="15677"/>
                </a:cubicBezTo>
                <a:cubicBezTo>
                  <a:pt x="6573" y="15753"/>
                  <a:pt x="6584" y="15807"/>
                  <a:pt x="6598" y="15875"/>
                </a:cubicBezTo>
              </a:path>
              <a:path w="6078" h="5334">
                <a:moveTo>
                  <a:pt x="6970" y="16768"/>
                </a:moveTo>
                <a:cubicBezTo>
                  <a:pt x="6962" y="16762"/>
                  <a:pt x="6871" y="16742"/>
                  <a:pt x="6846" y="16793"/>
                </a:cubicBezTo>
                <a:cubicBezTo>
                  <a:pt x="6821" y="16843"/>
                  <a:pt x="6888" y="16875"/>
                  <a:pt x="6896" y="16917"/>
                </a:cubicBezTo>
                <a:cubicBezTo>
                  <a:pt x="6901" y="16942"/>
                  <a:pt x="6904" y="16917"/>
                  <a:pt x="6970" y="16917"/>
                </a:cubicBezTo>
                <a:cubicBezTo>
                  <a:pt x="7028" y="16917"/>
                  <a:pt x="7162" y="17047"/>
                  <a:pt x="7094" y="17115"/>
                </a:cubicBezTo>
                <a:cubicBezTo>
                  <a:pt x="7058" y="17151"/>
                  <a:pt x="6951" y="17190"/>
                  <a:pt x="6896" y="17190"/>
                </a:cubicBezTo>
              </a:path>
              <a:path w="6078" h="5334">
                <a:moveTo>
                  <a:pt x="5804" y="16049"/>
                </a:moveTo>
                <a:cubicBezTo>
                  <a:pt x="5768" y="16060"/>
                  <a:pt x="5764" y="16110"/>
                  <a:pt x="5804" y="16148"/>
                </a:cubicBezTo>
                <a:cubicBezTo>
                  <a:pt x="5864" y="16205"/>
                  <a:pt x="5974" y="16302"/>
                  <a:pt x="6052" y="16321"/>
                </a:cubicBezTo>
              </a:path>
              <a:path w="6078" h="5334">
                <a:moveTo>
                  <a:pt x="5556" y="15900"/>
                </a:moveTo>
                <a:cubicBezTo>
                  <a:pt x="5570" y="15968"/>
                  <a:pt x="5597" y="16039"/>
                  <a:pt x="5631" y="16098"/>
                </a:cubicBezTo>
              </a:path>
              <a:path w="6078" h="5334">
                <a:moveTo>
                  <a:pt x="5928" y="15776"/>
                </a:moveTo>
                <a:cubicBezTo>
                  <a:pt x="5928" y="15768"/>
                  <a:pt x="5928" y="15759"/>
                  <a:pt x="5928" y="15751"/>
                </a:cubicBezTo>
                <a:cubicBezTo>
                  <a:pt x="5938" y="15803"/>
                  <a:pt x="5968" y="15848"/>
                  <a:pt x="5978" y="15900"/>
                </a:cubicBezTo>
              </a:path>
              <a:path w="6078" h="5334">
                <a:moveTo>
                  <a:pt x="6400" y="16942"/>
                </a:moveTo>
                <a:cubicBezTo>
                  <a:pt x="6400" y="16975"/>
                  <a:pt x="6400" y="17008"/>
                  <a:pt x="6400" y="17041"/>
                </a:cubicBezTo>
                <a:cubicBezTo>
                  <a:pt x="6379" y="17030"/>
                  <a:pt x="6321" y="16983"/>
                  <a:pt x="6350" y="16942"/>
                </a:cubicBezTo>
                <a:cubicBezTo>
                  <a:pt x="6386" y="16892"/>
                  <a:pt x="6438" y="16848"/>
                  <a:pt x="6499" y="16842"/>
                </a:cubicBezTo>
                <a:cubicBezTo>
                  <a:pt x="6532" y="16839"/>
                  <a:pt x="6538" y="16871"/>
                  <a:pt x="6548" y="16892"/>
                </a:cubicBezTo>
                <a:cubicBezTo>
                  <a:pt x="6601" y="17001"/>
                  <a:pt x="6638" y="17117"/>
                  <a:pt x="6648" y="17239"/>
                </a:cubicBezTo>
                <a:cubicBezTo>
                  <a:pt x="6652" y="17287"/>
                  <a:pt x="6650" y="17286"/>
                  <a:pt x="6672" y="17338"/>
                </a:cubicBezTo>
              </a:path>
              <a:path w="6078" h="5334">
                <a:moveTo>
                  <a:pt x="7268" y="14486"/>
                </a:moveTo>
                <a:cubicBezTo>
                  <a:pt x="7158" y="14500"/>
                  <a:pt x="7114" y="14595"/>
                  <a:pt x="7094" y="14709"/>
                </a:cubicBezTo>
                <a:cubicBezTo>
                  <a:pt x="7084" y="14766"/>
                  <a:pt x="7099" y="14986"/>
                  <a:pt x="7169" y="15007"/>
                </a:cubicBezTo>
                <a:cubicBezTo>
                  <a:pt x="7267" y="15036"/>
                  <a:pt x="7409" y="14934"/>
                  <a:pt x="7417" y="14833"/>
                </a:cubicBezTo>
                <a:cubicBezTo>
                  <a:pt x="7428" y="14704"/>
                  <a:pt x="7391" y="14591"/>
                  <a:pt x="7268" y="14585"/>
                </a:cubicBezTo>
                <a:cubicBezTo>
                  <a:pt x="7226" y="14585"/>
                  <a:pt x="7210" y="14577"/>
                  <a:pt x="7218" y="14610"/>
                </a:cubicBezTo>
              </a:path>
              <a:path w="6078" h="5334">
                <a:moveTo>
                  <a:pt x="7317" y="15156"/>
                </a:moveTo>
                <a:cubicBezTo>
                  <a:pt x="7317" y="15131"/>
                  <a:pt x="7317" y="15123"/>
                  <a:pt x="7317" y="15106"/>
                </a:cubicBezTo>
                <a:cubicBezTo>
                  <a:pt x="7317" y="15194"/>
                  <a:pt x="7334" y="15270"/>
                  <a:pt x="7342" y="15354"/>
                </a:cubicBezTo>
                <a:cubicBezTo>
                  <a:pt x="7352" y="15463"/>
                  <a:pt x="7355" y="15571"/>
                  <a:pt x="7367" y="15677"/>
                </a:cubicBezTo>
                <a:cubicBezTo>
                  <a:pt x="7377" y="15764"/>
                  <a:pt x="7378" y="15842"/>
                  <a:pt x="7392" y="15925"/>
                </a:cubicBezTo>
                <a:cubicBezTo>
                  <a:pt x="7406" y="16007"/>
                  <a:pt x="7418" y="16093"/>
                  <a:pt x="7441" y="16173"/>
                </a:cubicBezTo>
                <a:cubicBezTo>
                  <a:pt x="7464" y="16255"/>
                  <a:pt x="7485" y="16336"/>
                  <a:pt x="7491" y="16421"/>
                </a:cubicBezTo>
                <a:cubicBezTo>
                  <a:pt x="7491" y="16456"/>
                  <a:pt x="7496" y="16473"/>
                  <a:pt x="7516" y="16495"/>
                </a:cubicBezTo>
              </a:path>
              <a:path w="6078" h="5334">
                <a:moveTo>
                  <a:pt x="7615" y="16768"/>
                </a:moveTo>
                <a:cubicBezTo>
                  <a:pt x="7556" y="16753"/>
                  <a:pt x="7571" y="16736"/>
                  <a:pt x="7516" y="16768"/>
                </a:cubicBezTo>
                <a:cubicBezTo>
                  <a:pt x="7444" y="16810"/>
                  <a:pt x="7411" y="16902"/>
                  <a:pt x="7417" y="16991"/>
                </a:cubicBezTo>
                <a:cubicBezTo>
                  <a:pt x="7421" y="17056"/>
                  <a:pt x="7458" y="17131"/>
                  <a:pt x="7516" y="17165"/>
                </a:cubicBezTo>
                <a:cubicBezTo>
                  <a:pt x="7541" y="17165"/>
                  <a:pt x="7549" y="17165"/>
                  <a:pt x="7565" y="17165"/>
                </a:cubicBezTo>
                <a:cubicBezTo>
                  <a:pt x="7622" y="17116"/>
                  <a:pt x="7684" y="17034"/>
                  <a:pt x="7665" y="16942"/>
                </a:cubicBezTo>
                <a:cubicBezTo>
                  <a:pt x="7655" y="16894"/>
                  <a:pt x="7591" y="16808"/>
                  <a:pt x="7565" y="16793"/>
                </a:cubicBezTo>
                <a:cubicBezTo>
                  <a:pt x="7557" y="16793"/>
                  <a:pt x="7549" y="16793"/>
                  <a:pt x="7541" y="16793"/>
                </a:cubicBezTo>
              </a:path>
              <a:path w="6078" h="5334">
                <a:moveTo>
                  <a:pt x="3423" y="14064"/>
                </a:moveTo>
                <a:cubicBezTo>
                  <a:pt x="3423" y="14003"/>
                  <a:pt x="3431" y="13977"/>
                  <a:pt x="3448" y="13915"/>
                </a:cubicBezTo>
                <a:cubicBezTo>
                  <a:pt x="3592" y="13931"/>
                  <a:pt x="3616" y="13984"/>
                  <a:pt x="3597" y="14139"/>
                </a:cubicBezTo>
                <a:cubicBezTo>
                  <a:pt x="3586" y="14231"/>
                  <a:pt x="3555" y="14236"/>
                  <a:pt x="3497" y="14213"/>
                </a:cubicBezTo>
                <a:cubicBezTo>
                  <a:pt x="3597" y="14180"/>
                  <a:pt x="3578" y="14165"/>
                  <a:pt x="3671" y="14188"/>
                </a:cubicBezTo>
                <a:cubicBezTo>
                  <a:pt x="3679" y="14188"/>
                  <a:pt x="3688" y="14188"/>
                  <a:pt x="3696" y="14188"/>
                </a:cubicBezTo>
              </a:path>
              <a:path w="6078" h="5334">
                <a:moveTo>
                  <a:pt x="2580" y="14015"/>
                </a:moveTo>
                <a:cubicBezTo>
                  <a:pt x="2634" y="14076"/>
                  <a:pt x="2684" y="14133"/>
                  <a:pt x="2704" y="14213"/>
                </a:cubicBezTo>
                <a:cubicBezTo>
                  <a:pt x="2704" y="14221"/>
                  <a:pt x="2704" y="14230"/>
                  <a:pt x="2704" y="14238"/>
                </a:cubicBezTo>
              </a:path>
              <a:path w="6078" h="5334">
                <a:moveTo>
                  <a:pt x="7466" y="13667"/>
                </a:moveTo>
                <a:cubicBezTo>
                  <a:pt x="7355" y="13712"/>
                  <a:pt x="7238" y="13769"/>
                  <a:pt x="7119" y="13791"/>
                </a:cubicBezTo>
                <a:cubicBezTo>
                  <a:pt x="7078" y="13791"/>
                  <a:pt x="7070" y="13791"/>
                  <a:pt x="7045" y="13791"/>
                </a:cubicBezTo>
                <a:cubicBezTo>
                  <a:pt x="7063" y="13845"/>
                  <a:pt x="7092" y="13893"/>
                  <a:pt x="7119" y="13940"/>
                </a:cubicBezTo>
                <a:cubicBezTo>
                  <a:pt x="7192" y="14068"/>
                  <a:pt x="7371" y="13854"/>
                  <a:pt x="7441" y="14039"/>
                </a:cubicBezTo>
                <a:cubicBezTo>
                  <a:pt x="7513" y="14228"/>
                  <a:pt x="7331" y="14304"/>
                  <a:pt x="7193" y="14337"/>
                </a:cubicBezTo>
                <a:cubicBezTo>
                  <a:pt x="7185" y="14337"/>
                  <a:pt x="7177" y="14337"/>
                  <a:pt x="7169" y="14337"/>
                </a:cubicBezTo>
              </a:path>
              <a:path w="6078" h="5334">
                <a:moveTo>
                  <a:pt x="7813" y="17388"/>
                </a:moveTo>
                <a:cubicBezTo>
                  <a:pt x="7741" y="17388"/>
                  <a:pt x="7688" y="17426"/>
                  <a:pt x="7615" y="17438"/>
                </a:cubicBezTo>
                <a:cubicBezTo>
                  <a:pt x="7615" y="17492"/>
                  <a:pt x="7635" y="17517"/>
                  <a:pt x="7640" y="17562"/>
                </a:cubicBezTo>
                <a:cubicBezTo>
                  <a:pt x="7640" y="17570"/>
                  <a:pt x="7640" y="17579"/>
                  <a:pt x="7640" y="17587"/>
                </a:cubicBezTo>
                <a:cubicBezTo>
                  <a:pt x="7729" y="17587"/>
                  <a:pt x="7856" y="17547"/>
                  <a:pt x="7888" y="17661"/>
                </a:cubicBezTo>
                <a:cubicBezTo>
                  <a:pt x="7914" y="17754"/>
                  <a:pt x="7818" y="17845"/>
                  <a:pt x="7739" y="17884"/>
                </a:cubicBezTo>
                <a:cubicBezTo>
                  <a:pt x="7731" y="17884"/>
                  <a:pt x="7722" y="17884"/>
                  <a:pt x="7714" y="17884"/>
                </a:cubicBezTo>
              </a:path>
              <a:path w="6078" h="5334">
                <a:moveTo>
                  <a:pt x="7045" y="17512"/>
                </a:moveTo>
                <a:cubicBezTo>
                  <a:pt x="7019" y="17591"/>
                  <a:pt x="7028" y="17459"/>
                  <a:pt x="7119" y="17487"/>
                </a:cubicBezTo>
                <a:cubicBezTo>
                  <a:pt x="7276" y="17534"/>
                  <a:pt x="7206" y="17744"/>
                  <a:pt x="7169" y="17835"/>
                </a:cubicBezTo>
                <a:cubicBezTo>
                  <a:pt x="7124" y="17944"/>
                  <a:pt x="7066" y="17975"/>
                  <a:pt x="6970" y="18033"/>
                </a:cubicBezTo>
                <a:cubicBezTo>
                  <a:pt x="6902" y="17984"/>
                  <a:pt x="6827" y="17873"/>
                  <a:pt x="6970" y="17835"/>
                </a:cubicBezTo>
                <a:cubicBezTo>
                  <a:pt x="7056" y="17812"/>
                  <a:pt x="7165" y="17842"/>
                  <a:pt x="7218" y="17859"/>
                </a:cubicBezTo>
              </a:path>
              <a:path w="6078" h="5334">
                <a:moveTo>
                  <a:pt x="2456" y="14114"/>
                </a:moveTo>
                <a:cubicBezTo>
                  <a:pt x="2456" y="14071"/>
                  <a:pt x="2455" y="14074"/>
                  <a:pt x="2480" y="14039"/>
                </a:cubicBezTo>
                <a:cubicBezTo>
                  <a:pt x="2473" y="14075"/>
                  <a:pt x="2422" y="14166"/>
                  <a:pt x="2480" y="14114"/>
                </a:cubicBezTo>
                <a:cubicBezTo>
                  <a:pt x="2560" y="14043"/>
                  <a:pt x="2698" y="14118"/>
                  <a:pt x="2729" y="14213"/>
                </a:cubicBezTo>
                <a:cubicBezTo>
                  <a:pt x="2756" y="14296"/>
                  <a:pt x="2711" y="14416"/>
                  <a:pt x="2629" y="14436"/>
                </a:cubicBezTo>
                <a:cubicBezTo>
                  <a:pt x="2583" y="14315"/>
                  <a:pt x="2669" y="14254"/>
                  <a:pt x="2803" y="14288"/>
                </a:cubicBezTo>
                <a:cubicBezTo>
                  <a:pt x="2908" y="14315"/>
                  <a:pt x="2856" y="14382"/>
                  <a:pt x="2927" y="14412"/>
                </a:cubicBezTo>
                <a:cubicBezTo>
                  <a:pt x="2944" y="14412"/>
                  <a:pt x="2960" y="14412"/>
                  <a:pt x="2977" y="14412"/>
                </a:cubicBezTo>
              </a:path>
              <a:path w="6078" h="5334">
                <a:moveTo>
                  <a:pt x="6474" y="17537"/>
                </a:moveTo>
                <a:cubicBezTo>
                  <a:pt x="6474" y="17562"/>
                  <a:pt x="6474" y="17570"/>
                  <a:pt x="6449" y="17562"/>
                </a:cubicBezTo>
                <a:cubicBezTo>
                  <a:pt x="6449" y="17508"/>
                  <a:pt x="6477" y="17479"/>
                  <a:pt x="6548" y="17462"/>
                </a:cubicBezTo>
                <a:cubicBezTo>
                  <a:pt x="6595" y="17451"/>
                  <a:pt x="6672" y="17462"/>
                  <a:pt x="6722" y="17462"/>
                </a:cubicBezTo>
                <a:cubicBezTo>
                  <a:pt x="6696" y="17591"/>
                  <a:pt x="6635" y="17709"/>
                  <a:pt x="6598" y="17835"/>
                </a:cubicBezTo>
                <a:cubicBezTo>
                  <a:pt x="6583" y="17885"/>
                  <a:pt x="6593" y="17899"/>
                  <a:pt x="6623" y="17909"/>
                </a:cubicBezTo>
              </a:path>
              <a:path w="6078" h="5334">
                <a:moveTo>
                  <a:pt x="6201" y="18231"/>
                </a:moveTo>
                <a:cubicBezTo>
                  <a:pt x="6349" y="18190"/>
                  <a:pt x="6497" y="18164"/>
                  <a:pt x="6648" y="18132"/>
                </a:cubicBezTo>
                <a:cubicBezTo>
                  <a:pt x="6912" y="18076"/>
                  <a:pt x="7176" y="18056"/>
                  <a:pt x="7441" y="18008"/>
                </a:cubicBezTo>
                <a:cubicBezTo>
                  <a:pt x="7654" y="17969"/>
                  <a:pt x="7870" y="17933"/>
                  <a:pt x="8086" y="17909"/>
                </a:cubicBezTo>
                <a:cubicBezTo>
                  <a:pt x="8144" y="17909"/>
                  <a:pt x="8153" y="17909"/>
                  <a:pt x="8186" y="17909"/>
                </a:cubicBezTo>
              </a:path>
              <a:path w="6078" h="5334">
                <a:moveTo>
                  <a:pt x="5680" y="17735"/>
                </a:moveTo>
                <a:cubicBezTo>
                  <a:pt x="5756" y="17705"/>
                  <a:pt x="5800" y="17685"/>
                  <a:pt x="5879" y="17661"/>
                </a:cubicBezTo>
              </a:path>
              <a:path w="6078" h="5334">
                <a:moveTo>
                  <a:pt x="7268" y="18207"/>
                </a:moveTo>
                <a:cubicBezTo>
                  <a:pt x="7217" y="18235"/>
                  <a:pt x="7208" y="18261"/>
                  <a:pt x="7193" y="18231"/>
                </a:cubicBezTo>
                <a:cubicBezTo>
                  <a:pt x="7231" y="18222"/>
                  <a:pt x="7286" y="18174"/>
                  <a:pt x="7317" y="18231"/>
                </a:cubicBezTo>
                <a:cubicBezTo>
                  <a:pt x="7377" y="18339"/>
                  <a:pt x="7297" y="18479"/>
                  <a:pt x="7193" y="18529"/>
                </a:cubicBezTo>
                <a:cubicBezTo>
                  <a:pt x="7177" y="18537"/>
                  <a:pt x="7116" y="18529"/>
                  <a:pt x="7094" y="18529"/>
                </a:cubicBezTo>
                <a:cubicBezTo>
                  <a:pt x="7127" y="18398"/>
                  <a:pt x="7213" y="18410"/>
                  <a:pt x="7342" y="18405"/>
                </a:cubicBezTo>
                <a:cubicBezTo>
                  <a:pt x="7401" y="18403"/>
                  <a:pt x="7404" y="18427"/>
                  <a:pt x="7417" y="18479"/>
                </a:cubicBezTo>
              </a:path>
              <a:path w="6078" h="5334">
                <a:moveTo>
                  <a:pt x="7913" y="18033"/>
                </a:moveTo>
                <a:cubicBezTo>
                  <a:pt x="7913" y="18115"/>
                  <a:pt x="7785" y="18140"/>
                  <a:pt x="7689" y="18182"/>
                </a:cubicBezTo>
                <a:cubicBezTo>
                  <a:pt x="7603" y="18220"/>
                  <a:pt x="7658" y="18233"/>
                  <a:pt x="7665" y="18306"/>
                </a:cubicBezTo>
                <a:cubicBezTo>
                  <a:pt x="7665" y="18314"/>
                  <a:pt x="7665" y="18323"/>
                  <a:pt x="7665" y="18331"/>
                </a:cubicBezTo>
                <a:cubicBezTo>
                  <a:pt x="7726" y="18315"/>
                  <a:pt x="7787" y="18255"/>
                  <a:pt x="7863" y="18281"/>
                </a:cubicBezTo>
                <a:cubicBezTo>
                  <a:pt x="7928" y="18303"/>
                  <a:pt x="7910" y="18432"/>
                  <a:pt x="7863" y="18479"/>
                </a:cubicBezTo>
                <a:cubicBezTo>
                  <a:pt x="7807" y="18535"/>
                  <a:pt x="7707" y="18562"/>
                  <a:pt x="7640" y="18579"/>
                </a:cubicBezTo>
              </a:path>
              <a:path w="6078" h="5334">
                <a:moveTo>
                  <a:pt x="6747" y="14362"/>
                </a:moveTo>
                <a:cubicBezTo>
                  <a:pt x="6783" y="14358"/>
                  <a:pt x="6927" y="14350"/>
                  <a:pt x="6871" y="14337"/>
                </a:cubicBezTo>
                <a:cubicBezTo>
                  <a:pt x="6780" y="14314"/>
                  <a:pt x="6754" y="14308"/>
                  <a:pt x="6697" y="14288"/>
                </a:cubicBezTo>
                <a:cubicBezTo>
                  <a:pt x="6627" y="14288"/>
                  <a:pt x="6778" y="14317"/>
                  <a:pt x="6846" y="14337"/>
                </a:cubicBezTo>
                <a:cubicBezTo>
                  <a:pt x="7026" y="14389"/>
                  <a:pt x="6769" y="14368"/>
                  <a:pt x="6722" y="14362"/>
                </a:cubicBezTo>
                <a:cubicBezTo>
                  <a:pt x="6714" y="14362"/>
                  <a:pt x="6705" y="14362"/>
                  <a:pt x="6697" y="14362"/>
                </a:cubicBezTo>
                <a:cubicBezTo>
                  <a:pt x="6785" y="14377"/>
                  <a:pt x="6859" y="14413"/>
                  <a:pt x="6945" y="14362"/>
                </a:cubicBezTo>
                <a:cubicBezTo>
                  <a:pt x="7019" y="14318"/>
                  <a:pt x="6776" y="14353"/>
                  <a:pt x="6697" y="14387"/>
                </a:cubicBezTo>
                <a:cubicBezTo>
                  <a:pt x="6758" y="14387"/>
                  <a:pt x="6900" y="14388"/>
                  <a:pt x="6945" y="14412"/>
                </a:cubicBezTo>
                <a:cubicBezTo>
                  <a:pt x="7015" y="14449"/>
                  <a:pt x="6785" y="14413"/>
                  <a:pt x="6722" y="14461"/>
                </a:cubicBezTo>
                <a:cubicBezTo>
                  <a:pt x="6730" y="14461"/>
                  <a:pt x="6739" y="14461"/>
                  <a:pt x="6747" y="14461"/>
                </a:cubicBezTo>
                <a:cubicBezTo>
                  <a:pt x="6772" y="14461"/>
                  <a:pt x="6976" y="14438"/>
                  <a:pt x="6896" y="14486"/>
                </a:cubicBezTo>
                <a:cubicBezTo>
                  <a:pt x="6873" y="14500"/>
                  <a:pt x="6736" y="14511"/>
                  <a:pt x="6796" y="14511"/>
                </a:cubicBezTo>
                <a:cubicBezTo>
                  <a:pt x="6845" y="14511"/>
                  <a:pt x="6951" y="14532"/>
                  <a:pt x="6921" y="14536"/>
                </a:cubicBezTo>
                <a:cubicBezTo>
                  <a:pt x="6769" y="14556"/>
                  <a:pt x="6875" y="14542"/>
                  <a:pt x="6945" y="14536"/>
                </a:cubicBezTo>
                <a:cubicBezTo>
                  <a:pt x="6953" y="14536"/>
                  <a:pt x="6962" y="14536"/>
                  <a:pt x="6970" y="14536"/>
                </a:cubicBezTo>
                <a:cubicBezTo>
                  <a:pt x="6939" y="14536"/>
                  <a:pt x="6753" y="14550"/>
                  <a:pt x="6846" y="14560"/>
                </a:cubicBezTo>
                <a:cubicBezTo>
                  <a:pt x="6965" y="14573"/>
                  <a:pt x="6806" y="14579"/>
                  <a:pt x="6871" y="14536"/>
                </a:cubicBezTo>
                <a:cubicBezTo>
                  <a:pt x="6914" y="14507"/>
                  <a:pt x="6795" y="14498"/>
                  <a:pt x="6846" y="14486"/>
                </a:cubicBezTo>
                <a:cubicBezTo>
                  <a:pt x="6904" y="14486"/>
                  <a:pt x="6929" y="14503"/>
                  <a:pt x="6921" y="14461"/>
                </a:cubicBezTo>
              </a:path>
              <a:path w="6078" h="5334">
                <a:moveTo>
                  <a:pt x="6846" y="13543"/>
                </a:moveTo>
                <a:cubicBezTo>
                  <a:pt x="6827" y="13469"/>
                  <a:pt x="6831" y="13501"/>
                  <a:pt x="6846" y="13419"/>
                </a:cubicBezTo>
                <a:cubicBezTo>
                  <a:pt x="6856" y="13361"/>
                  <a:pt x="6888" y="13272"/>
                  <a:pt x="6945" y="13246"/>
                </a:cubicBezTo>
                <a:cubicBezTo>
                  <a:pt x="7024" y="13210"/>
                  <a:pt x="7051" y="13331"/>
                  <a:pt x="7069" y="13370"/>
                </a:cubicBezTo>
                <a:cubicBezTo>
                  <a:pt x="7096" y="13430"/>
                  <a:pt x="7094" y="13454"/>
                  <a:pt x="7094" y="13519"/>
                </a:cubicBezTo>
                <a:cubicBezTo>
                  <a:pt x="7094" y="13548"/>
                  <a:pt x="7078" y="13524"/>
                  <a:pt x="7045" y="13494"/>
                </a:cubicBezTo>
                <a:cubicBezTo>
                  <a:pt x="7037" y="13486"/>
                  <a:pt x="7028" y="13477"/>
                  <a:pt x="7020" y="13469"/>
                </a:cubicBezTo>
                <a:cubicBezTo>
                  <a:pt x="7026" y="13484"/>
                  <a:pt x="7079" y="13588"/>
                  <a:pt x="7094" y="13568"/>
                </a:cubicBezTo>
                <a:cubicBezTo>
                  <a:pt x="7122" y="13530"/>
                  <a:pt x="7180" y="13499"/>
                  <a:pt x="7193" y="13444"/>
                </a:cubicBezTo>
              </a:path>
              <a:path w="6078" h="5334">
                <a:moveTo>
                  <a:pt x="5507" y="13866"/>
                </a:moveTo>
                <a:cubicBezTo>
                  <a:pt x="5489" y="13813"/>
                  <a:pt x="5453" y="13842"/>
                  <a:pt x="5432" y="13891"/>
                </a:cubicBezTo>
                <a:cubicBezTo>
                  <a:pt x="5384" y="14002"/>
                  <a:pt x="5459" y="14126"/>
                  <a:pt x="5531" y="14213"/>
                </a:cubicBezTo>
                <a:cubicBezTo>
                  <a:pt x="5539" y="14221"/>
                  <a:pt x="5548" y="14230"/>
                  <a:pt x="5556" y="14238"/>
                </a:cubicBezTo>
                <a:cubicBezTo>
                  <a:pt x="5649" y="14134"/>
                  <a:pt x="5700" y="14035"/>
                  <a:pt x="5631" y="13891"/>
                </a:cubicBezTo>
                <a:cubicBezTo>
                  <a:pt x="5587" y="13799"/>
                  <a:pt x="5518" y="13823"/>
                  <a:pt x="5457" y="13841"/>
                </a:cubicBezTo>
                <a:cubicBezTo>
                  <a:pt x="5432" y="13841"/>
                  <a:pt x="5424" y="13841"/>
                  <a:pt x="5432" y="1386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16120" y="4929120"/>
            <a:ext cx="3778200" cy="1625760"/>
          </a:xfrm>
          <a:custGeom>
            <a:avLst/>
            <a:gdLst/>
            <a:ahLst/>
            <a:rect l="l" t="t" r="r" b="b"/>
            <a:pathLst>
              <a:path w="10493" h="4516">
                <a:moveTo>
                  <a:pt x="13519" y="13692"/>
                </a:moveTo>
                <a:lnTo>
                  <a:pt x="13519" y="13692"/>
                </a:lnTo>
              </a:path>
              <a:path w="10493" h="4516">
                <a:moveTo>
                  <a:pt x="7293" y="18207"/>
                </a:moveTo>
                <a:cubicBezTo>
                  <a:pt x="7293" y="18182"/>
                  <a:pt x="7293" y="18174"/>
                  <a:pt x="7268" y="18182"/>
                </a:cubicBezTo>
              </a:path>
              <a:path w="10493" h="4516">
                <a:moveTo>
                  <a:pt x="7268" y="18182"/>
                </a:moveTo>
                <a:lnTo>
                  <a:pt x="7268" y="18182"/>
                </a:lnTo>
              </a:path>
              <a:path w="10493" h="4516">
                <a:moveTo>
                  <a:pt x="17760" y="16991"/>
                </a:moveTo>
                <a:lnTo>
                  <a:pt x="17760" y="16991"/>
                </a:lnTo>
              </a:path>
              <a:path w="10493" h="4516">
                <a:moveTo>
                  <a:pt x="17066" y="17090"/>
                </a:moveTo>
                <a:cubicBezTo>
                  <a:pt x="17166" y="17090"/>
                  <a:pt x="17216" y="17094"/>
                  <a:pt x="17289" y="17115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60800" y="4884840"/>
            <a:ext cx="866520" cy="473040"/>
          </a:xfrm>
          <a:custGeom>
            <a:avLst/>
            <a:gdLst/>
            <a:ahLst/>
            <a:rect l="l" t="t" r="r" b="b"/>
            <a:pathLst>
              <a:path w="2407" h="1316">
                <a:moveTo>
                  <a:pt x="9575" y="13791"/>
                </a:moveTo>
                <a:cubicBezTo>
                  <a:pt x="9530" y="13725"/>
                  <a:pt x="9454" y="13824"/>
                  <a:pt x="9426" y="13891"/>
                </a:cubicBezTo>
                <a:cubicBezTo>
                  <a:pt x="9355" y="14060"/>
                  <a:pt x="9377" y="14190"/>
                  <a:pt x="9401" y="14362"/>
                </a:cubicBezTo>
                <a:cubicBezTo>
                  <a:pt x="9567" y="14362"/>
                  <a:pt x="9644" y="14263"/>
                  <a:pt x="9699" y="14089"/>
                </a:cubicBezTo>
                <a:cubicBezTo>
                  <a:pt x="9730" y="13991"/>
                  <a:pt x="9729" y="13893"/>
                  <a:pt x="9624" y="13841"/>
                </a:cubicBezTo>
                <a:cubicBezTo>
                  <a:pt x="9599" y="13841"/>
                  <a:pt x="9591" y="13841"/>
                  <a:pt x="9599" y="13866"/>
                </a:cubicBezTo>
              </a:path>
              <a:path w="2407" h="1316">
                <a:moveTo>
                  <a:pt x="9847" y="14188"/>
                </a:moveTo>
                <a:cubicBezTo>
                  <a:pt x="9864" y="14240"/>
                  <a:pt x="9868" y="14206"/>
                  <a:pt x="9897" y="14163"/>
                </a:cubicBezTo>
                <a:cubicBezTo>
                  <a:pt x="9884" y="14202"/>
                  <a:pt x="9847" y="14188"/>
                  <a:pt x="9922" y="14188"/>
                </a:cubicBezTo>
              </a:path>
              <a:path w="2407" h="1316">
                <a:moveTo>
                  <a:pt x="10195" y="13643"/>
                </a:moveTo>
                <a:cubicBezTo>
                  <a:pt x="10195" y="13795"/>
                  <a:pt x="10237" y="13934"/>
                  <a:pt x="10244" y="14089"/>
                </a:cubicBezTo>
                <a:cubicBezTo>
                  <a:pt x="10247" y="14161"/>
                  <a:pt x="10219" y="14220"/>
                  <a:pt x="10269" y="14139"/>
                </a:cubicBezTo>
              </a:path>
              <a:path w="2407" h="1316">
                <a:moveTo>
                  <a:pt x="10542" y="13593"/>
                </a:moveTo>
                <a:cubicBezTo>
                  <a:pt x="10563" y="13634"/>
                  <a:pt x="10625" y="13534"/>
                  <a:pt x="10716" y="13593"/>
                </a:cubicBezTo>
                <a:cubicBezTo>
                  <a:pt x="10917" y="13723"/>
                  <a:pt x="10842" y="13953"/>
                  <a:pt x="10691" y="14064"/>
                </a:cubicBezTo>
                <a:cubicBezTo>
                  <a:pt x="10666" y="14072"/>
                  <a:pt x="10641" y="14081"/>
                  <a:pt x="10616" y="14089"/>
                </a:cubicBezTo>
                <a:cubicBezTo>
                  <a:pt x="10644" y="14019"/>
                  <a:pt x="10735" y="13947"/>
                  <a:pt x="10815" y="14015"/>
                </a:cubicBezTo>
                <a:cubicBezTo>
                  <a:pt x="10857" y="14078"/>
                  <a:pt x="10873" y="14090"/>
                  <a:pt x="10864" y="14139"/>
                </a:cubicBezTo>
              </a:path>
              <a:path w="2407" h="1316">
                <a:moveTo>
                  <a:pt x="9004" y="13618"/>
                </a:moveTo>
                <a:cubicBezTo>
                  <a:pt x="8919" y="13609"/>
                  <a:pt x="8781" y="13635"/>
                  <a:pt x="8781" y="13767"/>
                </a:cubicBezTo>
                <a:cubicBezTo>
                  <a:pt x="8781" y="13832"/>
                  <a:pt x="8975" y="13814"/>
                  <a:pt x="9004" y="13816"/>
                </a:cubicBezTo>
                <a:cubicBezTo>
                  <a:pt x="9004" y="13875"/>
                  <a:pt x="8892" y="14129"/>
                  <a:pt x="8806" y="13965"/>
                </a:cubicBezTo>
                <a:cubicBezTo>
                  <a:pt x="8806" y="13940"/>
                  <a:pt x="8806" y="13916"/>
                  <a:pt x="8806" y="13891"/>
                </a:cubicBezTo>
              </a:path>
              <a:path w="2407" h="1316">
                <a:moveTo>
                  <a:pt x="8806" y="13568"/>
                </a:moveTo>
                <a:cubicBezTo>
                  <a:pt x="8902" y="13721"/>
                  <a:pt x="8978" y="13861"/>
                  <a:pt x="9004" y="14039"/>
                </a:cubicBezTo>
              </a:path>
              <a:path w="2407" h="1316">
                <a:moveTo>
                  <a:pt x="8830" y="14784"/>
                </a:moveTo>
                <a:cubicBezTo>
                  <a:pt x="8966" y="14708"/>
                  <a:pt x="9099" y="14675"/>
                  <a:pt x="9252" y="14635"/>
                </a:cubicBezTo>
                <a:cubicBezTo>
                  <a:pt x="9567" y="14551"/>
                  <a:pt x="9853" y="14544"/>
                  <a:pt x="10170" y="14511"/>
                </a:cubicBezTo>
                <a:cubicBezTo>
                  <a:pt x="10329" y="14495"/>
                  <a:pt x="10484" y="14474"/>
                  <a:pt x="10641" y="14436"/>
                </a:cubicBezTo>
                <a:cubicBezTo>
                  <a:pt x="10757" y="14408"/>
                  <a:pt x="10768" y="14362"/>
                  <a:pt x="10864" y="14312"/>
                </a:cubicBezTo>
                <a:cubicBezTo>
                  <a:pt x="10932" y="14277"/>
                  <a:pt x="11044" y="14232"/>
                  <a:pt x="11112" y="14213"/>
                </a:cubicBezTo>
                <a:cubicBezTo>
                  <a:pt x="11137" y="14213"/>
                  <a:pt x="11145" y="14213"/>
                  <a:pt x="11162" y="14213"/>
                </a:cubicBezTo>
                <a:cubicBezTo>
                  <a:pt x="11095" y="14235"/>
                  <a:pt x="11081" y="14245"/>
                  <a:pt x="11013" y="14263"/>
                </a:cubicBezTo>
                <a:cubicBezTo>
                  <a:pt x="10763" y="14330"/>
                  <a:pt x="10518" y="14415"/>
                  <a:pt x="10269" y="14486"/>
                </a:cubicBezTo>
                <a:cubicBezTo>
                  <a:pt x="10244" y="14494"/>
                  <a:pt x="10220" y="14503"/>
                  <a:pt x="10195" y="14511"/>
                </a:cubicBezTo>
              </a:path>
              <a:path w="2407" h="1316">
                <a:moveTo>
                  <a:pt x="8880" y="14883"/>
                </a:moveTo>
                <a:cubicBezTo>
                  <a:pt x="8958" y="14848"/>
                  <a:pt x="9064" y="14803"/>
                  <a:pt x="9153" y="14784"/>
                </a:cubicBezTo>
                <a:cubicBezTo>
                  <a:pt x="9397" y="14732"/>
                  <a:pt x="9651" y="14672"/>
                  <a:pt x="9897" y="14635"/>
                </a:cubicBezTo>
                <a:cubicBezTo>
                  <a:pt x="10170" y="14594"/>
                  <a:pt x="10444" y="14571"/>
                  <a:pt x="10716" y="14536"/>
                </a:cubicBezTo>
                <a:cubicBezTo>
                  <a:pt x="10832" y="14521"/>
                  <a:pt x="10947" y="14494"/>
                  <a:pt x="11063" y="14486"/>
                </a:cubicBezTo>
                <a:cubicBezTo>
                  <a:pt x="11071" y="14486"/>
                  <a:pt x="11080" y="14486"/>
                  <a:pt x="11088" y="1448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57200" y="4429080"/>
            <a:ext cx="5572080" cy="2170080"/>
          </a:xfrm>
          <a:custGeom>
            <a:avLst/>
            <a:gdLst/>
            <a:ahLst/>
            <a:rect l="l" t="t" r="r" b="b"/>
            <a:pathLst>
              <a:path w="15479" h="6029">
                <a:moveTo>
                  <a:pt x="14635" y="12303"/>
                </a:moveTo>
                <a:lnTo>
                  <a:pt x="14635" y="12303"/>
                </a:lnTo>
              </a:path>
              <a:path w="15479" h="6029">
                <a:moveTo>
                  <a:pt x="18306" y="15180"/>
                </a:moveTo>
                <a:lnTo>
                  <a:pt x="18306" y="15180"/>
                </a:lnTo>
              </a:path>
              <a:path w="15479" h="6029">
                <a:moveTo>
                  <a:pt x="18976" y="18331"/>
                </a:moveTo>
                <a:cubicBezTo>
                  <a:pt x="19078" y="18286"/>
                  <a:pt x="19138" y="18265"/>
                  <a:pt x="19248" y="18256"/>
                </a:cubicBezTo>
              </a:path>
              <a:path w="15479" h="6029">
                <a:moveTo>
                  <a:pt x="15379" y="13370"/>
                </a:moveTo>
                <a:cubicBezTo>
                  <a:pt x="15477" y="13418"/>
                  <a:pt x="15546" y="13687"/>
                  <a:pt x="15577" y="13791"/>
                </a:cubicBezTo>
                <a:cubicBezTo>
                  <a:pt x="15597" y="13892"/>
                  <a:pt x="15595" y="13912"/>
                  <a:pt x="15627" y="13965"/>
                </a:cubicBezTo>
              </a:path>
              <a:path w="15479" h="6029">
                <a:moveTo>
                  <a:pt x="3770" y="18306"/>
                </a:moveTo>
                <a:cubicBezTo>
                  <a:pt x="3798" y="18306"/>
                  <a:pt x="3804" y="18308"/>
                  <a:pt x="3770" y="1833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56160" y="4749840"/>
            <a:ext cx="29520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5230" y="13891"/>
                </a:moveTo>
                <a:cubicBezTo>
                  <a:pt x="15426" y="13775"/>
                  <a:pt x="15620" y="13665"/>
                  <a:pt x="15825" y="13568"/>
                </a:cubicBezTo>
                <a:cubicBezTo>
                  <a:pt x="15842" y="13560"/>
                  <a:pt x="15858" y="13551"/>
                  <a:pt x="15875" y="13543"/>
                </a:cubicBezTo>
              </a:path>
              <a:path w="819" h="770">
                <a:moveTo>
                  <a:pt x="15677" y="13196"/>
                </a:moveTo>
                <a:cubicBezTo>
                  <a:pt x="15582" y="13416"/>
                  <a:pt x="15514" y="13636"/>
                  <a:pt x="15453" y="13866"/>
                </a:cubicBezTo>
                <a:cubicBezTo>
                  <a:pt x="15442" y="13907"/>
                  <a:pt x="15429" y="13983"/>
                  <a:pt x="15429" y="13940"/>
                </a:cubicBezTo>
              </a:path>
              <a:path w="819" h="770">
                <a:moveTo>
                  <a:pt x="15156" y="13519"/>
                </a:moveTo>
                <a:cubicBezTo>
                  <a:pt x="15291" y="13552"/>
                  <a:pt x="15460" y="13606"/>
                  <a:pt x="15602" y="13643"/>
                </a:cubicBezTo>
                <a:cubicBezTo>
                  <a:pt x="15665" y="13659"/>
                  <a:pt x="15924" y="13709"/>
                  <a:pt x="15974" y="13767"/>
                </a:cubicBezTo>
                <a:cubicBezTo>
                  <a:pt x="15974" y="13775"/>
                  <a:pt x="15974" y="13783"/>
                  <a:pt x="15974" y="13791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45080" y="4813200"/>
            <a:ext cx="1974960" cy="1973520"/>
          </a:xfrm>
          <a:custGeom>
            <a:avLst/>
            <a:gdLst/>
            <a:ahLst/>
            <a:rect l="l" t="t" r="r" b="b"/>
            <a:pathLst>
              <a:path w="5483" h="5483">
                <a:moveTo>
                  <a:pt x="15429" y="15230"/>
                </a:moveTo>
                <a:cubicBezTo>
                  <a:pt x="15393" y="15313"/>
                  <a:pt x="15415" y="15320"/>
                  <a:pt x="15429" y="15404"/>
                </a:cubicBezTo>
                <a:cubicBezTo>
                  <a:pt x="15440" y="15472"/>
                  <a:pt x="15415" y="15487"/>
                  <a:pt x="15503" y="15503"/>
                </a:cubicBezTo>
                <a:cubicBezTo>
                  <a:pt x="15543" y="15510"/>
                  <a:pt x="15623" y="15499"/>
                  <a:pt x="15652" y="15478"/>
                </a:cubicBezTo>
                <a:cubicBezTo>
                  <a:pt x="15701" y="15443"/>
                  <a:pt x="15709" y="15396"/>
                  <a:pt x="15751" y="15354"/>
                </a:cubicBezTo>
                <a:cubicBezTo>
                  <a:pt x="15800" y="15374"/>
                  <a:pt x="15826" y="15430"/>
                  <a:pt x="15875" y="15453"/>
                </a:cubicBezTo>
                <a:cubicBezTo>
                  <a:pt x="15929" y="15478"/>
                  <a:pt x="16062" y="15505"/>
                  <a:pt x="16123" y="15478"/>
                </a:cubicBezTo>
                <a:cubicBezTo>
                  <a:pt x="16196" y="15445"/>
                  <a:pt x="16242" y="15379"/>
                  <a:pt x="16321" y="15354"/>
                </a:cubicBezTo>
                <a:cubicBezTo>
                  <a:pt x="16339" y="15348"/>
                  <a:pt x="16389" y="15292"/>
                  <a:pt x="16396" y="15280"/>
                </a:cubicBezTo>
                <a:cubicBezTo>
                  <a:pt x="16413" y="15250"/>
                  <a:pt x="16421" y="15253"/>
                  <a:pt x="16421" y="15205"/>
                </a:cubicBezTo>
                <a:cubicBezTo>
                  <a:pt x="16421" y="15206"/>
                  <a:pt x="16383" y="15323"/>
                  <a:pt x="16421" y="15280"/>
                </a:cubicBezTo>
                <a:cubicBezTo>
                  <a:pt x="16446" y="15230"/>
                  <a:pt x="16454" y="15213"/>
                  <a:pt x="16421" y="15180"/>
                </a:cubicBezTo>
                <a:cubicBezTo>
                  <a:pt x="16371" y="15180"/>
                  <a:pt x="16314" y="15216"/>
                  <a:pt x="16346" y="15280"/>
                </a:cubicBezTo>
                <a:cubicBezTo>
                  <a:pt x="16386" y="15359"/>
                  <a:pt x="16421" y="15209"/>
                  <a:pt x="16421" y="15180"/>
                </a:cubicBezTo>
                <a:cubicBezTo>
                  <a:pt x="16356" y="15226"/>
                  <a:pt x="16356" y="15224"/>
                  <a:pt x="16346" y="15304"/>
                </a:cubicBezTo>
                <a:cubicBezTo>
                  <a:pt x="16396" y="15314"/>
                  <a:pt x="16462" y="15271"/>
                  <a:pt x="16421" y="15230"/>
                </a:cubicBezTo>
              </a:path>
              <a:path w="5483" h="5483">
                <a:moveTo>
                  <a:pt x="17338" y="15255"/>
                </a:moveTo>
                <a:cubicBezTo>
                  <a:pt x="17392" y="15273"/>
                  <a:pt x="17339" y="15286"/>
                  <a:pt x="17363" y="15329"/>
                </a:cubicBezTo>
                <a:cubicBezTo>
                  <a:pt x="17389" y="15375"/>
                  <a:pt x="17465" y="15414"/>
                  <a:pt x="17512" y="15429"/>
                </a:cubicBezTo>
                <a:cubicBezTo>
                  <a:pt x="17587" y="15452"/>
                  <a:pt x="17675" y="15416"/>
                  <a:pt x="17735" y="15404"/>
                </a:cubicBezTo>
                <a:cubicBezTo>
                  <a:pt x="17786" y="15394"/>
                  <a:pt x="17812" y="15392"/>
                  <a:pt x="17859" y="15354"/>
                </a:cubicBezTo>
                <a:cubicBezTo>
                  <a:pt x="17891" y="15328"/>
                  <a:pt x="17884" y="15317"/>
                  <a:pt x="17884" y="15280"/>
                </a:cubicBezTo>
                <a:cubicBezTo>
                  <a:pt x="17937" y="15297"/>
                  <a:pt x="17883" y="15331"/>
                  <a:pt x="17934" y="15379"/>
                </a:cubicBezTo>
                <a:cubicBezTo>
                  <a:pt x="17969" y="15412"/>
                  <a:pt x="18059" y="15465"/>
                  <a:pt x="18107" y="15453"/>
                </a:cubicBezTo>
                <a:cubicBezTo>
                  <a:pt x="18137" y="15446"/>
                  <a:pt x="18264" y="15417"/>
                  <a:pt x="18281" y="15404"/>
                </a:cubicBezTo>
                <a:cubicBezTo>
                  <a:pt x="18293" y="15395"/>
                  <a:pt x="18317" y="15354"/>
                  <a:pt x="18331" y="15329"/>
                </a:cubicBezTo>
                <a:cubicBezTo>
                  <a:pt x="18347" y="15300"/>
                  <a:pt x="18375" y="15239"/>
                  <a:pt x="18380" y="15230"/>
                </a:cubicBezTo>
                <a:cubicBezTo>
                  <a:pt x="18391" y="15208"/>
                  <a:pt x="18360" y="15177"/>
                  <a:pt x="18355" y="15156"/>
                </a:cubicBezTo>
              </a:path>
              <a:path w="5483" h="5483">
                <a:moveTo>
                  <a:pt x="18355" y="14362"/>
                </a:moveTo>
                <a:cubicBezTo>
                  <a:pt x="18312" y="14328"/>
                  <a:pt x="18263" y="14335"/>
                  <a:pt x="18281" y="14412"/>
                </a:cubicBezTo>
                <a:cubicBezTo>
                  <a:pt x="18311" y="14539"/>
                  <a:pt x="18360" y="14347"/>
                  <a:pt x="18331" y="14288"/>
                </a:cubicBezTo>
                <a:cubicBezTo>
                  <a:pt x="18273" y="14288"/>
                  <a:pt x="18256" y="14296"/>
                  <a:pt x="18281" y="14362"/>
                </a:cubicBezTo>
                <a:cubicBezTo>
                  <a:pt x="18299" y="14467"/>
                  <a:pt x="18359" y="14375"/>
                  <a:pt x="18355" y="14312"/>
                </a:cubicBezTo>
                <a:cubicBezTo>
                  <a:pt x="18350" y="14237"/>
                  <a:pt x="18306" y="14379"/>
                  <a:pt x="18306" y="14412"/>
                </a:cubicBezTo>
                <a:cubicBezTo>
                  <a:pt x="18306" y="14404"/>
                  <a:pt x="18306" y="14395"/>
                  <a:pt x="18306" y="14387"/>
                </a:cubicBezTo>
              </a:path>
              <a:path w="5483" h="5483">
                <a:moveTo>
                  <a:pt x="17934" y="13841"/>
                </a:moveTo>
                <a:cubicBezTo>
                  <a:pt x="17827" y="13856"/>
                  <a:pt x="17829" y="13916"/>
                  <a:pt x="17810" y="14015"/>
                </a:cubicBezTo>
                <a:cubicBezTo>
                  <a:pt x="17788" y="14129"/>
                  <a:pt x="17778" y="14183"/>
                  <a:pt x="17810" y="14288"/>
                </a:cubicBezTo>
                <a:cubicBezTo>
                  <a:pt x="17893" y="14288"/>
                  <a:pt x="17967" y="14276"/>
                  <a:pt x="18008" y="14188"/>
                </a:cubicBezTo>
                <a:cubicBezTo>
                  <a:pt x="18045" y="14108"/>
                  <a:pt x="18052" y="13961"/>
                  <a:pt x="17983" y="13891"/>
                </a:cubicBezTo>
                <a:cubicBezTo>
                  <a:pt x="17967" y="13883"/>
                  <a:pt x="17950" y="13874"/>
                  <a:pt x="17934" y="13866"/>
                </a:cubicBezTo>
              </a:path>
              <a:path w="5483" h="5483">
                <a:moveTo>
                  <a:pt x="18728" y="14660"/>
                </a:moveTo>
                <a:cubicBezTo>
                  <a:pt x="18692" y="14606"/>
                  <a:pt x="18677" y="14648"/>
                  <a:pt x="18653" y="14660"/>
                </a:cubicBezTo>
                <a:cubicBezTo>
                  <a:pt x="18625" y="14674"/>
                  <a:pt x="18563" y="14783"/>
                  <a:pt x="18554" y="14833"/>
                </a:cubicBezTo>
                <a:cubicBezTo>
                  <a:pt x="18545" y="14884"/>
                  <a:pt x="18558" y="14988"/>
                  <a:pt x="18579" y="15032"/>
                </a:cubicBezTo>
                <a:cubicBezTo>
                  <a:pt x="18589" y="15054"/>
                  <a:pt x="18649" y="15154"/>
                  <a:pt x="18653" y="15156"/>
                </a:cubicBezTo>
                <a:cubicBezTo>
                  <a:pt x="18710" y="15180"/>
                  <a:pt x="18757" y="15107"/>
                  <a:pt x="18777" y="15081"/>
                </a:cubicBezTo>
                <a:cubicBezTo>
                  <a:pt x="18812" y="15036"/>
                  <a:pt x="18848" y="14991"/>
                  <a:pt x="18852" y="14932"/>
                </a:cubicBezTo>
                <a:cubicBezTo>
                  <a:pt x="18858" y="14850"/>
                  <a:pt x="18826" y="14803"/>
                  <a:pt x="18777" y="14759"/>
                </a:cubicBezTo>
                <a:cubicBezTo>
                  <a:pt x="18752" y="14737"/>
                  <a:pt x="18743" y="14691"/>
                  <a:pt x="18728" y="14684"/>
                </a:cubicBezTo>
                <a:cubicBezTo>
                  <a:pt x="18696" y="14668"/>
                  <a:pt x="18673" y="14694"/>
                  <a:pt x="18653" y="14709"/>
                </a:cubicBezTo>
              </a:path>
              <a:path w="5483" h="5483">
                <a:moveTo>
                  <a:pt x="18231" y="14461"/>
                </a:moveTo>
                <a:cubicBezTo>
                  <a:pt x="18255" y="14447"/>
                  <a:pt x="18253" y="14439"/>
                  <a:pt x="18306" y="14436"/>
                </a:cubicBezTo>
                <a:cubicBezTo>
                  <a:pt x="18397" y="14431"/>
                  <a:pt x="18470" y="14447"/>
                  <a:pt x="18554" y="14461"/>
                </a:cubicBezTo>
                <a:cubicBezTo>
                  <a:pt x="18595" y="14468"/>
                  <a:pt x="18616" y="14480"/>
                  <a:pt x="18653" y="14486"/>
                </a:cubicBezTo>
                <a:cubicBezTo>
                  <a:pt x="18735" y="14500"/>
                  <a:pt x="18819" y="14498"/>
                  <a:pt x="18901" y="14511"/>
                </a:cubicBezTo>
                <a:cubicBezTo>
                  <a:pt x="18982" y="14524"/>
                  <a:pt x="19068" y="14553"/>
                  <a:pt x="19149" y="14560"/>
                </a:cubicBezTo>
                <a:cubicBezTo>
                  <a:pt x="19274" y="14571"/>
                  <a:pt x="19398" y="14562"/>
                  <a:pt x="19521" y="14585"/>
                </a:cubicBezTo>
                <a:cubicBezTo>
                  <a:pt x="19647" y="14608"/>
                  <a:pt x="19768" y="14616"/>
                  <a:pt x="19893" y="14635"/>
                </a:cubicBezTo>
                <a:cubicBezTo>
                  <a:pt x="20051" y="14659"/>
                  <a:pt x="20206" y="14679"/>
                  <a:pt x="20365" y="14684"/>
                </a:cubicBezTo>
                <a:cubicBezTo>
                  <a:pt x="20481" y="14687"/>
                  <a:pt x="20599" y="14690"/>
                  <a:pt x="20712" y="14709"/>
                </a:cubicBezTo>
                <a:cubicBezTo>
                  <a:pt x="20778" y="14720"/>
                  <a:pt x="20804" y="14728"/>
                  <a:pt x="20861" y="14734"/>
                </a:cubicBezTo>
              </a:path>
              <a:path w="5483" h="5483">
                <a:moveTo>
                  <a:pt x="18604" y="13915"/>
                </a:moveTo>
                <a:cubicBezTo>
                  <a:pt x="18596" y="13886"/>
                  <a:pt x="18586" y="13870"/>
                  <a:pt x="18579" y="13841"/>
                </a:cubicBezTo>
                <a:cubicBezTo>
                  <a:pt x="18594" y="13973"/>
                  <a:pt x="18606" y="14107"/>
                  <a:pt x="18628" y="14238"/>
                </a:cubicBezTo>
              </a:path>
              <a:path w="5483" h="5483">
                <a:moveTo>
                  <a:pt x="17190" y="15553"/>
                </a:moveTo>
                <a:cubicBezTo>
                  <a:pt x="17190" y="15654"/>
                  <a:pt x="17169" y="15749"/>
                  <a:pt x="17165" y="15850"/>
                </a:cubicBezTo>
                <a:cubicBezTo>
                  <a:pt x="17165" y="15867"/>
                  <a:pt x="17165" y="15883"/>
                  <a:pt x="17165" y="15900"/>
                </a:cubicBezTo>
              </a:path>
              <a:path w="5483" h="5483">
                <a:moveTo>
                  <a:pt x="17711" y="15577"/>
                </a:moveTo>
                <a:cubicBezTo>
                  <a:pt x="17655" y="15588"/>
                  <a:pt x="17560" y="15582"/>
                  <a:pt x="17512" y="15602"/>
                </a:cubicBezTo>
                <a:cubicBezTo>
                  <a:pt x="17469" y="15620"/>
                  <a:pt x="17467" y="15715"/>
                  <a:pt x="17462" y="15751"/>
                </a:cubicBezTo>
                <a:cubicBezTo>
                  <a:pt x="17536" y="15743"/>
                  <a:pt x="17657" y="15675"/>
                  <a:pt x="17686" y="15776"/>
                </a:cubicBezTo>
                <a:cubicBezTo>
                  <a:pt x="17721" y="15898"/>
                  <a:pt x="17611" y="15870"/>
                  <a:pt x="17537" y="15875"/>
                </a:cubicBezTo>
              </a:path>
              <a:path w="5483" h="5483">
                <a:moveTo>
                  <a:pt x="18058" y="15553"/>
                </a:moveTo>
                <a:cubicBezTo>
                  <a:pt x="18150" y="15561"/>
                  <a:pt x="18251" y="15565"/>
                  <a:pt x="18207" y="15701"/>
                </a:cubicBezTo>
                <a:cubicBezTo>
                  <a:pt x="18172" y="15809"/>
                  <a:pt x="18096" y="15843"/>
                  <a:pt x="18008" y="15801"/>
                </a:cubicBezTo>
                <a:cubicBezTo>
                  <a:pt x="18031" y="15732"/>
                  <a:pt x="18120" y="15770"/>
                  <a:pt x="18182" y="15776"/>
                </a:cubicBezTo>
                <a:cubicBezTo>
                  <a:pt x="18275" y="15785"/>
                  <a:pt x="18230" y="15853"/>
                  <a:pt x="18281" y="15701"/>
                </a:cubicBezTo>
              </a:path>
              <a:path w="5483" h="5483">
                <a:moveTo>
                  <a:pt x="18802" y="15429"/>
                </a:moveTo>
                <a:cubicBezTo>
                  <a:pt x="18771" y="15437"/>
                  <a:pt x="18624" y="15453"/>
                  <a:pt x="18604" y="15478"/>
                </a:cubicBezTo>
                <a:cubicBezTo>
                  <a:pt x="18597" y="15486"/>
                  <a:pt x="18604" y="15574"/>
                  <a:pt x="18604" y="15577"/>
                </a:cubicBezTo>
                <a:cubicBezTo>
                  <a:pt x="18668" y="15577"/>
                  <a:pt x="18753" y="15574"/>
                  <a:pt x="18802" y="15627"/>
                </a:cubicBezTo>
                <a:cubicBezTo>
                  <a:pt x="18885" y="15716"/>
                  <a:pt x="18746" y="15760"/>
                  <a:pt x="18678" y="15776"/>
                </a:cubicBezTo>
                <a:cubicBezTo>
                  <a:pt x="18661" y="15776"/>
                  <a:pt x="18645" y="15776"/>
                  <a:pt x="18628" y="15776"/>
                </a:cubicBezTo>
              </a:path>
              <a:path w="5483" h="5483">
                <a:moveTo>
                  <a:pt x="16570" y="15974"/>
                </a:moveTo>
                <a:cubicBezTo>
                  <a:pt x="16654" y="15991"/>
                  <a:pt x="16612" y="15982"/>
                  <a:pt x="16718" y="15974"/>
                </a:cubicBezTo>
                <a:cubicBezTo>
                  <a:pt x="17012" y="15951"/>
                  <a:pt x="17321" y="15970"/>
                  <a:pt x="17611" y="15999"/>
                </a:cubicBezTo>
                <a:cubicBezTo>
                  <a:pt x="17809" y="16019"/>
                  <a:pt x="18013" y="15990"/>
                  <a:pt x="18207" y="15974"/>
                </a:cubicBezTo>
                <a:cubicBezTo>
                  <a:pt x="18462" y="15953"/>
                  <a:pt x="18724" y="15972"/>
                  <a:pt x="18976" y="15949"/>
                </a:cubicBezTo>
                <a:cubicBezTo>
                  <a:pt x="19083" y="15939"/>
                  <a:pt x="19141" y="15949"/>
                  <a:pt x="19248" y="15949"/>
                </a:cubicBezTo>
              </a:path>
              <a:path w="5483" h="5483">
                <a:moveTo>
                  <a:pt x="16570" y="15726"/>
                </a:moveTo>
                <a:cubicBezTo>
                  <a:pt x="16636" y="15726"/>
                  <a:pt x="16702" y="15726"/>
                  <a:pt x="16768" y="15726"/>
                </a:cubicBezTo>
              </a:path>
              <a:path w="5483" h="5483">
                <a:moveTo>
                  <a:pt x="17785" y="14709"/>
                </a:moveTo>
                <a:cubicBezTo>
                  <a:pt x="17723" y="14709"/>
                  <a:pt x="17616" y="14910"/>
                  <a:pt x="17562" y="15007"/>
                </a:cubicBezTo>
                <a:cubicBezTo>
                  <a:pt x="17537" y="15052"/>
                  <a:pt x="17450" y="15154"/>
                  <a:pt x="17438" y="15180"/>
                </a:cubicBezTo>
                <a:cubicBezTo>
                  <a:pt x="17438" y="15188"/>
                  <a:pt x="17438" y="15197"/>
                  <a:pt x="17438" y="15205"/>
                </a:cubicBezTo>
              </a:path>
              <a:path w="5483" h="5483">
                <a:moveTo>
                  <a:pt x="17338" y="14635"/>
                </a:moveTo>
                <a:cubicBezTo>
                  <a:pt x="17338" y="14680"/>
                  <a:pt x="17317" y="14694"/>
                  <a:pt x="17314" y="14734"/>
                </a:cubicBezTo>
                <a:cubicBezTo>
                  <a:pt x="17310" y="14796"/>
                  <a:pt x="17333" y="14807"/>
                  <a:pt x="17338" y="14858"/>
                </a:cubicBezTo>
                <a:cubicBezTo>
                  <a:pt x="17341" y="14890"/>
                  <a:pt x="17338" y="14925"/>
                  <a:pt x="17338" y="14957"/>
                </a:cubicBezTo>
                <a:cubicBezTo>
                  <a:pt x="17397" y="14950"/>
                  <a:pt x="17436" y="14920"/>
                  <a:pt x="17462" y="14908"/>
                </a:cubicBezTo>
                <a:cubicBezTo>
                  <a:pt x="17470" y="14908"/>
                  <a:pt x="17479" y="14908"/>
                  <a:pt x="17487" y="14908"/>
                </a:cubicBezTo>
                <a:cubicBezTo>
                  <a:pt x="17477" y="14879"/>
                  <a:pt x="17459" y="14833"/>
                  <a:pt x="17413" y="14883"/>
                </a:cubicBezTo>
                <a:cubicBezTo>
                  <a:pt x="17377" y="14922"/>
                  <a:pt x="17363" y="14981"/>
                  <a:pt x="17363" y="15032"/>
                </a:cubicBezTo>
              </a:path>
              <a:path w="5483" h="5483">
                <a:moveTo>
                  <a:pt x="17884" y="14684"/>
                </a:moveTo>
                <a:cubicBezTo>
                  <a:pt x="17841" y="14698"/>
                  <a:pt x="17853" y="14805"/>
                  <a:pt x="17835" y="14858"/>
                </a:cubicBezTo>
                <a:cubicBezTo>
                  <a:pt x="17815" y="14898"/>
                  <a:pt x="17806" y="14905"/>
                  <a:pt x="17810" y="14932"/>
                </a:cubicBezTo>
              </a:path>
              <a:path w="5483" h="5483">
                <a:moveTo>
                  <a:pt x="18132" y="14808"/>
                </a:moveTo>
                <a:cubicBezTo>
                  <a:pt x="18132" y="14735"/>
                  <a:pt x="18014" y="14994"/>
                  <a:pt x="18008" y="15007"/>
                </a:cubicBezTo>
                <a:cubicBezTo>
                  <a:pt x="17964" y="15108"/>
                  <a:pt x="17892" y="15220"/>
                  <a:pt x="17884" y="15329"/>
                </a:cubicBezTo>
                <a:cubicBezTo>
                  <a:pt x="17881" y="15371"/>
                  <a:pt x="17872" y="15340"/>
                  <a:pt x="17859" y="15379"/>
                </a:cubicBezTo>
              </a:path>
              <a:path w="5483" h="5483">
                <a:moveTo>
                  <a:pt x="18033" y="14486"/>
                </a:moveTo>
                <a:cubicBezTo>
                  <a:pt x="18033" y="14531"/>
                  <a:pt x="18028" y="14463"/>
                  <a:pt x="18008" y="14436"/>
                </a:cubicBezTo>
                <a:cubicBezTo>
                  <a:pt x="17943" y="14436"/>
                  <a:pt x="17909" y="14464"/>
                  <a:pt x="17884" y="14536"/>
                </a:cubicBezTo>
                <a:cubicBezTo>
                  <a:pt x="17884" y="14577"/>
                  <a:pt x="17884" y="14585"/>
                  <a:pt x="17884" y="14610"/>
                </a:cubicBezTo>
                <a:cubicBezTo>
                  <a:pt x="17937" y="14610"/>
                  <a:pt x="17982" y="14587"/>
                  <a:pt x="18008" y="14536"/>
                </a:cubicBezTo>
                <a:cubicBezTo>
                  <a:pt x="18010" y="14531"/>
                  <a:pt x="18008" y="14442"/>
                  <a:pt x="18008" y="14511"/>
                </a:cubicBezTo>
                <a:cubicBezTo>
                  <a:pt x="18008" y="14610"/>
                  <a:pt x="18006" y="14701"/>
                  <a:pt x="17983" y="14784"/>
                </a:cubicBezTo>
                <a:cubicBezTo>
                  <a:pt x="17983" y="14808"/>
                  <a:pt x="17983" y="14816"/>
                  <a:pt x="18008" y="14808"/>
                </a:cubicBezTo>
              </a:path>
              <a:path w="5483" h="5483">
                <a:moveTo>
                  <a:pt x="18455" y="14808"/>
                </a:moveTo>
                <a:cubicBezTo>
                  <a:pt x="18455" y="14783"/>
                  <a:pt x="18455" y="14759"/>
                  <a:pt x="18455" y="14734"/>
                </a:cubicBezTo>
                <a:cubicBezTo>
                  <a:pt x="18397" y="14753"/>
                  <a:pt x="18408" y="14867"/>
                  <a:pt x="18405" y="14932"/>
                </a:cubicBezTo>
                <a:cubicBezTo>
                  <a:pt x="18402" y="15012"/>
                  <a:pt x="18413" y="14957"/>
                  <a:pt x="18430" y="15007"/>
                </a:cubicBezTo>
              </a:path>
              <a:path w="5483" h="5483">
                <a:moveTo>
                  <a:pt x="18876" y="16297"/>
                </a:moveTo>
                <a:cubicBezTo>
                  <a:pt x="18863" y="16335"/>
                  <a:pt x="18778" y="16358"/>
                  <a:pt x="18728" y="16371"/>
                </a:cubicBezTo>
                <a:cubicBezTo>
                  <a:pt x="18684" y="16382"/>
                  <a:pt x="18703" y="16473"/>
                  <a:pt x="18703" y="16520"/>
                </a:cubicBezTo>
                <a:cubicBezTo>
                  <a:pt x="18703" y="16528"/>
                  <a:pt x="18703" y="16537"/>
                  <a:pt x="18703" y="16545"/>
                </a:cubicBezTo>
                <a:cubicBezTo>
                  <a:pt x="18732" y="16539"/>
                  <a:pt x="18825" y="16490"/>
                  <a:pt x="18852" y="16495"/>
                </a:cubicBezTo>
                <a:cubicBezTo>
                  <a:pt x="18954" y="16512"/>
                  <a:pt x="18932" y="16685"/>
                  <a:pt x="18901" y="16743"/>
                </a:cubicBezTo>
                <a:cubicBezTo>
                  <a:pt x="18869" y="16802"/>
                  <a:pt x="18783" y="16793"/>
                  <a:pt x="18728" y="16793"/>
                </a:cubicBezTo>
              </a:path>
              <a:path w="5483" h="5483">
                <a:moveTo>
                  <a:pt x="18008" y="16297"/>
                </a:moveTo>
                <a:cubicBezTo>
                  <a:pt x="18000" y="16305"/>
                  <a:pt x="17991" y="16313"/>
                  <a:pt x="17983" y="16321"/>
                </a:cubicBezTo>
                <a:cubicBezTo>
                  <a:pt x="18069" y="16321"/>
                  <a:pt x="18146" y="16340"/>
                  <a:pt x="18231" y="16346"/>
                </a:cubicBezTo>
                <a:cubicBezTo>
                  <a:pt x="18256" y="16346"/>
                  <a:pt x="18264" y="16346"/>
                  <a:pt x="18281" y="16346"/>
                </a:cubicBezTo>
                <a:cubicBezTo>
                  <a:pt x="18251" y="16465"/>
                  <a:pt x="18222" y="16600"/>
                  <a:pt x="18182" y="16718"/>
                </a:cubicBezTo>
                <a:cubicBezTo>
                  <a:pt x="18166" y="16767"/>
                  <a:pt x="18130" y="16801"/>
                  <a:pt x="18182" y="16818"/>
                </a:cubicBezTo>
              </a:path>
              <a:path w="5483" h="5483">
                <a:moveTo>
                  <a:pt x="17661" y="16446"/>
                </a:moveTo>
                <a:cubicBezTo>
                  <a:pt x="17681" y="16603"/>
                  <a:pt x="17717" y="16759"/>
                  <a:pt x="17735" y="16917"/>
                </a:cubicBezTo>
                <a:cubicBezTo>
                  <a:pt x="17735" y="16958"/>
                  <a:pt x="17735" y="16966"/>
                  <a:pt x="17735" y="16991"/>
                </a:cubicBezTo>
              </a:path>
              <a:path w="5483" h="5483">
                <a:moveTo>
                  <a:pt x="19323" y="14734"/>
                </a:moveTo>
                <a:cubicBezTo>
                  <a:pt x="19305" y="14730"/>
                  <a:pt x="19235" y="14682"/>
                  <a:pt x="19224" y="14684"/>
                </a:cubicBezTo>
                <a:cubicBezTo>
                  <a:pt x="19166" y="14692"/>
                  <a:pt x="19037" y="14741"/>
                  <a:pt x="19025" y="14808"/>
                </a:cubicBezTo>
                <a:cubicBezTo>
                  <a:pt x="19010" y="14890"/>
                  <a:pt x="19029" y="15167"/>
                  <a:pt x="19174" y="15156"/>
                </a:cubicBezTo>
                <a:cubicBezTo>
                  <a:pt x="19328" y="15144"/>
                  <a:pt x="19372" y="14918"/>
                  <a:pt x="19323" y="14808"/>
                </a:cubicBezTo>
                <a:cubicBezTo>
                  <a:pt x="19304" y="14766"/>
                  <a:pt x="19255" y="14758"/>
                  <a:pt x="19224" y="14734"/>
                </a:cubicBezTo>
              </a:path>
              <a:path w="5483" h="5483">
                <a:moveTo>
                  <a:pt x="19273" y="15329"/>
                </a:moveTo>
                <a:cubicBezTo>
                  <a:pt x="19265" y="15321"/>
                  <a:pt x="19256" y="15312"/>
                  <a:pt x="19248" y="15304"/>
                </a:cubicBezTo>
                <a:cubicBezTo>
                  <a:pt x="19271" y="15419"/>
                  <a:pt x="19273" y="15528"/>
                  <a:pt x="19273" y="15652"/>
                </a:cubicBezTo>
                <a:cubicBezTo>
                  <a:pt x="19273" y="15768"/>
                  <a:pt x="19273" y="15883"/>
                  <a:pt x="19273" y="15999"/>
                </a:cubicBezTo>
              </a:path>
              <a:path w="5483" h="5483">
                <a:moveTo>
                  <a:pt x="19298" y="16346"/>
                </a:moveTo>
                <a:cubicBezTo>
                  <a:pt x="19298" y="16257"/>
                  <a:pt x="19274" y="16341"/>
                  <a:pt x="19248" y="16421"/>
                </a:cubicBezTo>
                <a:cubicBezTo>
                  <a:pt x="19231" y="16472"/>
                  <a:pt x="19184" y="16710"/>
                  <a:pt x="19248" y="16743"/>
                </a:cubicBezTo>
                <a:cubicBezTo>
                  <a:pt x="19350" y="16797"/>
                  <a:pt x="19463" y="16749"/>
                  <a:pt x="19521" y="16669"/>
                </a:cubicBezTo>
                <a:cubicBezTo>
                  <a:pt x="19563" y="16611"/>
                  <a:pt x="19633" y="16499"/>
                  <a:pt x="19596" y="16421"/>
                </a:cubicBezTo>
                <a:cubicBezTo>
                  <a:pt x="19541" y="16306"/>
                  <a:pt x="19488" y="16347"/>
                  <a:pt x="19397" y="16297"/>
                </a:cubicBezTo>
                <a:cubicBezTo>
                  <a:pt x="19367" y="16267"/>
                  <a:pt x="19353" y="16262"/>
                  <a:pt x="19323" y="16297"/>
                </a:cubicBezTo>
              </a:path>
              <a:path w="5483" h="5483">
                <a:moveTo>
                  <a:pt x="18951" y="13866"/>
                </a:moveTo>
                <a:cubicBezTo>
                  <a:pt x="18951" y="13841"/>
                  <a:pt x="18951" y="13833"/>
                  <a:pt x="18951" y="13816"/>
                </a:cubicBezTo>
                <a:cubicBezTo>
                  <a:pt x="18967" y="13960"/>
                  <a:pt x="18976" y="14093"/>
                  <a:pt x="18976" y="14238"/>
                </a:cubicBezTo>
                <a:cubicBezTo>
                  <a:pt x="18976" y="14263"/>
                  <a:pt x="18976" y="14271"/>
                  <a:pt x="18976" y="14288"/>
                </a:cubicBezTo>
              </a:path>
              <a:path w="5483" h="5483">
                <a:moveTo>
                  <a:pt x="17909" y="17066"/>
                </a:moveTo>
                <a:cubicBezTo>
                  <a:pt x="17867" y="17148"/>
                  <a:pt x="17903" y="17220"/>
                  <a:pt x="17909" y="17314"/>
                </a:cubicBezTo>
                <a:cubicBezTo>
                  <a:pt x="17909" y="17322"/>
                  <a:pt x="17909" y="17330"/>
                  <a:pt x="17909" y="17338"/>
                </a:cubicBezTo>
              </a:path>
              <a:path w="5483" h="5483">
                <a:moveTo>
                  <a:pt x="18331" y="16966"/>
                </a:moveTo>
                <a:cubicBezTo>
                  <a:pt x="18276" y="16975"/>
                  <a:pt x="18230" y="17011"/>
                  <a:pt x="18182" y="17016"/>
                </a:cubicBezTo>
                <a:cubicBezTo>
                  <a:pt x="18135" y="17021"/>
                  <a:pt x="18122" y="17114"/>
                  <a:pt x="18107" y="17165"/>
                </a:cubicBezTo>
                <a:cubicBezTo>
                  <a:pt x="18182" y="17165"/>
                  <a:pt x="18256" y="17165"/>
                  <a:pt x="18331" y="17165"/>
                </a:cubicBezTo>
                <a:cubicBezTo>
                  <a:pt x="18331" y="17262"/>
                  <a:pt x="18343" y="17316"/>
                  <a:pt x="18231" y="17338"/>
                </a:cubicBezTo>
                <a:cubicBezTo>
                  <a:pt x="18165" y="17338"/>
                  <a:pt x="18141" y="17346"/>
                  <a:pt x="18157" y="17289"/>
                </a:cubicBezTo>
              </a:path>
              <a:path w="5483" h="5483">
                <a:moveTo>
                  <a:pt x="18827" y="17090"/>
                </a:moveTo>
                <a:cubicBezTo>
                  <a:pt x="18841" y="17050"/>
                  <a:pt x="18898" y="17050"/>
                  <a:pt x="18951" y="17041"/>
                </a:cubicBezTo>
                <a:cubicBezTo>
                  <a:pt x="19030" y="17161"/>
                  <a:pt x="18997" y="17229"/>
                  <a:pt x="18852" y="17289"/>
                </a:cubicBezTo>
                <a:cubicBezTo>
                  <a:pt x="18768" y="17310"/>
                  <a:pt x="18748" y="17326"/>
                  <a:pt x="18703" y="17289"/>
                </a:cubicBezTo>
                <a:cubicBezTo>
                  <a:pt x="18756" y="17214"/>
                  <a:pt x="18825" y="17140"/>
                  <a:pt x="18926" y="17190"/>
                </a:cubicBezTo>
                <a:cubicBezTo>
                  <a:pt x="18977" y="17215"/>
                  <a:pt x="18903" y="17247"/>
                  <a:pt x="19000" y="17214"/>
                </a:cubicBezTo>
              </a:path>
              <a:path w="5483" h="5483">
                <a:moveTo>
                  <a:pt x="19521" y="16892"/>
                </a:moveTo>
                <a:cubicBezTo>
                  <a:pt x="19468" y="16892"/>
                  <a:pt x="19424" y="16912"/>
                  <a:pt x="19372" y="16917"/>
                </a:cubicBezTo>
                <a:cubicBezTo>
                  <a:pt x="19348" y="16919"/>
                  <a:pt x="19302" y="16983"/>
                  <a:pt x="19298" y="16991"/>
                </a:cubicBezTo>
                <a:cubicBezTo>
                  <a:pt x="19298" y="16999"/>
                  <a:pt x="19298" y="17008"/>
                  <a:pt x="19298" y="17016"/>
                </a:cubicBezTo>
                <a:cubicBezTo>
                  <a:pt x="19373" y="17016"/>
                  <a:pt x="19453" y="17033"/>
                  <a:pt x="19521" y="17066"/>
                </a:cubicBezTo>
                <a:cubicBezTo>
                  <a:pt x="19529" y="17074"/>
                  <a:pt x="19538" y="17082"/>
                  <a:pt x="19546" y="17090"/>
                </a:cubicBezTo>
                <a:cubicBezTo>
                  <a:pt x="19496" y="17225"/>
                  <a:pt x="19408" y="17206"/>
                  <a:pt x="19273" y="17190"/>
                </a:cubicBezTo>
              </a:path>
              <a:path w="5483" h="5483">
                <a:moveTo>
                  <a:pt x="17090" y="17587"/>
                </a:moveTo>
                <a:cubicBezTo>
                  <a:pt x="17406" y="17529"/>
                  <a:pt x="17733" y="17499"/>
                  <a:pt x="18058" y="17512"/>
                </a:cubicBezTo>
                <a:cubicBezTo>
                  <a:pt x="18397" y="17526"/>
                  <a:pt x="18737" y="17550"/>
                  <a:pt x="19075" y="17562"/>
                </a:cubicBezTo>
                <a:cubicBezTo>
                  <a:pt x="19367" y="17573"/>
                  <a:pt x="19823" y="17495"/>
                  <a:pt x="20067" y="17587"/>
                </a:cubicBezTo>
              </a:path>
              <a:path w="5483" h="5483">
                <a:moveTo>
                  <a:pt x="18976" y="16321"/>
                </a:moveTo>
                <a:cubicBezTo>
                  <a:pt x="18976" y="16267"/>
                  <a:pt x="18813" y="16604"/>
                  <a:pt x="18802" y="16619"/>
                </a:cubicBezTo>
                <a:cubicBezTo>
                  <a:pt x="18789" y="16637"/>
                  <a:pt x="18639" y="16855"/>
                  <a:pt x="18604" y="16867"/>
                </a:cubicBezTo>
              </a:path>
              <a:path w="5483" h="5483">
                <a:moveTo>
                  <a:pt x="18628" y="16173"/>
                </a:moveTo>
                <a:cubicBezTo>
                  <a:pt x="18651" y="16165"/>
                  <a:pt x="18675" y="16122"/>
                  <a:pt x="18678" y="16098"/>
                </a:cubicBezTo>
                <a:cubicBezTo>
                  <a:pt x="18680" y="16082"/>
                  <a:pt x="18678" y="15960"/>
                  <a:pt x="18678" y="16024"/>
                </a:cubicBezTo>
                <a:cubicBezTo>
                  <a:pt x="18678" y="16080"/>
                  <a:pt x="18637" y="16131"/>
                  <a:pt x="18604" y="16173"/>
                </a:cubicBezTo>
                <a:cubicBezTo>
                  <a:pt x="18667" y="16189"/>
                  <a:pt x="18728" y="16197"/>
                  <a:pt x="18802" y="16197"/>
                </a:cubicBezTo>
                <a:cubicBezTo>
                  <a:pt x="18844" y="16197"/>
                  <a:pt x="18860" y="16189"/>
                  <a:pt x="18852" y="16222"/>
                </a:cubicBezTo>
              </a:path>
              <a:path w="5483" h="5483">
                <a:moveTo>
                  <a:pt x="18876" y="15999"/>
                </a:moveTo>
                <a:cubicBezTo>
                  <a:pt x="18838" y="16114"/>
                  <a:pt x="18807" y="16221"/>
                  <a:pt x="18777" y="16346"/>
                </a:cubicBezTo>
                <a:cubicBezTo>
                  <a:pt x="18761" y="16413"/>
                  <a:pt x="18728" y="16432"/>
                  <a:pt x="18728" y="16495"/>
                </a:cubicBezTo>
              </a:path>
              <a:path w="5483" h="5483">
                <a:moveTo>
                  <a:pt x="19273" y="16222"/>
                </a:moveTo>
                <a:cubicBezTo>
                  <a:pt x="19273" y="16172"/>
                  <a:pt x="19273" y="16123"/>
                  <a:pt x="19273" y="16073"/>
                </a:cubicBezTo>
                <a:cubicBezTo>
                  <a:pt x="19232" y="16187"/>
                  <a:pt x="19182" y="16304"/>
                  <a:pt x="19149" y="16421"/>
                </a:cubicBezTo>
                <a:cubicBezTo>
                  <a:pt x="19149" y="16446"/>
                  <a:pt x="19149" y="16454"/>
                  <a:pt x="19149" y="16470"/>
                </a:cubicBezTo>
              </a:path>
              <a:path w="5483" h="5483">
                <a:moveTo>
                  <a:pt x="19621" y="17661"/>
                </a:moveTo>
                <a:cubicBezTo>
                  <a:pt x="19538" y="17661"/>
                  <a:pt x="19455" y="17661"/>
                  <a:pt x="19372" y="17661"/>
                </a:cubicBezTo>
                <a:cubicBezTo>
                  <a:pt x="19372" y="17710"/>
                  <a:pt x="19353" y="17799"/>
                  <a:pt x="19397" y="17810"/>
                </a:cubicBezTo>
                <a:cubicBezTo>
                  <a:pt x="19483" y="17832"/>
                  <a:pt x="19534" y="17759"/>
                  <a:pt x="19621" y="17810"/>
                </a:cubicBezTo>
                <a:cubicBezTo>
                  <a:pt x="19715" y="17865"/>
                  <a:pt x="19520" y="17983"/>
                  <a:pt x="19472" y="17983"/>
                </a:cubicBezTo>
                <a:cubicBezTo>
                  <a:pt x="19369" y="17958"/>
                  <a:pt x="19334" y="17949"/>
                  <a:pt x="19273" y="17909"/>
                </a:cubicBezTo>
              </a:path>
              <a:path w="5483" h="5483">
                <a:moveTo>
                  <a:pt x="18802" y="17735"/>
                </a:moveTo>
                <a:cubicBezTo>
                  <a:pt x="18845" y="17709"/>
                  <a:pt x="18885" y="17678"/>
                  <a:pt x="18926" y="17661"/>
                </a:cubicBezTo>
                <a:cubicBezTo>
                  <a:pt x="18958" y="17823"/>
                  <a:pt x="18869" y="17859"/>
                  <a:pt x="18777" y="17983"/>
                </a:cubicBezTo>
                <a:cubicBezTo>
                  <a:pt x="18741" y="18031"/>
                  <a:pt x="18725" y="18033"/>
                  <a:pt x="18752" y="18033"/>
                </a:cubicBezTo>
                <a:cubicBezTo>
                  <a:pt x="18845" y="18014"/>
                  <a:pt x="18945" y="17995"/>
                  <a:pt x="19025" y="17983"/>
                </a:cubicBezTo>
                <a:cubicBezTo>
                  <a:pt x="19042" y="17975"/>
                  <a:pt x="19058" y="17967"/>
                  <a:pt x="19075" y="17959"/>
                </a:cubicBezTo>
              </a:path>
              <a:path w="5483" h="5483">
                <a:moveTo>
                  <a:pt x="18256" y="17810"/>
                </a:moveTo>
                <a:cubicBezTo>
                  <a:pt x="18289" y="17784"/>
                  <a:pt x="18322" y="17762"/>
                  <a:pt x="18355" y="17735"/>
                </a:cubicBezTo>
                <a:cubicBezTo>
                  <a:pt x="18427" y="17825"/>
                  <a:pt x="18392" y="17848"/>
                  <a:pt x="18331" y="17934"/>
                </a:cubicBezTo>
                <a:cubicBezTo>
                  <a:pt x="18285" y="17999"/>
                  <a:pt x="18186" y="18098"/>
                  <a:pt x="18132" y="18132"/>
                </a:cubicBezTo>
                <a:cubicBezTo>
                  <a:pt x="18097" y="18132"/>
                  <a:pt x="18084" y="18141"/>
                  <a:pt x="18083" y="18182"/>
                </a:cubicBezTo>
                <a:cubicBezTo>
                  <a:pt x="18137" y="18166"/>
                  <a:pt x="18270" y="18077"/>
                  <a:pt x="18331" y="18083"/>
                </a:cubicBezTo>
                <a:cubicBezTo>
                  <a:pt x="18374" y="18087"/>
                  <a:pt x="18403" y="18098"/>
                  <a:pt x="18430" y="18132"/>
                </a:cubicBezTo>
                <a:cubicBezTo>
                  <a:pt x="18430" y="18140"/>
                  <a:pt x="18430" y="18149"/>
                  <a:pt x="18430" y="18157"/>
                </a:cubicBezTo>
              </a:path>
              <a:path w="5483" h="5483">
                <a:moveTo>
                  <a:pt x="19745" y="14808"/>
                </a:moveTo>
                <a:cubicBezTo>
                  <a:pt x="19745" y="14749"/>
                  <a:pt x="19752" y="14772"/>
                  <a:pt x="19695" y="14734"/>
                </a:cubicBezTo>
                <a:cubicBezTo>
                  <a:pt x="19595" y="14763"/>
                  <a:pt x="19525" y="14887"/>
                  <a:pt x="19521" y="15007"/>
                </a:cubicBezTo>
                <a:cubicBezTo>
                  <a:pt x="19518" y="15102"/>
                  <a:pt x="19656" y="15108"/>
                  <a:pt x="19720" y="15081"/>
                </a:cubicBezTo>
                <a:cubicBezTo>
                  <a:pt x="19786" y="15053"/>
                  <a:pt x="19938" y="14929"/>
                  <a:pt x="19893" y="14833"/>
                </a:cubicBezTo>
                <a:cubicBezTo>
                  <a:pt x="19871" y="14787"/>
                  <a:pt x="19788" y="14745"/>
                  <a:pt x="19745" y="14734"/>
                </a:cubicBezTo>
              </a:path>
              <a:path w="5483" h="5483">
                <a:moveTo>
                  <a:pt x="19695" y="15230"/>
                </a:moveTo>
                <a:cubicBezTo>
                  <a:pt x="19695" y="15205"/>
                  <a:pt x="19695" y="15197"/>
                  <a:pt x="19695" y="15180"/>
                </a:cubicBezTo>
                <a:cubicBezTo>
                  <a:pt x="19689" y="15266"/>
                  <a:pt x="19674" y="15343"/>
                  <a:pt x="19670" y="15429"/>
                </a:cubicBezTo>
                <a:cubicBezTo>
                  <a:pt x="19660" y="15653"/>
                  <a:pt x="19670" y="15879"/>
                  <a:pt x="19695" y="16098"/>
                </a:cubicBezTo>
                <a:cubicBezTo>
                  <a:pt x="19712" y="16246"/>
                  <a:pt x="19665" y="16403"/>
                  <a:pt x="19720" y="16545"/>
                </a:cubicBezTo>
                <a:cubicBezTo>
                  <a:pt x="19739" y="16595"/>
                  <a:pt x="19762" y="16673"/>
                  <a:pt x="19769" y="16718"/>
                </a:cubicBezTo>
                <a:cubicBezTo>
                  <a:pt x="19779" y="16784"/>
                  <a:pt x="19785" y="16851"/>
                  <a:pt x="19794" y="16917"/>
                </a:cubicBezTo>
                <a:cubicBezTo>
                  <a:pt x="19804" y="16987"/>
                  <a:pt x="19795" y="17027"/>
                  <a:pt x="19819" y="17066"/>
                </a:cubicBezTo>
              </a:path>
              <a:path w="5483" h="5483">
                <a:moveTo>
                  <a:pt x="19993" y="17686"/>
                </a:moveTo>
                <a:cubicBezTo>
                  <a:pt x="19975" y="17632"/>
                  <a:pt x="19928" y="17668"/>
                  <a:pt x="19893" y="17711"/>
                </a:cubicBezTo>
                <a:cubicBezTo>
                  <a:pt x="19845" y="17770"/>
                  <a:pt x="19777" y="17878"/>
                  <a:pt x="19794" y="17959"/>
                </a:cubicBezTo>
                <a:cubicBezTo>
                  <a:pt x="19807" y="18018"/>
                  <a:pt x="19920" y="18038"/>
                  <a:pt x="19968" y="18008"/>
                </a:cubicBezTo>
                <a:cubicBezTo>
                  <a:pt x="20055" y="17954"/>
                  <a:pt x="20114" y="17884"/>
                  <a:pt x="20141" y="17785"/>
                </a:cubicBezTo>
                <a:cubicBezTo>
                  <a:pt x="20154" y="17739"/>
                  <a:pt x="20078" y="17676"/>
                  <a:pt x="20042" y="17661"/>
                </a:cubicBezTo>
                <a:cubicBezTo>
                  <a:pt x="20002" y="17645"/>
                  <a:pt x="19983" y="17617"/>
                  <a:pt x="19968" y="17661"/>
                </a:cubicBezTo>
              </a:path>
              <a:path w="5483" h="5483">
                <a:moveTo>
                  <a:pt x="19521" y="13940"/>
                </a:moveTo>
                <a:cubicBezTo>
                  <a:pt x="19521" y="13915"/>
                  <a:pt x="19521" y="13907"/>
                  <a:pt x="19521" y="13891"/>
                </a:cubicBezTo>
                <a:cubicBezTo>
                  <a:pt x="19496" y="14012"/>
                  <a:pt x="19496" y="14135"/>
                  <a:pt x="19496" y="14263"/>
                </a:cubicBezTo>
                <a:cubicBezTo>
                  <a:pt x="19496" y="14304"/>
                  <a:pt x="19496" y="14312"/>
                  <a:pt x="19496" y="14337"/>
                </a:cubicBezTo>
              </a:path>
              <a:path w="5483" h="5483">
                <a:moveTo>
                  <a:pt x="17661" y="18504"/>
                </a:moveTo>
                <a:cubicBezTo>
                  <a:pt x="17759" y="18504"/>
                  <a:pt x="17840" y="18501"/>
                  <a:pt x="17934" y="18479"/>
                </a:cubicBezTo>
              </a:path>
              <a:path w="5483" h="5483">
                <a:moveTo>
                  <a:pt x="18876" y="18306"/>
                </a:moveTo>
                <a:cubicBezTo>
                  <a:pt x="18837" y="18345"/>
                  <a:pt x="18821" y="18346"/>
                  <a:pt x="18827" y="18380"/>
                </a:cubicBezTo>
                <a:cubicBezTo>
                  <a:pt x="18863" y="18417"/>
                  <a:pt x="19011" y="18432"/>
                  <a:pt x="19025" y="18504"/>
                </a:cubicBezTo>
                <a:cubicBezTo>
                  <a:pt x="19050" y="18628"/>
                  <a:pt x="18973" y="18574"/>
                  <a:pt x="18901" y="18554"/>
                </a:cubicBezTo>
              </a:path>
              <a:path w="5483" h="5483">
                <a:moveTo>
                  <a:pt x="19397" y="18331"/>
                </a:moveTo>
                <a:cubicBezTo>
                  <a:pt x="19460" y="18338"/>
                  <a:pt x="19594" y="18373"/>
                  <a:pt x="19546" y="18479"/>
                </a:cubicBezTo>
                <a:cubicBezTo>
                  <a:pt x="19502" y="18576"/>
                  <a:pt x="19345" y="18623"/>
                  <a:pt x="19298" y="18529"/>
                </a:cubicBezTo>
                <a:cubicBezTo>
                  <a:pt x="19416" y="18493"/>
                  <a:pt x="19499" y="18432"/>
                  <a:pt x="19596" y="18529"/>
                </a:cubicBezTo>
                <a:cubicBezTo>
                  <a:pt x="19604" y="18537"/>
                  <a:pt x="19613" y="18546"/>
                  <a:pt x="19621" y="18554"/>
                </a:cubicBezTo>
              </a:path>
              <a:path w="5483" h="5483">
                <a:moveTo>
                  <a:pt x="20017" y="18207"/>
                </a:moveTo>
                <a:cubicBezTo>
                  <a:pt x="19983" y="18214"/>
                  <a:pt x="19927" y="18239"/>
                  <a:pt x="19918" y="18256"/>
                </a:cubicBezTo>
                <a:cubicBezTo>
                  <a:pt x="19891" y="18309"/>
                  <a:pt x="19995" y="18348"/>
                  <a:pt x="20017" y="18355"/>
                </a:cubicBezTo>
                <a:cubicBezTo>
                  <a:pt x="20050" y="18363"/>
                  <a:pt x="20084" y="18372"/>
                  <a:pt x="20117" y="18380"/>
                </a:cubicBezTo>
                <a:cubicBezTo>
                  <a:pt x="20099" y="18472"/>
                  <a:pt x="20016" y="18559"/>
                  <a:pt x="19918" y="18579"/>
                </a:cubicBezTo>
                <a:cubicBezTo>
                  <a:pt x="19910" y="18571"/>
                  <a:pt x="19901" y="18562"/>
                  <a:pt x="19893" y="18554"/>
                </a:cubicBezTo>
              </a:path>
              <a:path w="5483" h="5483">
                <a:moveTo>
                  <a:pt x="17983" y="18852"/>
                </a:moveTo>
                <a:cubicBezTo>
                  <a:pt x="18054" y="18823"/>
                  <a:pt x="18177" y="18794"/>
                  <a:pt x="18281" y="18777"/>
                </a:cubicBezTo>
                <a:cubicBezTo>
                  <a:pt x="18621" y="18720"/>
                  <a:pt x="18956" y="18719"/>
                  <a:pt x="19298" y="18703"/>
                </a:cubicBezTo>
                <a:cubicBezTo>
                  <a:pt x="19777" y="18680"/>
                  <a:pt x="20261" y="18595"/>
                  <a:pt x="20737" y="18529"/>
                </a:cubicBezTo>
                <a:cubicBezTo>
                  <a:pt x="20828" y="18511"/>
                  <a:pt x="20835" y="18502"/>
                  <a:pt x="20886" y="18504"/>
                </a:cubicBezTo>
              </a:path>
              <a:path w="5483" h="5483">
                <a:moveTo>
                  <a:pt x="19075" y="14511"/>
                </a:moveTo>
                <a:cubicBezTo>
                  <a:pt x="19048" y="14511"/>
                  <a:pt x="18886" y="14511"/>
                  <a:pt x="18951" y="14511"/>
                </a:cubicBezTo>
                <a:cubicBezTo>
                  <a:pt x="19026" y="14511"/>
                  <a:pt x="19223" y="14458"/>
                  <a:pt x="19025" y="14486"/>
                </a:cubicBezTo>
                <a:cubicBezTo>
                  <a:pt x="18996" y="14490"/>
                  <a:pt x="18807" y="14536"/>
                  <a:pt x="18926" y="14511"/>
                </a:cubicBezTo>
                <a:cubicBezTo>
                  <a:pt x="19019" y="14491"/>
                  <a:pt x="19244" y="14398"/>
                  <a:pt x="19000" y="14511"/>
                </a:cubicBezTo>
                <a:cubicBezTo>
                  <a:pt x="18734" y="14511"/>
                  <a:pt x="19016" y="14451"/>
                  <a:pt x="19100" y="14436"/>
                </a:cubicBezTo>
                <a:cubicBezTo>
                  <a:pt x="19246" y="14411"/>
                  <a:pt x="18887" y="14485"/>
                  <a:pt x="18876" y="14486"/>
                </a:cubicBezTo>
                <a:cubicBezTo>
                  <a:pt x="18785" y="14492"/>
                  <a:pt x="18960" y="14477"/>
                  <a:pt x="19050" y="14461"/>
                </a:cubicBezTo>
                <a:cubicBezTo>
                  <a:pt x="19167" y="14440"/>
                  <a:pt x="19069" y="14469"/>
                  <a:pt x="18951" y="14486"/>
                </a:cubicBezTo>
                <a:cubicBezTo>
                  <a:pt x="18918" y="14486"/>
                  <a:pt x="18885" y="14486"/>
                  <a:pt x="18852" y="14486"/>
                </a:cubicBezTo>
                <a:cubicBezTo>
                  <a:pt x="18951" y="14475"/>
                  <a:pt x="19249" y="14461"/>
                  <a:pt x="19149" y="14461"/>
                </a:cubicBezTo>
                <a:cubicBezTo>
                  <a:pt x="19087" y="14461"/>
                  <a:pt x="18825" y="14497"/>
                  <a:pt x="18852" y="14486"/>
                </a:cubicBezTo>
                <a:cubicBezTo>
                  <a:pt x="18920" y="14460"/>
                  <a:pt x="19146" y="14409"/>
                  <a:pt x="19124" y="14412"/>
                </a:cubicBezTo>
                <a:cubicBezTo>
                  <a:pt x="18960" y="14437"/>
                  <a:pt x="18742" y="14569"/>
                  <a:pt x="19050" y="14387"/>
                </a:cubicBezTo>
                <a:cubicBezTo>
                  <a:pt x="19253" y="14267"/>
                  <a:pt x="18961" y="14456"/>
                  <a:pt x="18926" y="14486"/>
                </a:cubicBezTo>
                <a:cubicBezTo>
                  <a:pt x="18855" y="14546"/>
                  <a:pt x="18942" y="14470"/>
                  <a:pt x="18951" y="14461"/>
                </a:cubicBezTo>
              </a:path>
              <a:path w="5483" h="5483">
                <a:moveTo>
                  <a:pt x="19000" y="13593"/>
                </a:moveTo>
                <a:cubicBezTo>
                  <a:pt x="19037" y="13482"/>
                  <a:pt x="19116" y="13442"/>
                  <a:pt x="19224" y="13395"/>
                </a:cubicBezTo>
                <a:cubicBezTo>
                  <a:pt x="19324" y="13352"/>
                  <a:pt x="19439" y="13366"/>
                  <a:pt x="19521" y="13444"/>
                </a:cubicBezTo>
                <a:cubicBezTo>
                  <a:pt x="19525" y="13448"/>
                  <a:pt x="19627" y="13605"/>
                  <a:pt x="19621" y="13618"/>
                </a:cubicBezTo>
                <a:cubicBezTo>
                  <a:pt x="19603" y="13655"/>
                  <a:pt x="19506" y="13572"/>
                  <a:pt x="19496" y="13568"/>
                </a:cubicBezTo>
                <a:cubicBezTo>
                  <a:pt x="19488" y="13568"/>
                  <a:pt x="19480" y="13568"/>
                  <a:pt x="19472" y="13568"/>
                </a:cubicBezTo>
                <a:cubicBezTo>
                  <a:pt x="19483" y="13626"/>
                  <a:pt x="19505" y="13651"/>
                  <a:pt x="19546" y="13692"/>
                </a:cubicBezTo>
                <a:cubicBezTo>
                  <a:pt x="19554" y="13700"/>
                  <a:pt x="19563" y="13709"/>
                  <a:pt x="19571" y="13717"/>
                </a:cubicBezTo>
                <a:cubicBezTo>
                  <a:pt x="19630" y="13697"/>
                  <a:pt x="19663" y="13587"/>
                  <a:pt x="19695" y="1351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99160" y="6599160"/>
            <a:ext cx="9720" cy="88920"/>
          </a:xfrm>
          <a:custGeom>
            <a:avLst/>
            <a:gdLst/>
            <a:ahLst/>
            <a:rect l="l" t="t" r="r" b="b"/>
            <a:pathLst>
              <a:path w="25" h="249">
                <a:moveTo>
                  <a:pt x="18331" y="18331"/>
                </a:moveTo>
                <a:cubicBezTo>
                  <a:pt x="18341" y="18416"/>
                  <a:pt x="18350" y="18494"/>
                  <a:pt x="18355" y="1857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75720" y="4956120"/>
            <a:ext cx="188640" cy="179280"/>
          </a:xfrm>
          <a:custGeom>
            <a:avLst/>
            <a:gdLst/>
            <a:ahLst/>
            <a:rect l="l" t="t" r="r" b="b"/>
            <a:pathLst>
              <a:path w="522" h="497">
                <a:moveTo>
                  <a:pt x="22399" y="13841"/>
                </a:moveTo>
                <a:cubicBezTo>
                  <a:pt x="22255" y="13715"/>
                  <a:pt x="22155" y="13797"/>
                  <a:pt x="22002" y="13891"/>
                </a:cubicBezTo>
                <a:cubicBezTo>
                  <a:pt x="22128" y="13968"/>
                  <a:pt x="22201" y="13987"/>
                  <a:pt x="22275" y="14114"/>
                </a:cubicBezTo>
                <a:cubicBezTo>
                  <a:pt x="22101" y="14277"/>
                  <a:pt x="22066" y="14299"/>
                  <a:pt x="21878" y="14139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66080" y="4929120"/>
            <a:ext cx="54000" cy="241200"/>
          </a:xfrm>
          <a:custGeom>
            <a:avLst/>
            <a:gdLst/>
            <a:ahLst/>
            <a:rect l="l" t="t" r="r" b="b"/>
            <a:pathLst>
              <a:path w="150" h="671">
                <a:moveTo>
                  <a:pt x="22126" y="13717"/>
                </a:moveTo>
                <a:cubicBezTo>
                  <a:pt x="22152" y="13717"/>
                  <a:pt x="22261" y="14046"/>
                  <a:pt x="22275" y="14139"/>
                </a:cubicBezTo>
                <a:cubicBezTo>
                  <a:pt x="22275" y="14263"/>
                  <a:pt x="22275" y="14288"/>
                  <a:pt x="22275" y="1436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109000" y="4946760"/>
            <a:ext cx="142920" cy="287280"/>
          </a:xfrm>
          <a:custGeom>
            <a:avLst/>
            <a:gdLst/>
            <a:ahLst/>
            <a:rect l="l" t="t" r="r" b="b"/>
            <a:pathLst>
              <a:path w="398" h="795">
                <a:moveTo>
                  <a:pt x="22671" y="13791"/>
                </a:moveTo>
                <a:cubicBezTo>
                  <a:pt x="22557" y="14047"/>
                  <a:pt x="22528" y="14232"/>
                  <a:pt x="22547" y="14511"/>
                </a:cubicBezTo>
                <a:cubicBezTo>
                  <a:pt x="22782" y="14498"/>
                  <a:pt x="22978" y="14302"/>
                  <a:pt x="22920" y="14015"/>
                </a:cubicBezTo>
                <a:cubicBezTo>
                  <a:pt x="22896" y="13895"/>
                  <a:pt x="22755" y="13816"/>
                  <a:pt x="22671" y="13742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40840" y="5143680"/>
            <a:ext cx="1440" cy="26640"/>
          </a:xfrm>
          <a:custGeom>
            <a:avLst/>
            <a:gdLst/>
            <a:ahLst/>
            <a:rect l="l" t="t" r="r" b="b"/>
            <a:pathLst>
              <a:path w="1" h="75">
                <a:moveTo>
                  <a:pt x="23168" y="14312"/>
                </a:moveTo>
                <a:cubicBezTo>
                  <a:pt x="23168" y="14370"/>
                  <a:pt x="23168" y="14379"/>
                  <a:pt x="23168" y="1428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39120" y="4894200"/>
            <a:ext cx="61920" cy="258840"/>
          </a:xfrm>
          <a:custGeom>
            <a:avLst/>
            <a:gdLst/>
            <a:ahLst/>
            <a:rect l="l" t="t" r="r" b="b"/>
            <a:pathLst>
              <a:path w="175" h="720">
                <a:moveTo>
                  <a:pt x="23440" y="13593"/>
                </a:moveTo>
                <a:cubicBezTo>
                  <a:pt x="23471" y="13810"/>
                  <a:pt x="23551" y="14022"/>
                  <a:pt x="23589" y="14238"/>
                </a:cubicBezTo>
                <a:cubicBezTo>
                  <a:pt x="23596" y="14276"/>
                  <a:pt x="23590" y="14356"/>
                  <a:pt x="23614" y="1428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09040" y="4857840"/>
            <a:ext cx="61920" cy="268200"/>
          </a:xfrm>
          <a:custGeom>
            <a:avLst/>
            <a:gdLst/>
            <a:ahLst/>
            <a:rect l="l" t="t" r="r" b="b"/>
            <a:pathLst>
              <a:path w="174" h="745">
                <a:moveTo>
                  <a:pt x="23912" y="13494"/>
                </a:moveTo>
                <a:cubicBezTo>
                  <a:pt x="23934" y="13692"/>
                  <a:pt x="24006" y="13852"/>
                  <a:pt x="24061" y="14039"/>
                </a:cubicBezTo>
                <a:cubicBezTo>
                  <a:pt x="24083" y="14115"/>
                  <a:pt x="24085" y="14166"/>
                  <a:pt x="24085" y="14238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2280" y="5295960"/>
            <a:ext cx="625680" cy="79200"/>
          </a:xfrm>
          <a:custGeom>
            <a:avLst/>
            <a:gdLst/>
            <a:ahLst/>
            <a:rect l="l" t="t" r="r" b="b"/>
            <a:pathLst>
              <a:path w="1738" h="224">
                <a:moveTo>
                  <a:pt x="22423" y="14932"/>
                </a:moveTo>
                <a:cubicBezTo>
                  <a:pt x="22768" y="14819"/>
                  <a:pt x="23128" y="14770"/>
                  <a:pt x="23490" y="14734"/>
                </a:cubicBezTo>
                <a:cubicBezTo>
                  <a:pt x="23496" y="14733"/>
                  <a:pt x="24166" y="14696"/>
                  <a:pt x="24135" y="14709"/>
                </a:cubicBezTo>
                <a:cubicBezTo>
                  <a:pt x="24094" y="14717"/>
                  <a:pt x="24052" y="14726"/>
                  <a:pt x="24011" y="14734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16920" y="5419800"/>
            <a:ext cx="509400" cy="54000"/>
          </a:xfrm>
          <a:custGeom>
            <a:avLst/>
            <a:gdLst/>
            <a:ahLst/>
            <a:rect l="l" t="t" r="r" b="b"/>
            <a:pathLst>
              <a:path w="1415" h="150">
                <a:moveTo>
                  <a:pt x="22547" y="15205"/>
                </a:moveTo>
                <a:cubicBezTo>
                  <a:pt x="22887" y="15185"/>
                  <a:pt x="23225" y="15121"/>
                  <a:pt x="23564" y="15081"/>
                </a:cubicBezTo>
                <a:cubicBezTo>
                  <a:pt x="23779" y="15059"/>
                  <a:pt x="23828" y="15051"/>
                  <a:pt x="23961" y="15056"/>
                </a:cubicBezTo>
              </a:path>
            </a:pathLst>
          </a:custGeom>
          <a:noFill/>
          <a:ln cap="rnd"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add, subtract, multiply and divide decimals while completing family budget activities in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t into a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Bud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21 problems 1-9 (pick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1:18:05Z</dcterms:created>
  <dc:creator>deanne elizabeth mcgrath</dc:creator>
  <dc:description/>
  <dc:language>en-US</dc:language>
  <cp:lastModifiedBy>deanne elizabeth mcgrath</cp:lastModifiedBy>
  <dcterms:modified xsi:type="dcterms:W3CDTF">2011-11-21T20:05:45Z</dcterms:modified>
  <cp:revision>5</cp:revision>
  <dc:subject/>
  <dc:title>Course 2 November 18, 2011 Warm-up</dc:title>
</cp:coreProperties>
</file>